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4AC-7BB2-4C83-A123-23C862F8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459-73AA-4F86-9CB6-4B8D8566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AFD-0421-40EE-8953-5D63F8E1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DD3-EF15-465B-A89C-25D0E93D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BE75-60BC-4477-809A-58069453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F40C-CD53-4650-BF88-5F101C13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8441-B81A-405A-B12E-4492DD83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EBAB-B37C-467C-AC69-226B93B8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A57D-C812-4C44-A1A6-59CF64B4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04D7-8132-4337-803C-1120355E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EA34-B5EF-44BF-8D9D-DCCAB139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956-8776-4A1E-9E09-E1230CBD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D99B-6CFB-4C83-9555-27F1E0D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A1D5-8688-4C60-BACF-B3882D12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163F-2F90-4C46-942E-9B67834D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3481-2E02-47E7-81A3-F1E67990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F91A-4BB4-43AD-87CA-817F425E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867-B9C4-48E2-AF69-8E56E30B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3E3-2E53-4B63-8943-EDFC918C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1D8-A220-4430-BF87-A75CC579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0F5-9E9C-4E9D-8D66-CF77AD01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F14-B729-40C7-A776-1704406E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5BF-5154-42A2-B715-8284BC37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3F6-9DDE-4FD7-98B1-7059B161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86D7-2BFD-4DF0-9949-06371371A92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E946-6196-42BB-947D-F3FADE02D19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43600"/>
        </p:xfrm>
        <a:graphic>
          <a:graphicData uri="http://schemas.openxmlformats.org/drawingml/2006/table">
            <a:tbl>
              <a:tblPr/>
              <a:tblGrid>
                <a:gridCol w="1828800"/>
                <a:gridCol w="5333760"/>
                <a:gridCol w="1371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gaan we het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0T09:38:00Z</dcterms:modified>
  <cp:revision>12</cp:revision>
  <dc:subject/>
  <dc:title>Projectmanagement</dc:title>
</cp:coreProperties>
</file>