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51D-02FD-45DD-BD64-61A313FE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39F-D4C0-4163-BE4A-E4579231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497-E674-4EE7-B645-9D3ED68F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BCE-A94A-4040-ACE6-04047163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2EBC-1A84-4B44-B5EA-7F5AC9E5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0272-B569-4F8C-AE89-DE0422E8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3430-B1E6-4833-9C7D-C7F295FA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F2F4-569C-4DE7-9B90-C6E9A498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57A5-D417-4123-81CD-DDF262CE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96F2-6ECF-40E7-850D-4A6AA54F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B41A-C8F6-40D6-8A59-BFB27592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FF0-7876-40B8-9417-BC269430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6CCF-D179-4737-94CF-4F649C64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CC97-629E-435B-817E-7EFC9986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7464-27A5-4B8B-8045-45C4B214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A912-4F61-4021-A415-CBCC1342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06C5-F0DA-409D-A08F-31324B35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09D-6FCF-4178-9462-D1E5C3BE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43E-4034-4791-964C-60FD4286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0C1-2A62-4C0E-BE2B-A5D117B2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F2B-32C8-401B-9591-B6DFCD70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E0A-61D2-46F2-8EB5-E6D6026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E38-F662-4163-A10F-5DCE8A31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065-1069-4A7C-8A09-09A497CB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D332-65DA-4447-A42B-C17ADA5154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0B49-479B-4D33-8FA1-D85B082796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C O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bert Ooste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oelstel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n het eind van deze les moet je een omzetprognose kunnen bereke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DSC01703_klein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eldboom" descr=""/>
          <p:cNvPicPr/>
          <p:nvPr/>
        </p:nvPicPr>
        <p:blipFill>
          <a:blip r:embed="rId1"/>
          <a:stretch/>
        </p:blipFill>
        <p:spPr>
          <a:xfrm>
            <a:off x="6413400" y="4419720"/>
            <a:ext cx="220356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lang 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 marktonderzoek moet de informatie opleveren waarmee je de eigen potentiële omzet (EPO) kunt bereke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t is de belangrijkste berekening van het ondernemings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omzet moet goed onderbouwd en realistisch zij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middelde van 3 verschillende berekenin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PO (Theorieboek pag. 77-8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ngetallen uit de bran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. EP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2286000"/>
          <a:ext cx="8305920" cy="4191120"/>
        </p:xfrm>
        <a:graphic>
          <a:graphicData uri="http://schemas.openxmlformats.org/drawingml/2006/table">
            <a:tbl>
              <a:tblPr/>
              <a:tblGrid>
                <a:gridCol w="2743200"/>
                <a:gridCol w="1524240"/>
                <a:gridCol w="1218960"/>
                <a:gridCol w="28195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consumenten in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2667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 besteed bedrag per consument in de b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Potentiële omzet van het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Toe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vo  x  winkeloppervlak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werknemer  x  aantal werknemers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Potentiële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  <a:ea typeface="Tahom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964320" y="4800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7948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5508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. Marktonderzoe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1904760"/>
                <a:gridCol w="2210040"/>
                <a:gridCol w="2209680"/>
                <a:gridCol w="1447920"/>
              </a:tblGrid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klanten per d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e beste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openingsdagen per j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js van de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r product bereken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. Kengetallen uit de branc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2133720"/>
          <a:ext cx="7772400" cy="3695760"/>
        </p:xfrm>
        <a:graphic>
          <a:graphicData uri="http://schemas.openxmlformats.org/drawingml/2006/table">
            <a:tbl>
              <a:tblPr/>
              <a:tblGrid>
                <a:gridCol w="1676160"/>
                <a:gridCol w="2133720"/>
                <a:gridCol w="2019240"/>
                <a:gridCol w="19432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ng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bedrij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atting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</a:tr>
              <a:tr h="99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Oppervlak (vv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 +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f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medewe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kas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kassa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ind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er zo veel mogelijk van de voorgaande berekeningen 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e meer gegevens je gebruikt, hoe betrouwbaarder het eindantwo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t gemiddelde van alle omzetprognoses is je meest betrouwbare scha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86400" y="21337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zetprognose o.b.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ngeta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9:48:25Z</dcterms:created>
  <dc:creator>Robbert Oosterom</dc:creator>
  <dc:description/>
  <dc:language>en-US</dc:language>
  <cp:lastModifiedBy>Robbert Oosterom</cp:lastModifiedBy>
  <dcterms:modified xsi:type="dcterms:W3CDTF">2013-09-19T21:18:34Z</dcterms:modified>
  <cp:revision>1</cp:revision>
  <dc:subject/>
  <dc:title>Omzetprognose</dc:title>
</cp:coreProperties>
</file>