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455-D92B-41CC-847E-D6DBC4AC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5D7-63DB-478E-AA8B-6F4CBC03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129-039B-457A-A0A1-D0F7B63F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E4B-DF46-4F51-80E5-22CFD726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6C9E-C272-4501-B6DC-7B931461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935-3DDF-41D5-A298-46F9606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76A4-8E4A-4B6D-BBEB-D294912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84AF-4233-42EB-B7F5-4BDA788F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8A6-4534-4CD6-832A-0B7AFC3A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22B-8A2B-40FA-99A5-8DCEBA39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5962-AD42-4CFB-ABF2-0ADC8AC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270-3F50-45B1-8932-E2E46F5F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59B-EA5C-46EE-A0BA-F549409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74C2-199C-4B8F-A227-7BCE016A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1572-CFC2-4B31-A499-9285F30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7AAC-6185-4D69-9CBD-FD26D1F2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84A8-E04B-49C2-A3DB-92EDD9E3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D75-C9EF-4BFD-A3FF-BFC4E25D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8CD-C097-46B5-BE44-CE12EB99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3FF-E3FE-4093-AEE2-F7589CA9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814-0EFD-4495-BE6D-10340F8C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3AB-9FFC-4B0D-B9E8-5568E1B2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006-F781-4B9C-86DC-E52FC71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BD8-775B-4302-B4A0-0C5AC023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002F-15F5-47B7-9E26-601E4A990B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AB1-CB24-4D53-BB80-B3C941363B6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5333760"/>
                <a:gridCol w="13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gaan we het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0T09:38:00Z</dcterms:modified>
  <cp:revision>12</cp:revision>
  <dc:subject/>
  <dc:title>Projectmanagement</dc:title>
</cp:coreProperties>
</file>