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A83-D78E-4E27-9CFD-659C2680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DBC-3F69-4A71-A5B6-B2F961BA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657-2E44-409D-A2DC-EA9575A4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36E-3AD4-4E4C-BB2A-FCCE94CE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C13E-288A-42D4-BAE5-CF9F541B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369A-7472-4B30-A047-A2BF1D92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4620-6D68-4594-8306-841CC185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7FE3-B845-4984-A749-2AD30211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3CBB-9B15-4D2B-BC57-A5616923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003B-E999-41BD-9BA2-B22C7207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0DF2-AC84-4E56-A015-101FC553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13E-8F2E-4577-B223-60208A03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2CAC-F962-4700-A37E-B7CEA8C2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542F-5E3D-4803-84BD-5F950BFF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A6F5-E849-4A74-88F1-F892C94D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54C2-2FBA-45ED-B39A-B85A1766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B8C9-CD7F-430A-9273-2CEC8070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4C7-04CA-49E3-A76F-FBBA6855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78D-BFFF-4F82-88C3-2A8A39D4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81A-E578-498F-98C4-3A27D1A1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7AF-F8EF-4608-84A5-1FD93C67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D579-463B-4238-8181-47237F59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ED0-1A6E-4722-942C-64C94B55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B3B-4CF6-4738-888E-2F15442C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C1FB-256F-42A2-BF4E-11EA129CF7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1EC4-51F9-43E6-AAF1-C4E602D7AB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mzetprogn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C O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bert Ooste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oelstell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n het eind van deze les moet je een omzetprognose kunnen bereke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DSC01703_klein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geldboom" descr=""/>
          <p:cNvPicPr/>
          <p:nvPr/>
        </p:nvPicPr>
        <p:blipFill>
          <a:blip r:embed="rId1"/>
          <a:stretch/>
        </p:blipFill>
        <p:spPr>
          <a:xfrm>
            <a:off x="6413400" y="4419720"/>
            <a:ext cx="220356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lang omzetprogn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 marktonderzoek moet de informatie opleveren waarmee je de eigen potentiële omzet (EPO) kunt bereken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t is de belangrijkste berekening van het ondernemings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omzet moet goed onderbouwd en realistisch zij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reken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middelde van 3 verschillende berekenin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PO (Theorieboek pag. 77-8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tonderzo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ngetallen uit de bran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. EP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80880" y="2286000"/>
          <a:ext cx="8305920" cy="4191120"/>
        </p:xfrm>
        <a:graphic>
          <a:graphicData uri="http://schemas.openxmlformats.org/drawingml/2006/table">
            <a:tbl>
              <a:tblPr/>
              <a:tblGrid>
                <a:gridCol w="2743200"/>
                <a:gridCol w="1524240"/>
                <a:gridCol w="1218960"/>
                <a:gridCol w="28195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consumenten in verzorgingsgeb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2667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middeld besteed bedrag per consument in de b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Potentiële omzet van het verzorgingsgeb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Toevloei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vloei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vo  x  winkeloppervlak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 van de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werknemer  x  aantal werknemers van de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gen Potentiële Om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  <a:ea typeface="Tahom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964320" y="48006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7948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5508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. Marktonderzoe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2133720"/>
          <a:ext cx="7772400" cy="4114800"/>
        </p:xfrm>
        <a:graphic>
          <a:graphicData uri="http://schemas.openxmlformats.org/drawingml/2006/table">
            <a:tbl>
              <a:tblPr/>
              <a:tblGrid>
                <a:gridCol w="1904760"/>
                <a:gridCol w="2210040"/>
                <a:gridCol w="2209680"/>
                <a:gridCol w="1447920"/>
              </a:tblGrid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klanten per d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middelde beste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openingsdagen per ja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te verkopen produc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js van de te verkopen produc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er product bereken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prognose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 +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3. Kengetallen uit de branc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2133720"/>
          <a:ext cx="7772400" cy="3695760"/>
        </p:xfrm>
        <a:graphic>
          <a:graphicData uri="http://schemas.openxmlformats.org/drawingml/2006/table">
            <a:tbl>
              <a:tblPr/>
              <a:tblGrid>
                <a:gridCol w="1676160"/>
                <a:gridCol w="2133720"/>
                <a:gridCol w="2019240"/>
                <a:gridCol w="19432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ng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gen bedrij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atting om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progn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</a:tr>
              <a:tr h="99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m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Oppervlak (vv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 + B +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f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Aantal medewe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kas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Aantal kassa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indbereken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er zo veel mogelijk van de voorgaande berekeningen 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e meer gegevens je gebruikt, hoe betrouwbaarder het eindantwo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t gemiddelde van alle omzetprognoses is je meest betrouwbare scha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86400" y="21337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zetprognose o.b.v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tonderzo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ngeta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9:48:25Z</dcterms:created>
  <dc:creator>Robbert Oosterom</dc:creator>
  <dc:description/>
  <dc:language>en-US</dc:language>
  <cp:lastModifiedBy>Robbert Oosterom</cp:lastModifiedBy>
  <dcterms:modified xsi:type="dcterms:W3CDTF">2013-09-19T21:18:34Z</dcterms:modified>
  <cp:revision>1</cp:revision>
  <dc:subject/>
  <dc:title>Omzetprognose</dc:title>
</cp:coreProperties>
</file>