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CF7-759D-4FFD-9B69-894DF529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91C-E2EA-41BF-AF08-C8FC713B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2D1-D8D8-4FDB-8A06-6511AC77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8CD-AF7E-4E22-8D42-E89918F9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F63B-778B-45F0-AD04-444ACF24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8D83-1933-4908-9955-E84F6DE8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4D8A-5269-4F9F-8A14-6AA9A11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894B-D4F4-405C-9A3B-011E3854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26B2-3438-4383-B4B2-E1179A3D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2FBC-4FEA-424C-AF16-20717AE8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6E7C-2AAB-48EE-BC00-0967B95C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303-673F-4F6C-A4CD-9D0B73C6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7AC1-05DA-42E0-B343-49CA5CF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B2C4-99B3-4294-9AD2-88DDE49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D180-8B20-4B1B-A74C-017337BC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332D-597C-4A25-80CF-ECA0DE81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0FA9-34D8-4240-AD21-9996E709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A55-CB2B-4ACD-8D0B-03CC0EDE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B48-6B86-47EC-85F4-F6D804AD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856-D0F3-4893-880F-3FF6BB7D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7549-E0E3-4028-9B57-004C32AA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58D-14B9-46B7-A513-0D362320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16B-08C1-4C07-8223-12837D13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1B5-0A88-47D7-80F7-92E3A91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56B7-4BA3-45A2-B52C-119A1793A7A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C53D-97A7-4132-A79D-417B17F8444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43600"/>
        </p:xfrm>
        <a:graphic>
          <a:graphicData uri="http://schemas.openxmlformats.org/drawingml/2006/table">
            <a:tbl>
              <a:tblPr/>
              <a:tblGrid>
                <a:gridCol w="1828800"/>
                <a:gridCol w="5333760"/>
                <a:gridCol w="1371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gaan we het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0T09:38:00Z</dcterms:modified>
  <cp:revision>12</cp:revision>
  <dc:subject/>
  <dc:title>Projectmanagement</dc:title>
</cp:coreProperties>
</file>