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59E-7BA8-466B-AFD0-22FD37D6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459-47FF-4F5D-B744-D6F780C6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5B4-8C4A-496F-8A9D-F82F2C93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0DE-88F1-462D-ACFA-4FEA81FF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540F-0E3C-4FB4-A34C-89CC6B37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4066-B88E-42D3-A551-7B9CF60F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18D5-29B3-4A13-995F-5B23C997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ECFA-EBAD-403A-A18D-123FAE8E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727C-FD73-4C64-85AE-875F5095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6405-32D7-44C6-9484-B3520687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68D8-D224-42F2-8AEC-214510A5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A3D-23BA-4E74-8F72-FADEE640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7254-38BE-4398-8858-EA3B8648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9D98-CBB9-4B22-811F-17A8529E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01EF-78BE-4038-A4B8-E063EE75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A16A-F5FD-45B1-B199-A24DF5F1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6137-4BAD-4546-B45B-84F3418C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478-3C5D-46D5-90BC-747EBC52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4A0-A350-44BD-973D-66FF5D1A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4B2-E993-4E15-8397-FD1FDA3A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3B6-543D-47F3-98A1-1D0B75D5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983-F761-4618-8422-7353328C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E03-4266-4E83-B9D4-1E68925D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3D7-0A82-438B-8A1F-2EF68972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8D9A-6A23-4BCF-A89F-35625E370F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12DB-6254-46BA-AE61-E061CDFFF9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C O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bert Ooste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oelstell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n het eind van deze les moet je een omzetprognose kunnen bereke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DSC01703_klein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eldboom" descr=""/>
          <p:cNvPicPr/>
          <p:nvPr/>
        </p:nvPicPr>
        <p:blipFill>
          <a:blip r:embed="rId1"/>
          <a:stretch/>
        </p:blipFill>
        <p:spPr>
          <a:xfrm>
            <a:off x="6413400" y="4419720"/>
            <a:ext cx="220356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lang 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 marktonderzoek moet de informatie opleveren waarmee je de eigen potentiële omzet (EPO) kunt bereken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t is de belangrijkste berekening van het ondernemings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omzet moet goed onderbouwd en realistisch zij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middelde van 3 verschillende berekenin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PO (Theorieboek pag. 77-8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ngetallen uit de bran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. EP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80880" y="2286000"/>
          <a:ext cx="8305920" cy="4191120"/>
        </p:xfrm>
        <a:graphic>
          <a:graphicData uri="http://schemas.openxmlformats.org/drawingml/2006/table">
            <a:tbl>
              <a:tblPr/>
              <a:tblGrid>
                <a:gridCol w="2743200"/>
                <a:gridCol w="1524240"/>
                <a:gridCol w="1218960"/>
                <a:gridCol w="28195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consumenten in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2667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 besteed bedrag per consument in de b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Potentiële omzet van het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Toe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vo  x  winkeloppervlak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werknemer  x  aantal werknemers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Potentiële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  <a:ea typeface="Tahom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964320" y="4800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7948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5508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. Marktonderzoe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2133720"/>
          <a:ext cx="7772400" cy="4114800"/>
        </p:xfrm>
        <a:graphic>
          <a:graphicData uri="http://schemas.openxmlformats.org/drawingml/2006/table">
            <a:tbl>
              <a:tblPr/>
              <a:tblGrid>
                <a:gridCol w="1904760"/>
                <a:gridCol w="2210040"/>
                <a:gridCol w="2209680"/>
                <a:gridCol w="1447920"/>
              </a:tblGrid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klanten per d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e beste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openingsdagen per ja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js van de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er product bereken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3. Kengetallen uit de branc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2133720"/>
          <a:ext cx="7772400" cy="3695760"/>
        </p:xfrm>
        <a:graphic>
          <a:graphicData uri="http://schemas.openxmlformats.org/drawingml/2006/table">
            <a:tbl>
              <a:tblPr/>
              <a:tblGrid>
                <a:gridCol w="1676160"/>
                <a:gridCol w="2133720"/>
                <a:gridCol w="2019240"/>
                <a:gridCol w="19432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ng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bedrij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atting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</a:tr>
              <a:tr h="99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Oppervlak (vv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 +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f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medewe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kas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kassa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ind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er zo veel mogelijk van de voorgaande berekeningen 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e meer gegevens je gebruikt, hoe betrouwbaarder het eindantwo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t gemiddelde van alle omzetprognoses is je meest betrouwbare scha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86400" y="21337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zetprognose o.b.v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ngeta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9:48:25Z</dcterms:created>
  <dc:creator>Robbert Oosterom</dc:creator>
  <dc:description/>
  <dc:language>en-US</dc:language>
  <cp:lastModifiedBy>Robbert Oosterom</cp:lastModifiedBy>
  <dcterms:modified xsi:type="dcterms:W3CDTF">2013-09-19T21:18:34Z</dcterms:modified>
  <cp:revision>1</cp:revision>
  <dc:subject/>
  <dc:title>Omzetprognose</dc:title>
</cp:coreProperties>
</file>