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BA3-1C70-4368-AA4F-A571400D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13F-F48F-4DD9-A797-87C9B634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23A-5E8C-4750-AA29-3CE1B313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DAE-8E66-4078-95E2-AB34DD66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B8AF-BF94-4E73-AD17-EC190E92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8CC9-33FE-4A9D-B6D8-8C2595B6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ABB4-E16D-419F-9534-D306928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82DF-2715-45B1-A4FB-D74BC6B7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59E2-DFED-4CC4-8E18-047E11B6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07E2-B324-4A41-B549-2A692FBA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AEF4-8631-4E1A-80FB-5681DB39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770-8A64-4C9D-B700-86D355C7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A8BF-2F21-4F03-B86C-DE39155D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D95-5CCE-473E-9468-1FAAB308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9158-2296-4C81-A74B-E5EC7C82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DCFE-C934-4BA1-8601-F408D4C1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E42A-916E-4C1F-884A-906FAF81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542-17AC-45A0-92D3-890F865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C5D-7F2F-420A-8C75-7C2C838C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CB2-F606-4E6F-97AE-E14D3607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974-9C2A-40AD-BA9E-298B8C81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5F4-09F8-4094-ADAF-7CBE7DE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B00-C79F-488E-991E-5C8F48D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137-2910-490A-B81E-C977048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3457-1B06-4929-8443-EAC42BD7CAB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EC8-A6BE-4AF2-B47B-6E5E07193E6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 van Aanpak (P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Project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Geldbeheers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beg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ment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getbewaking en evt. deelbudgetbehee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bevoegd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e mag hoeveel geld aan wat uitgeve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Kwalitei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 welke 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teitseisen moet h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aat vol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instrumenten voor kwaliteitscontrole ga j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v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 er met (ISO)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dt gewe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organisat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el de fun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Projectleid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en p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oj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e met onderaannem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n 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voegdheden v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pdrachtgever, projectleider, lijnmanager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hoeveel tijd iedereen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verantwoordingsformul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1. Communicatiepl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 communic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e 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ur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ankbordgro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levering van tusseneval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dos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12. Risicoanaly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emene projectrisico’s (check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ke risico’s (brainsto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tabel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jst van preventieve maatregelen en noodscenario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Bijlag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nnen die geraadpleegd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si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oek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on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detailleerde begrot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Arial"/>
              </a:rPr>
              <a:t>Plan van aanpa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04920" y="762120"/>
          <a:ext cx="8534160" cy="5943600"/>
        </p:xfrm>
        <a:graphic>
          <a:graphicData uri="http://schemas.openxmlformats.org/drawingml/2006/table">
            <a:tbl>
              <a:tblPr/>
              <a:tblGrid>
                <a:gridCol w="1828800"/>
                <a:gridCol w="5333760"/>
                <a:gridCol w="1371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tergron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 gaan we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lstelling en projectopdrac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grenzen en randvoorwaard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activitei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gaan we het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ructuur van het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e houden we alles onder contro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ld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aliteitsbeheers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organisat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4784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epla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ofdstuk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icoanaly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l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chtergronden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23520"/>
            <a:ext cx="85345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ef een beschrijving va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doet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w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leiding voor het p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ject (probleem / k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s er een relatie met ander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keholders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800"/>
            </a:b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Doelstellingen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 en projectopdrac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7524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om wordt het project uitgevoe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e moet met de doelstelling duidelijk kunnen maken wat de opdrachtgever van het project verwach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Eisen (P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er klaar als het proj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a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resulta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g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 zijn de gebruikers van het resulta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Projectgrenzen en randvoorwaard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hoort er wel e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ij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noem vooral waar me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ver zou kunnen twijfel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 geeft de opdrachtgever de gelegenheid om bij te stur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 eind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tum van het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 je per sé nodig om het project tot een goed einde te bre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jectactiviteiten</a:t>
            </a:r>
            <a:r>
              <a:rPr b="1" lang="nl-NL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alle projectactiviteiten 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als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r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voorber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uitvo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roduc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ga je oplev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rod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n gebeurteni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t zijn zaken waar de gebruikers </a:t>
            </a: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 zitten te wacht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jv. een tuin, een evenement, een presentat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producten samen leveren uiteindelij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 projec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ul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Hoofdstructuur v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n het proj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k een WBS (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 Breakdown Struc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t alle proje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viteit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producten in 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beer de activiteiten logisch te groep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activiteiten die een vergelijkbare hoeveelheid werk kosten op hetzelfde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fdfasering met mijlpalen in 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nl-NL" sz="3800" spc="-1" strike="noStrike">
                <a:solidFill>
                  <a:srgbClr val="000000"/>
                </a:solidFill>
                <a:latin typeface="Arial"/>
              </a:rPr>
              <a:t> De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733920" y="1523880"/>
            <a:ext cx="16002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00400" y="2819520"/>
            <a:ext cx="266688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eiten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2819520" y="4191120"/>
            <a:ext cx="34290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erk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438280" y="5562720"/>
            <a:ext cx="419112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ken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343400" y="22860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4343400" y="35812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4343400" y="49528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0:20:10Z</dcterms:created>
  <dc:creator>Ruud</dc:creator>
  <dc:description/>
  <dc:language>en-US</dc:language>
  <cp:lastModifiedBy>Robbert Oosterom</cp:lastModifiedBy>
  <dcterms:modified xsi:type="dcterms:W3CDTF">2013-10-10T09:38:00Z</dcterms:modified>
  <cp:revision>12</cp:revision>
  <dc:subject/>
  <dc:title>Projectmanagement</dc:title>
</cp:coreProperties>
</file>