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199-78B9-4D1A-BB97-10D5A634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657-3FDD-4BD3-BD8E-5A63985E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F41-12BC-4358-94DB-CFDFFC36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2D4-F564-4E35-9366-2BEFF2E8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AC39-BE47-464E-BAE4-C4528C2A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0457-129B-4BA9-A653-DE377696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14F7-9959-41CA-9362-9BDD7B44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841F-2839-4441-B31F-49417296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EF47-0950-44EC-8568-F076A95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0F5B-A518-423E-95BD-C4D2CD4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FDCF-ED58-4CFE-B197-2CA69207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AFE-5CD8-472A-8EF4-25762C9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831-5EA2-4D9B-B919-0A4396D1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3EE8-B320-4A9E-B7F5-F100DA37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A4FF-15A0-438F-B93F-F422C667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6BA9-2CD6-4628-BC2D-78CD455C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AB4E-19C1-46C0-A5DE-055540F8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D98-F96B-4A4A-A19D-08ECAC72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A38-F0D3-4D52-AC3F-A6872B7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1C4-4BC0-4A33-B835-B5FA9A3B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733-CFD0-4403-832D-4F56868C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F386-5363-489D-8181-4077C09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891-787B-48BA-A3F1-BE1E4C6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301E-9289-4691-84F2-02B0A5F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CITBANND" descr="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a4e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8810-85F1-4215-8328-E13466AC01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CITBANND" descr="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4e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347-FFA9-4D16-8D00-74250F2B3A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C O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bert Ooste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n het eind van deze les moet je een omzetprognose kunnen bereke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DSC01703_klein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geldboom" descr=""/>
          <p:cNvPicPr/>
          <p:nvPr/>
        </p:nvPicPr>
        <p:blipFill>
          <a:blip r:embed="rId1"/>
          <a:stretch/>
        </p:blipFill>
        <p:spPr>
          <a:xfrm>
            <a:off x="6413400" y="4419720"/>
            <a:ext cx="220356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lang omzetprogno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 marktonderzoek moet de informatie opleveren waarmee je de eigen potentiële omzet (EPO) kunt bereken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t is de belangrijkste berekening van het ondernemingsp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 omzet moet goed onderbouwd en realistisch zij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middelde van 3 verschillende berekening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O (Theorieboek pag. 77-8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822d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ngetallen uit de bran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. EP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80880" y="2286000"/>
          <a:ext cx="8305920" cy="4191120"/>
        </p:xfrm>
        <a:graphic>
          <a:graphicData uri="http://schemas.openxmlformats.org/drawingml/2006/table">
            <a:tbl>
              <a:tblPr/>
              <a:tblGrid>
                <a:gridCol w="2743200"/>
                <a:gridCol w="1524240"/>
                <a:gridCol w="1218960"/>
                <a:gridCol w="28195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consumenten in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26676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 besteed bedrag per consument in de bran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Potentiële omzet van het verzorgingsgeb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Toe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fvloei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vvo  x  winkeloppervlak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=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werknemer  x  aantal werknemers van de concurre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Potentiële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  <a:ea typeface="Tahoma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964320" y="4800600"/>
            <a:ext cx="38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7948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55080" y="4343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. Marktonderzoe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133720"/>
          <a:ext cx="7772400" cy="4114800"/>
        </p:xfrm>
        <a:graphic>
          <a:graphicData uri="http://schemas.openxmlformats.org/drawingml/2006/table">
            <a:tbl>
              <a:tblPr/>
              <a:tblGrid>
                <a:gridCol w="1904760"/>
                <a:gridCol w="2210040"/>
                <a:gridCol w="2209680"/>
                <a:gridCol w="1447920"/>
              </a:tblGrid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klanten per d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middelde beste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openingsdagen per ja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antal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7280" indent="-2872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js van de te verkopen produc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er product berekene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. Kengetallen uit de branch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2133720"/>
          <a:ext cx="7772400" cy="3695760"/>
        </p:xfrm>
        <a:graphic>
          <a:graphicData uri="http://schemas.openxmlformats.org/drawingml/2006/table">
            <a:tbl>
              <a:tblPr/>
              <a:tblGrid>
                <a:gridCol w="1676160"/>
                <a:gridCol w="2133720"/>
                <a:gridCol w="2019240"/>
                <a:gridCol w="1943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g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igen bedrij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hatting omz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progn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3b1"/>
                    </a:solidFill>
                  </a:tcPr>
                </a:tc>
              </a:tr>
              <a:tr h="99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m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Oppervlak (vv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 + B +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f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medewerk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mzet/kas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 Aantal kassa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=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indbereken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er zo veel mogelijk van de voorgaande berekeningen 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e meer gegevens je gebruikt, hoe betrouwbaarder het eindantwoo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spcAft>
                <a:spcPts val="2001"/>
              </a:spcAft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t gemiddelde van alle omzetprognoses is je meest betrouwbare scha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486400" y="213372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zetprognose o.b.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tonderzo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ngeta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9:48:25Z</dcterms:created>
  <dc:creator>Robbert Oosterom</dc:creator>
  <dc:description/>
  <dc:language>en-US</dc:language>
  <cp:lastModifiedBy>Robbert Oosterom</cp:lastModifiedBy>
  <dcterms:modified xsi:type="dcterms:W3CDTF">2013-09-19T21:18:34Z</dcterms:modified>
  <cp:revision>1</cp:revision>
  <dc:subject/>
  <dc:title>Omzetprognose</dc:title>
</cp:coreProperties>
</file>