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A0E-060B-48F7-8F9F-9B642ED1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B8C-8298-4A32-80BF-9952842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BDB-3A8E-46E0-9AA2-4E2D4DF1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B25-7C08-46F2-88DA-E0B652B8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66E1-7D05-451B-8E6A-FD031B6A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1A8F-8076-467A-B7DC-F79A0D98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3F09-1540-4E39-AEFB-43B9DC40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2C58-E61C-4EC1-AA46-FCBEAF6B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BB76-CFF1-4819-B8B2-7B7D2FC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E107-AB01-4FD3-969A-79FFC15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4277-0532-4783-9DC8-5B6B0717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9E6-FE64-42EC-BCB6-84389A7D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27D3-4C54-4250-9F18-8963B90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A240-87A0-4DE3-90A8-029AF53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89E3-C17A-4261-A92E-130A504E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07D0-0124-48ED-8E92-9FFC0CF7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3F36-F6F2-4CE5-BD2D-FFD0CFF8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E06-491B-4A28-9DB1-1326F727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8FE-CF0B-420E-8A7E-EF6E1519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CC7-E1D2-4978-8B8B-CD9B09B0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2E3-AAAE-4DDA-B888-CF8A124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BAB-7A7A-4576-B35A-03BABD7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E26-D8FA-4335-B3A1-3474A7F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0AB-6B2F-45E1-8975-AE4269D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D2B8-F8C3-4F96-9B8F-4F4BDCDFD2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6CF3-90E8-45DA-96C8-A2643E6E18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C O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bert Ooste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n het eind van deze les moet je een omzetprognose kunnen bereke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SC01703_klein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ldboom" descr=""/>
          <p:cNvPicPr/>
          <p:nvPr/>
        </p:nvPicPr>
        <p:blipFill>
          <a:blip r:embed="rId1"/>
          <a:stretch/>
        </p:blipFill>
        <p:spPr>
          <a:xfrm>
            <a:off x="6413400" y="4419720"/>
            <a:ext cx="220356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ang 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 marktonderzoek moet de informatie opleveren waarmee je de eigen potentiële omzet (EPO) kunt bereke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 is de belangrijkste berekening van het ondernemings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omzet moet goed onderbouwd en realistisch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middelde van 3 verschillende berekeni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O (Theorieboek pag. 77-8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ngetallen uit de bran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EP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2286000"/>
          <a:ext cx="8305920" cy="4191120"/>
        </p:xfrm>
        <a:graphic>
          <a:graphicData uri="http://schemas.openxmlformats.org/drawingml/2006/table">
            <a:tbl>
              <a:tblPr/>
              <a:tblGrid>
                <a:gridCol w="2743200"/>
                <a:gridCol w="1524240"/>
                <a:gridCol w="1218960"/>
                <a:gridCol w="28195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consumenten in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2667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 besteed bedrag per consument in de b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Potentiële omzet van het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Toe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vo  x  winkeloppervlak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werknemer  x  aantal werknemers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Potentiële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  <a:ea typeface="Tahom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96432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948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5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. Marktonderzoe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2210040"/>
                <a:gridCol w="2209680"/>
                <a:gridCol w="144792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klanten per d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e best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openingsdagen per j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js van de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r product bereken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. Kengetallen uit de bran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133720"/>
          <a:ext cx="7772400" cy="3695760"/>
        </p:xfrm>
        <a:graphic>
          <a:graphicData uri="http://schemas.openxmlformats.org/drawingml/2006/table">
            <a:tbl>
              <a:tblPr/>
              <a:tblGrid>
                <a:gridCol w="1676160"/>
                <a:gridCol w="2133720"/>
                <a:gridCol w="2019240"/>
                <a:gridCol w="1943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g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bedrij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atting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Oppervlak (vv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 +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f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medewe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kas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kassa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ind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er zo veel mogelijk van de voorgaande berekeningen 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e meer gegevens je gebruikt, hoe betrouwbaarder het eindantwo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t gemiddelde van alle omzetprognoses is je meest betrouwbare scha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86400" y="21337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zetprognose o.b.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geta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48:25Z</dcterms:created>
  <dc:creator>Robbert Oosterom</dc:creator>
  <dc:description/>
  <dc:language>en-US</dc:language>
  <cp:lastModifiedBy>Robbert Oosterom</cp:lastModifiedBy>
  <dcterms:modified xsi:type="dcterms:W3CDTF">2013-09-19T21:18:34Z</dcterms:modified>
  <cp:revision>1</cp:revision>
  <dc:subject/>
  <dc:title>Omzetprognose</dc:title>
</cp:coreProperties>
</file>