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4027-2237-454B-A1F8-0ED9D453A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0774-57CD-4DCE-9941-4A37DB9D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F64D-FAC3-450B-8D20-5C416719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D942-D30C-470E-A49D-FFB42FFAF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DBD7-457C-41E6-BB48-FB31B915A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9212-C0D9-4C9A-989C-8E042633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62B9-BCC6-4F9E-8CAB-9594BF0D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C8F4-1351-4FA1-9471-AC1F892F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C1FC-443E-4363-B878-87EC75C1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553E-BF80-4EEC-AA38-98769D13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9EC7-C91C-4A01-A742-546A8B0B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A3AC-FD4A-4162-AC23-4332CA9A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DFAB-4783-48EB-9C0A-52BE77F3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D4E8-EB4A-4702-AACE-0D6BEF68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339F-7354-4CF2-AA34-F1E40C24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210F-2D41-4047-9B6E-ABC5670EB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391F-4C63-43DF-85A1-7D1D1BECC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CDB5-A2B9-4BFE-82FD-92FD78DF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7B11-4506-48D4-A44C-AF5D2750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1657-7684-4546-AA7D-3025402C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0B1A-6E87-40F8-B078-27C2D465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AD93-060E-434F-B3A4-254D492E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8A07-7697-4921-AE96-8FE3D85A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B163-EB28-410D-96A6-C25FEE5E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EC63-A4C9-4B63-AB8E-94C900598D06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8000-1007-4228-8CEC-946B589E41AF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oject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an van Aanpak (P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 Project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Geldbeheers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begro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dement van he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bewaking en evt. deelbudgetbehee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kenbevoegdhe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e mag hoeveel geld aan wat uitgeven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Kwalitei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 welke 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teitseisen moet h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ultaat voldo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lke instrumenten voor kwaliteitscontrole ga je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g va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 er met (ISO)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rm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dt gewer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rojectorganisati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el de func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Projectleid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en p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rojec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ie met onderaannem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n 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bevoegdheden v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pdrachtgever, projectleider, lijnmanager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f aan hoeveel tijd iedereen he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ijdverantwoordingsformul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11. Communicatiepla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e communic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 communic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6672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e 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urgro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ankbordgro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levering van tussenevalu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dos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12. Risicoanaly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mene projectrisico’s (checkl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eke risico’s (brainst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tabel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jst van preventieve maatregelen en noodscenario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Bijlag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nnen die geraadpleegd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oek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son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detailleerde begrot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k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Arial"/>
              </a:rPr>
              <a:t>Plan van aanpa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04920" y="762120"/>
          <a:ext cx="8534160" cy="5943600"/>
        </p:xfrm>
        <a:graphic>
          <a:graphicData uri="http://schemas.openxmlformats.org/drawingml/2006/table">
            <a:tbl>
              <a:tblPr/>
              <a:tblGrid>
                <a:gridCol w="1828800"/>
                <a:gridCol w="5333760"/>
                <a:gridCol w="13716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htergron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 gaan we doe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elstelling en projectopdrac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grenzen en randvoorwaar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activitei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e gaan we het doe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ructuur van het pro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e houden we alles onder control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ldbeheersin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waliteitsbeheersin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organisati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catiepla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icoanaly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jla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chtergronden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520" y="1523520"/>
            <a:ext cx="853452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eef een beschrijving va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rgan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doet het bedr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w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leiding voor het p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ject (probleem / k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s er een relatie met andere projec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akeholdersanal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800"/>
            </a:b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Doelstellingen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 en projectopdrach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7524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arom wordt het project uitgevoe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Je moet met de doelstelling duidelijk kunnen maken wat de opdrachtgever van het project verwach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van Eisen (P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er klaar als het projec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ar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jectresulta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dg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 zijn de gebruikers van het resulta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Projectgrenzen en randvoorwaard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hoort er wel en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nie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bij he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noem vooral waar me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ver zou kunnen twijfel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 geeft de opdrachtgever de gelegenheid om bij te stur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g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n eind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tum van he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heb je per sé nodig om het project tot een goed einde te bre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rojectactiviteiten</a:t>
            </a:r>
            <a:r>
              <a:rPr b="1" lang="nl-NL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rijf alle projectactiviteiten o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als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chr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voorber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beh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uitvo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roduct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ga je oplever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rij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produ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n gebeurteni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t zijn zaken waar de gebruikers 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 zitten te wacht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jv. een tuin, een evenement, een presentati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 producten samen leveren uiteindelij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 projec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ult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Hoofdstructuur v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n het projec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k een WBS (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k Breakdown Struct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t alle projec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tiviteit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producten in d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beer de activiteiten logisch te groep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t activiteiten die een vergelijkbare hoeveelheid werk kosten op hetzelfde niv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ofdfasering met mijlpalen in de 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lann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3733920" y="1523880"/>
            <a:ext cx="16002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3200400" y="2819520"/>
            <a:ext cx="266688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eiten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2819520" y="4191120"/>
            <a:ext cx="34290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erk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2438280" y="5562720"/>
            <a:ext cx="419112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ken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4343400" y="22860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1"/>
          <p:cNvSpPr/>
          <p:nvPr/>
        </p:nvSpPr>
        <p:spPr>
          <a:xfrm>
            <a:off x="4343400" y="35812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2"/>
          <p:cNvSpPr/>
          <p:nvPr/>
        </p:nvSpPr>
        <p:spPr>
          <a:xfrm>
            <a:off x="4343400" y="49528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10:20:10Z</dcterms:created>
  <dc:creator>Ruud</dc:creator>
  <dc:description/>
  <dc:language>en-US</dc:language>
  <cp:lastModifiedBy>Robbert Oosterom</cp:lastModifiedBy>
  <dcterms:modified xsi:type="dcterms:W3CDTF">2013-10-10T09:38:00Z</dcterms:modified>
  <cp:revision>12</cp:revision>
  <dc:subject/>
  <dc:title>Projectmanagement</dc:title>
</cp:coreProperties>
</file>