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FD0-6803-4732-BA55-DFA672CD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2C1D-7EB6-45D9-A7D9-E20414E8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BE4-7D63-4E11-88A8-5827B7D4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553-8264-44DB-B144-66181787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05AD-FB45-4267-8740-55187D8F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6BDA-3904-46DA-A92B-2560FA51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B032-4050-4EFB-A64B-F1D24AA6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E8FA-6868-4553-97F9-E35E0748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6179-AADD-48E3-B948-D8164777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BCD4-8529-4D3A-8384-33A2F016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99AE-ECFF-4C8A-B087-443BBEAE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605-44FE-4EA7-82A2-8455534B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12B1-9CA7-4CA1-8B49-38E0ED52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BDB1-43DD-4CC1-99EC-D5DD754D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DD56-9373-47B2-8E69-2823D97F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5FC6-AEE9-4BCB-AE6A-5B01EA5F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F1D3-3E7C-40A6-A296-C077E307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3BF-9D84-46A9-BC0F-6F1A637E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951-62BA-46BE-BB29-D54C4761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B56-817E-43AE-BF71-630EC27B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050-2845-4BFA-B577-2BABB708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F4F-9B70-4858-83A0-1530EEA0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387-CBCC-494A-994F-FAE98BE7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916-916C-4857-983E-3C976015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89CA-A1EA-42EB-95E2-A16735A403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3F3F-16BF-4036-ABA9-4D88FD83B0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mzetprogno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C O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bert Ooste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oelstell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n het eind van deze les moet je een omzetprognose kunnen bereke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DSC01703_klein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geldboom" descr=""/>
          <p:cNvPicPr/>
          <p:nvPr/>
        </p:nvPicPr>
        <p:blipFill>
          <a:blip r:embed="rId1"/>
          <a:stretch/>
        </p:blipFill>
        <p:spPr>
          <a:xfrm>
            <a:off x="6413400" y="4419720"/>
            <a:ext cx="220356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lang omzetprogno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 marktonderzoek moet de informatie opleveren waarmee je de eigen potentiële omzet (EPO) kunt bereken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t is de belangrijkste berekening van het ondernemings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omzet moet goed onderbouwd en realistisch zij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reken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middelde van 3 verschillende berekening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PO (Theorieboek pag. 77-8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tonderzo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ngetallen uit de bran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. EP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80880" y="2286000"/>
          <a:ext cx="8305920" cy="4191120"/>
        </p:xfrm>
        <a:graphic>
          <a:graphicData uri="http://schemas.openxmlformats.org/drawingml/2006/table">
            <a:tbl>
              <a:tblPr/>
              <a:tblGrid>
                <a:gridCol w="2743200"/>
                <a:gridCol w="1524240"/>
                <a:gridCol w="1218960"/>
                <a:gridCol w="28195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consumenten in verzorgingsgeb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2667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middeld besteed bedrag per consument in de b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Potentiële omzet van het verzorgingsgeb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Toevloei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vloei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vo  x  winkeloppervlak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 van de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werknemer  x  aantal werknemers van de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gen Potentiële Om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  <a:ea typeface="Tahom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964320" y="48006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7948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155080" y="434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. Marktonderzoe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2133720"/>
          <a:ext cx="7772400" cy="4114800"/>
        </p:xfrm>
        <a:graphic>
          <a:graphicData uri="http://schemas.openxmlformats.org/drawingml/2006/table">
            <a:tbl>
              <a:tblPr/>
              <a:tblGrid>
                <a:gridCol w="1904760"/>
                <a:gridCol w="2210040"/>
                <a:gridCol w="2209680"/>
                <a:gridCol w="1447920"/>
              </a:tblGrid>
              <a:tr h="15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klanten per d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middelde beste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openingsdagen per ja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te verkopen produc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js van de te verkopen produc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er product bereken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prognose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 +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3. Kengetallen uit de branch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2133720"/>
          <a:ext cx="7772400" cy="3695760"/>
        </p:xfrm>
        <a:graphic>
          <a:graphicData uri="http://schemas.openxmlformats.org/drawingml/2006/table">
            <a:tbl>
              <a:tblPr/>
              <a:tblGrid>
                <a:gridCol w="1676160"/>
                <a:gridCol w="2133720"/>
                <a:gridCol w="2019240"/>
                <a:gridCol w="19432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ng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gen bedrij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atting om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progn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</a:tr>
              <a:tr h="99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m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Oppervlak (vv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 + B +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f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Aantal medewe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kas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Aantal kassa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indbereken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er zo veel mogelijk van de voorgaande berekeningen 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e meer gegevens je gebruikt, hoe betrouwbaarder het eindantwoo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t gemiddelde van alle omzetprognoses is je meest betrouwbare scha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86400" y="21337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zetprognose o.b.v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tonderzo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ngeta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9:48:25Z</dcterms:created>
  <dc:creator>Robbert Oosterom</dc:creator>
  <dc:description/>
  <dc:language>en-US</dc:language>
  <cp:lastModifiedBy>Robbert Oosterom</cp:lastModifiedBy>
  <dcterms:modified xsi:type="dcterms:W3CDTF">2013-09-19T21:18:34Z</dcterms:modified>
  <cp:revision>1</cp:revision>
  <dc:subject/>
  <dc:title>Omzetprognose</dc:title>
</cp:coreProperties>
</file>