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AAE-E1AC-4356-A000-2AA5ED72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472-3FB4-4FF6-A05B-668EFC59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7A1-E2DE-4834-8A67-E3649411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E52-F1B6-4CE2-A248-E2A2E064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DEF2-4B25-4AD9-B68D-C7146FCD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D56E-1C99-4D37-8A37-E9C85034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424E-4325-4819-B928-FF44278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A35F-06AF-4368-A9D0-5D3BAA37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5BD-C203-47F5-8EB6-ADB3F8E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70D6-4FCB-4772-B69D-F300C07D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636C-382F-4F6F-877F-AD395E1D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D8A-BB6A-4E32-834F-95AA259E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1697-BB74-43BD-8408-6F3943F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2EB5-83DC-47C4-A75D-D96E9E04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9D35-5E23-45DB-A927-6110118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87E5-7261-44DC-839D-1FAD2248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0DCB-1C38-4C7E-8B1E-7C80A03A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D38-7031-4D71-8EF5-DF443BF0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FA1-3331-447D-BA84-0C1843F8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D3C-94A8-4035-8D0D-68413964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CDA-F702-4C63-A3EE-48F10D49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2E9-BE27-4F21-BAE1-CE097E21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075-B380-4678-BF1D-DDEF447E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D8E-FC46-498B-BB37-C5E5C1B4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1036-4D30-4ACE-A3B7-96C32E5F0DF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554-92AB-46BC-B6C4-F180936E939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5333760"/>
                <a:gridCol w="13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gaan we het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0T09:38:00Z</dcterms:modified>
  <cp:revision>12</cp:revision>
  <dc:subject/>
  <dc:title>Projectmanagement</dc:title>
</cp:coreProperties>
</file>