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AB8-2DC8-4F9E-B979-8A1AA203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953-527F-4613-BC6B-50E27EDD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A54-8F9B-458B-B61C-69ACBBD9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58A-25F3-496A-85B2-872F78A3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E3F8-65DB-4AE0-9E33-3E437D7A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3A0D-810D-4DC3-BAFF-9905602C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B254-81D5-4E5C-A181-E203A095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15AD-B161-4ED6-BFD4-6F4CC68B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FF9D-DCEA-4AFC-900F-99D93062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6AB2-F0FD-4394-8EB0-2A5A067F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B6A7-1E3C-4F9E-82D7-8A28E599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ADE-F407-4795-A966-39714961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2087-86E2-481B-9851-723B96F0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BAAE-3F73-4E2D-9E4B-E3226162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6F07-2B54-47F0-B055-B5F525AE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0858-78B2-4470-8A42-41192FD4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A1F8-504B-473C-B42B-384457E1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0A2-7FC6-4FB2-A0CA-85BA4C0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114-1B8D-4A0E-8943-778D6918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8F7-9F5A-4D18-B5E6-68EC1A07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C40-41B0-4506-B4DE-1D8D0450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60A-0A21-4EB8-B224-ABB4562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AE2-7407-4326-B68B-A3CFFF06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545-2F5A-4642-B2B8-DC208B49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AF77-F30E-4ED4-BB4C-D8E7E1088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B465-F6C7-4885-93AC-BE494F00E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C O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bert Ooste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elstel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n het eind van deze les moet je een omzetprognose kunnen bereke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SC01703_klein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eldboom" descr=""/>
          <p:cNvPicPr/>
          <p:nvPr/>
        </p:nvPicPr>
        <p:blipFill>
          <a:blip r:embed="rId1"/>
          <a:stretch/>
        </p:blipFill>
        <p:spPr>
          <a:xfrm>
            <a:off x="6413400" y="4419720"/>
            <a:ext cx="220356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lang 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 marktonderzoek moet de informatie opleveren waarmee je de eigen potentiële omzet (EPO) kunt bereke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t is de belangrijkste berekening van het ondernemings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omzet moet goed onderbouwd en realistisch zi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middelde van 3 verschillende berekenin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O (Theorieboek pag. 77-8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ngetallen uit de bran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. EP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2286000"/>
          <a:ext cx="8305920" cy="4191120"/>
        </p:xfrm>
        <a:graphic>
          <a:graphicData uri="http://schemas.openxmlformats.org/drawingml/2006/table">
            <a:tbl>
              <a:tblPr/>
              <a:tblGrid>
                <a:gridCol w="2743200"/>
                <a:gridCol w="1524240"/>
                <a:gridCol w="1218960"/>
                <a:gridCol w="28195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consumenten in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2667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 besteed bedrag per consument in de b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Potentiële omzet van het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Toe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vo  x  winkeloppervlak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werknemer  x  aantal werknemers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Potentiële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  <a:ea typeface="Tahom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964320" y="4800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948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5508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. Marktonderzoe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2210040"/>
                <a:gridCol w="2209680"/>
                <a:gridCol w="144792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klanten per d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e beste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openingsdagen per j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js van de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r product bereken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. Kengetallen uit de bran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133720"/>
          <a:ext cx="7772400" cy="3695760"/>
        </p:xfrm>
        <a:graphic>
          <a:graphicData uri="http://schemas.openxmlformats.org/drawingml/2006/table">
            <a:tbl>
              <a:tblPr/>
              <a:tblGrid>
                <a:gridCol w="1676160"/>
                <a:gridCol w="2133720"/>
                <a:gridCol w="2019240"/>
                <a:gridCol w="19432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g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bedrij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atting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</a:tr>
              <a:tr h="99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Oppervlak (vv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 +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f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medewe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kas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kassa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ind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er zo veel mogelijk van de voorgaande berekeningen 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e meer gegevens je gebruikt, hoe betrouwbaarder het eindantwo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t gemiddelde van alle omzetprognoses is je meest betrouwbare scha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86400" y="21337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zetprognose o.b.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geta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48:25Z</dcterms:created>
  <dc:creator>Robbert Oosterom</dc:creator>
  <dc:description/>
  <dc:language>en-US</dc:language>
  <cp:lastModifiedBy>Robbert Oosterom</cp:lastModifiedBy>
  <dcterms:modified xsi:type="dcterms:W3CDTF">2013-09-19T21:18:34Z</dcterms:modified>
  <cp:revision>1</cp:revision>
  <dc:subject/>
  <dc:title>Omzetprognose</dc:title>
</cp:coreProperties>
</file>