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0F8-EE63-44B2-9BC6-D99F47CE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5F2-D944-487A-836B-F5B0EA70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859-D70F-4D6B-9400-30FA0F33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779-2811-4B67-A56C-211EB062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D55-8302-4D32-AC95-4545BADD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848-A2EB-428D-90CC-36A3FED6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91A-F0EC-4BE6-8938-7762A330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969-04D8-45DE-94CA-DFCF4265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085-E6AD-4821-8225-BBAEA9C0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048-9BA3-4B92-877D-3F9FAC49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560-C33D-432F-8327-4434B7BB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B3F-C71D-4F15-A237-0811F4B5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6AB0-A35A-470B-A3FE-656A43E137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ringloop" TargetMode="External"/><Relationship Id="rId2" Type="http://schemas.openxmlformats.org/officeDocument/2006/relationships/hyperlink" Target="http://nl.wikipedia.org/wiki/Koolstofdioxide" TargetMode="External"/><Relationship Id="rId3" Type="http://schemas.openxmlformats.org/officeDocument/2006/relationships/hyperlink" Target="http://nl.wikipedia.org/wiki/Aardatmosfeer" TargetMode="External"/><Relationship Id="rId4" Type="http://schemas.openxmlformats.org/officeDocument/2006/relationships/hyperlink" Target="http://nl.wikipedia.org/wiki/Fotosynthese" TargetMode="External"/><Relationship Id="rId5" Type="http://schemas.openxmlformats.org/officeDocument/2006/relationships/hyperlink" Target="http://nl.wikipedia.org/wiki/Planten" TargetMode="External"/><Relationship Id="rId6" Type="http://schemas.openxmlformats.org/officeDocument/2006/relationships/hyperlink" Target="http://nl.wikipedia.org/wiki/Kooldioxide" TargetMode="External"/><Relationship Id="rId7" Type="http://schemas.openxmlformats.org/officeDocument/2006/relationships/hyperlink" Target="http://nl.wikipedia.org/wiki/Koolhydraat" TargetMode="External"/><Relationship Id="rId8" Type="http://schemas.openxmlformats.org/officeDocument/2006/relationships/hyperlink" Target="http://nl.wikipedia.org/wiki/Dissimilatie_%28chemie%29" TargetMode="Externa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Carbon_cycle-cute_diagram_Dutch_text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nl.wikipedia.org/wiki/Afbeelding:Carbon_cycle-cute_diagram_Dutch_text.jpg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CO2Anstieg.pn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nl.wikipedia.org/wiki/Antartica" TargetMode="External"/><Relationship Id="rId4" Type="http://schemas.openxmlformats.org/officeDocument/2006/relationships/slide" Target=""/><Relationship Id="rId5" Type="http://schemas.openxmlformats.org/officeDocument/2006/relationships/hyperlink" Target="http://nl.wikipedia.org/wiki/IJstijd" TargetMode="External"/><Relationship Id="rId6" Type="http://schemas.openxmlformats.org/officeDocument/2006/relationships/hyperlink" Target="http://nl.wikipedia.org/wiki/Interglaciaal" TargetMode="External"/><Relationship Id="rId7" Type="http://schemas.openxmlformats.org/officeDocument/2006/relationships/hyperlink" Target="http://nl.wikipedia.org/wiki/Industri&#235;le_revolutie" TargetMode="External"/><Relationship Id="rId8" Type="http://schemas.openxmlformats.org/officeDocument/2006/relationships/hyperlink" Target="http://nl.wikipedia.org/wiki/Mauna_Loa" TargetMode="External"/><Relationship Id="rId9" Type="http://schemas.openxmlformats.org/officeDocument/2006/relationships/hyperlink" Target="http://nl.wikipedia.org/wiki/Mauna_Loa" TargetMode="External"/><Relationship Id="rId10" Type="http://schemas.openxmlformats.org/officeDocument/2006/relationships/hyperlink" Target="http://nl.wikipedia.org/wiki/Mauna_Loa" TargetMode="External"/><Relationship Id="rId11" Type="http://schemas.openxmlformats.org/officeDocument/2006/relationships/hyperlink" Target="http://nl.wikipedia.org/wiki/Hawa&#239;" TargetMode="External"/><Relationship Id="rId12" Type="http://schemas.openxmlformats.org/officeDocument/2006/relationships/hyperlink" Target="http://nl.wikipedia.org/wiki/Opwarming_van_de_Aarde" TargetMode="External"/><Relationship Id="rId13" Type="http://schemas.openxmlformats.org/officeDocument/2006/relationships/hyperlink" Target="http://nl.wikipedia.org/wiki/Aardolie" TargetMode="External"/><Relationship Id="rId14" Type="http://schemas.openxmlformats.org/officeDocument/2006/relationships/hyperlink" Target="http://nl.wikipedia.org/wiki/Aardgas" TargetMode="External"/><Relationship Id="rId15" Type="http://schemas.openxmlformats.org/officeDocument/2006/relationships/hyperlink" Target="http://nl.wikipedia.org/wiki/Steenkool" TargetMode="External"/><Relationship Id="rId16" Type="http://schemas.openxmlformats.org/officeDocument/2006/relationships/hyperlink" Target="http://nl.wikipedia.org/wiki/Cement" TargetMode="External"/><Relationship Id="rId17" Type="http://schemas.openxmlformats.org/officeDocument/2006/relationships/slide" Target="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zaadolie" TargetMode="External"/><Relationship Id="rId2" Type="http://schemas.openxmlformats.org/officeDocument/2006/relationships/hyperlink" Target="http://nl.wikipedia.org/wiki/Hout" TargetMode="External"/><Relationship Id="rId3" Type="http://schemas.openxmlformats.org/officeDocument/2006/relationships/hyperlink" Target="http://nl.wikipedia.org/w/index.php?title=Afbranden&amp;action=edit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fbeelding:CO2Anstieg.png" TargetMode="External"/><Relationship Id="rId2" Type="http://schemas.openxmlformats.org/officeDocument/2006/relationships/hyperlink" Target="http://nl.wikipedia.org/wiki/Afbeelding:CO2Anstieg.png" TargetMode="External"/><Relationship Id="rId3" Type="http://schemas.openxmlformats.org/officeDocument/2006/relationships/hyperlink" Target="http://nl.wikipedia.org/wiki/Afbeelding:CO2Anstieg.png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nl.wikipedia.org/wiki/Afbeelding:CO2Anstieg.png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nl.wikipedia.org/wiki/Afbeelding:CO2Anstieg.png" TargetMode="External"/><Relationship Id="rId8" Type="http://schemas.openxmlformats.org/officeDocument/2006/relationships/hyperlink" Target="http://nl.wikipedia.org/wiki/Afbeelding:CO2Anstieg.png" TargetMode="External"/><Relationship Id="rId9" Type="http://schemas.openxmlformats.org/officeDocument/2006/relationships/hyperlink" Target="http://nl.wikipedia.org/wiki/Afbeelding:CO2Anstieg.png" TargetMode="External"/><Relationship Id="rId10" Type="http://schemas.openxmlformats.org/officeDocument/2006/relationships/image" Target="../media/image3.png"/><Relationship Id="rId11" Type="http://schemas.openxmlformats.org/officeDocument/2006/relationships/hyperlink" Target="http://nl.wikipedia.org/wiki/Afbeelding:CO2Anstieg.png" TargetMode="Externa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zuur" TargetMode="External"/><Relationship Id="rId2" Type="http://schemas.openxmlformats.org/officeDocument/2006/relationships/hyperlink" Target="http://nl.wikipedia.org/wiki/PH" TargetMode="External"/><Relationship Id="rId3" Type="http://schemas.openxmlformats.org/officeDocument/2006/relationships/hyperlink" Target="http://nl.wikipedia.org/wiki/Kalksteen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Assimilatie" TargetMode="External"/><Relationship Id="rId2" Type="http://schemas.openxmlformats.org/officeDocument/2006/relationships/hyperlink" Target="http://nl.wikipedia.org/wiki/Dissimilatie" TargetMode="External"/><Relationship Id="rId3" Type="http://schemas.openxmlformats.org/officeDocument/2006/relationships/hyperlink" Target="http://nl.wikipedia.org/wiki/Detritus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iochemische_kringloop" TargetMode="External"/><Relationship Id="rId2" Type="http://schemas.openxmlformats.org/officeDocument/2006/relationships/hyperlink" Target="http://nl.wikipedia.org/wiki/Geochemie" TargetMode="External"/><Relationship Id="rId3" Type="http://schemas.openxmlformats.org/officeDocument/2006/relationships/hyperlink" Target="http://nl.wikipedia.org/wiki/Stikstof" TargetMode="External"/><Relationship Id="rId4" Type="http://schemas.openxmlformats.org/officeDocument/2006/relationships/hyperlink" Target="http://nl.wikipedia.org/wiki/Aardatmosfeer" TargetMode="External"/><Relationship Id="rId5" Type="http://schemas.openxmlformats.org/officeDocument/2006/relationships/hyperlink" Target="http://nl.wikipedia.org/wiki/Planten" TargetMode="External"/><Relationship Id="rId6" Type="http://schemas.openxmlformats.org/officeDocument/2006/relationships/hyperlink" Target="http://nl.wikipedia.org/wiki/Bodem" TargetMode="External"/><Relationship Id="rId7" Type="http://schemas.openxmlformats.org/officeDocument/2006/relationships/hyperlink" Target="http://nl.wikipedia.org/wiki/Biomassa" TargetMode="External"/><Relationship Id="rId8" Type="http://schemas.openxmlformats.org/officeDocument/2006/relationships/hyperlink" Target="http://nl.wikipedia.org/wiki/Organisme" TargetMode="External"/><Relationship Id="rId9" Type="http://schemas.openxmlformats.org/officeDocument/2006/relationships/hyperlink" Target="http://nl.wikipedia.org/wiki/Aminozuur" TargetMode="External"/><Relationship Id="rId10" Type="http://schemas.openxmlformats.org/officeDocument/2006/relationships/hyperlink" Target="http://nl.wikipedia.org/wiki/Prote&#239;ne" TargetMode="External"/><Relationship Id="rId11" Type="http://schemas.openxmlformats.org/officeDocument/2006/relationships/hyperlink" Target="http://nl.wikipedia.org/wiki/DNA" TargetMode="External"/><Relationship Id="rId12" Type="http://schemas.openxmlformats.org/officeDocument/2006/relationships/hyperlink" Target="http://nl.wikipedia.org/wiki/Co-enzym" TargetMode="External"/><Relationship Id="rId13" Type="http://schemas.openxmlformats.org/officeDocument/2006/relationships/hyperlink" Target="http://nl.wikipedia.org/wiki/Aardatmosfeer" TargetMode="External"/><Relationship Id="rId14" Type="http://schemas.openxmlformats.org/officeDocument/2006/relationships/hyperlink" Target="http://nl.wikipedia.org/wiki/Bacteri&#235;n" TargetMode="External"/><Relationship Id="rId15" Type="http://schemas.openxmlformats.org/officeDocument/2006/relationships/hyperlink" Target="http://nl.wikipedia.org/wiki/Cyanobacteri&#235;n" TargetMode="External"/><Relationship Id="rId16" Type="http://schemas.openxmlformats.org/officeDocument/2006/relationships/hyperlink" Target="http://nl.wikipedia.org/wiki/Familie_%28biologie%29" TargetMode="External"/><Relationship Id="rId17" Type="http://schemas.openxmlformats.org/officeDocument/2006/relationships/hyperlink" Target="http://nl.wikipedia.org/w/index.php?title=Rhizobiaceae&amp;action=edit" TargetMode="External"/><Relationship Id="rId18" Type="http://schemas.openxmlformats.org/officeDocument/2006/relationships/hyperlink" Target="http://nl.wikipedia.org/wiki/Rhizobium" TargetMode="External"/><Relationship Id="rId19" Type="http://schemas.openxmlformats.org/officeDocument/2006/relationships/hyperlink" Target="http://nl.wikipedia.org/wiki/Symbiose" TargetMode="External"/><Relationship Id="rId20" Type="http://schemas.openxmlformats.org/officeDocument/2006/relationships/hyperlink" Target="http://nl.wikipedia.org/wiki/Vlinderbloemigen" TargetMode="External"/><Relationship Id="rId21" Type="http://schemas.openxmlformats.org/officeDocument/2006/relationships/hyperlink" Target="http://nl.wikipedia.org/wiki/Dier" TargetMode="External"/><Relationship Id="rId22" Type="http://schemas.openxmlformats.org/officeDocument/2006/relationships/hyperlink" Target="http://nl.wikipedia.org/wiki/Mens" TargetMode="External"/><Relationship Id="rId23" Type="http://schemas.openxmlformats.org/officeDocument/2006/relationships/hyperlink" Target="http://nl.wikipedia.org/wiki/Biosfeer" TargetMode="External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acteri&#235;n" TargetMode="External"/><Relationship Id="rId2" Type="http://schemas.openxmlformats.org/officeDocument/2006/relationships/hyperlink" Target="http://nl.wikipedia.org/wiki/Cyanobacteri&#235;n" TargetMode="External"/><Relationship Id="rId3" Type="http://schemas.openxmlformats.org/officeDocument/2006/relationships/hyperlink" Target="http://nl.wikipedia.org/wiki/Familie_%28biologie%29" TargetMode="External"/><Relationship Id="rId4" Type="http://schemas.openxmlformats.org/officeDocument/2006/relationships/hyperlink" Target="http://nl.wikipedia.org/w/index.php?title=Rhizobiaceae&amp;action=edit" TargetMode="External"/><Relationship Id="rId5" Type="http://schemas.openxmlformats.org/officeDocument/2006/relationships/hyperlink" Target="http://nl.wikipedia.org/wiki/Rhizobium" TargetMode="External"/><Relationship Id="rId6" Type="http://schemas.openxmlformats.org/officeDocument/2006/relationships/hyperlink" Target="http://nl.wikipedia.org/wiki/Vlinderbloemigen" TargetMode="External"/><Relationship Id="rId7" Type="http://schemas.openxmlformats.org/officeDocument/2006/relationships/hyperlink" Target="http://nl.wikipedia.org/wiki/Organische_stof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3080" y="1010880"/>
            <a:ext cx="678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olstofkringlo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de bekend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ogeochemische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ringlo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oolstofkringloop beschrijft onder andere w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gebeurt met door mensen uitgestoot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oolstofdioxi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n de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tmosfe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de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otosynthes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lan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 de lucht vastgelegd in planten in de v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koolhydr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klein deel hiervan komt weer vrij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issimil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plant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Afbeelding:Nitrogen Cycle Dutch text.jpg"/>
          <p:cNvPicPr/>
          <p:nvPr/>
        </p:nvPicPr>
        <p:blipFill>
          <a:blip r:embed="rId1"/>
          <a:stretch/>
        </p:blipFill>
        <p:spPr>
          <a:xfrm>
            <a:off x="1123920" y="571680"/>
            <a:ext cx="689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69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201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590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523880"/>
            <a:ext cx="64800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Koolstofkringloop. De zwarte getallen tonen hoeveel miljarden tonnen koolstof (GtC) in de verschillende opslagplaatsen aanwezig zijn. De blauwe getallen tonen hoeveel koolstof tussen de verschillende opslagplaatsen per jaar uitgewisseld wordt. N.B.:Vegetatie omvat alle organismen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197000"/>
            <a:ext cx="4762440" cy="37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4487760" y="502920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233960" y="380196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85200" y="927360"/>
            <a:ext cx="6827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 de analyse van boringen in he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tarctisch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js (blauwe lij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ijkt dat de concentratie van kooldioxide tenminste in de laat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650.000 jaar  niet hoger is geweest dan 300 ml/m³.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ijdens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Jstij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as de concentratie met 180 ml/m³ lager 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ijdens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armteperiod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t het begin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dustriële revolu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eeg de concent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ponentie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e rode lijn geeft de continue metingen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AW-Statio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auna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Lo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op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awaï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edert 1958 aan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 deze metingen blijkt een verhoging met 3,2 Gt C per ja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e a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opwarming van d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bijdraag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verbranding van fossiele koolstofhoudende brandstoff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ardol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ardga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steenkoo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en door de productie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c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men per jaar 7,1 Gt C vrij (1980-1990)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[4]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35600" y="2700360"/>
            <a:ext cx="743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verbranding van biomassa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zaadoli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u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fbran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eft alleen invloed op de kortlopende koolstofkringloop en draag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halve niet bij aan een verhoging op de langlopende koolstofkring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37080" y="2184840"/>
            <a:ext cx="11556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i="1" lang="en-US" sz="85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</a:t>
            </a:r>
            <a:r>
              <a:rPr b="0" i="1" lang="en-US" sz="6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CO2-verhoging in de aardatmosfe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92600" y="-2039760"/>
            <a:ext cx="1714320" cy="136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92600" y="-1951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56000" y="3996360"/>
            <a:ext cx="3960720" cy="22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 </a:t>
            </a:r>
            <a:r>
              <a:rPr b="0" i="1" lang="en-US" sz="85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 </a:t>
            </a:r>
            <a:r>
              <a:rPr b="0" i="1" lang="en-US" sz="600" spc="-1" strike="noStrike">
                <a:solidFill>
                  <a:srgbClr val="666699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CO</a:t>
            </a:r>
            <a:r>
              <a:rPr b="0" i="1" lang="en-US" sz="1800" spc="-1" strike="noStrike" baseline="-30000">
                <a:solidFill>
                  <a:srgbClr val="666699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-verhoging in de aardatmosf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O2-verhoging in de aardatmosfee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836640"/>
            <a:ext cx="3671640" cy="29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92600" y="3262320"/>
            <a:ext cx="14292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45320" y="1609200"/>
            <a:ext cx="6922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verhoging van het kooldioxidegehalte in de aardatmosf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t voor een hogere oplossing van CO2 in het zee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vorming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zuu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ordt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het zee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ger (zuurder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pH-verlaging van de regen en het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al de verwering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alkste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daarmee het verbruik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2 toene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aar geochemisch gevormde hoeveelheden echter zeer klein zij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elt dit effect op de korte termijn geen 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32880" y="1063800"/>
            <a:ext cx="8017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schattingen en verschillen in literatuurbron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 er uiteraard veel discussie tussen wetensch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genover de toename van 120 Gt C per jaar (gigatonnen koolstof per jaa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simila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staat in totaal slechts 116 Gt C per j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ssimila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etritusvorm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afkomstig van afgestorven organisme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erbij ontbreken dus in de balans 4 Gt C per jaa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te doen met verklaringen over ijstijden en warme tijden gedur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fgelopen duizenden jaren zonder aanwezigheid van de m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ze aantallen en de manier waarop wij 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 Al G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6000" y="790920"/>
            <a:ext cx="73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tikstofkringloop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iochemische kring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ochemisch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omzetting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ikstof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de luc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ardatmosfe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l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ode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iomass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anism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bben stikstof nodig daar h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tanddeel is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minozur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eiwit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DN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o-enzym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 de totale hoeveelheid aanwezige stikstof op aarde (1015 t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vindt zich 99 % i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ardatmosfe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en special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in het bijzonder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yano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ikstofknolletjesbacteriën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famil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hizobiacea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bacteriën van het geslach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hizobiu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symbios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vlinderbloemig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planten kunnen de stikstof uit de lucht omzetten in nitra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le andere planten,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dier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men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unnen geen stikstof uit de lucht opnemen en zijn afhankelijk van de vastgelegde stikstof i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biosfe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354240"/>
            <a:ext cx="76327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ring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stikstofkringloop bestaat uit de volgende process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stlegg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stikstof uit de lucht door special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in het bijzonder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yanobacterië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stikstofknolletjesbacteriën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amil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an 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hizobiacea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bacteriën van het geslacht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hizobium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de wortelknolletjes van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linderbloemig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plan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sch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omen voor de plant do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braak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rganisch materia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oor organismen, z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cteriën,schimmels en die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mmonificat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trific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nam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oor de pl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braak door bacteriën v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nitrific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7:14:48Z</dcterms:created>
  <dc:creator>bertusherman</dc:creator>
  <dc:description/>
  <dc:language>en-US</dc:language>
  <cp:lastModifiedBy>bertusherman</cp:lastModifiedBy>
  <dcterms:modified xsi:type="dcterms:W3CDTF">2010-02-26T21:30:34Z</dcterms:modified>
  <cp:revision>2</cp:revision>
  <dc:subject/>
  <dc:title>Dia 1</dc:title>
</cp:coreProperties>
</file>