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85A-117C-442B-BF06-4C939228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CF4-4F65-46CD-BFEA-0CA2D8EB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5B5-A183-4509-9199-57C65CE6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246-0A98-4D52-A9A9-577ED8E1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841-CE3A-4185-864A-15EA8C69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973-13B6-46D2-A241-8FB1DB52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5CB-2F76-42FF-A66D-AC4C746C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4C0-563D-426A-95CD-C7C0723C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7E0-1AF8-42A3-9E63-84BC02A1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FF5-D95A-4CE2-B462-49598598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CA4-A703-4441-98DF-ECF0B16C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DF2-AAB4-4770-B039-712C6D37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C54D-50B3-4E5A-BBDA-A020C280399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wbesusterengraetheide.nl/Roofvogels/buizerd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hyperlink" Target="http://www.wbesusterengraetheide.nl/Roofvogels/buizerd.jpg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caskwidge.com/shop/images/thermometer.gif"/>
          <p:cNvPicPr/>
          <p:nvPr/>
        </p:nvPicPr>
        <p:blipFill>
          <a:blip r:embed="rId1"/>
          <a:stretch/>
        </p:blipFill>
        <p:spPr>
          <a:xfrm>
            <a:off x="500040" y="3429000"/>
            <a:ext cx="2013120" cy="2125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bladluis.jpg"/>
          <p:cNvPicPr/>
          <p:nvPr/>
        </p:nvPicPr>
        <p:blipFill>
          <a:blip r:embed="rId2"/>
          <a:stretch/>
        </p:blipFill>
        <p:spPr>
          <a:xfrm>
            <a:off x="0" y="1000080"/>
            <a:ext cx="3143160" cy="2189160"/>
          </a:xfrm>
          <a:prstGeom prst="rect">
            <a:avLst/>
          </a:prstGeom>
          <a:ln w="0">
            <a:noFill/>
          </a:ln>
        </p:spPr>
      </p:pic>
      <p:sp>
        <p:nvSpPr>
          <p:cNvPr id="43" name="Line 4"/>
          <p:cNvSpPr/>
          <p:nvPr/>
        </p:nvSpPr>
        <p:spPr>
          <a:xfrm>
            <a:off x="395280" y="328464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12000" y="328464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4360" y="76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Bio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128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natuurwetenschappen.be/expo/ccbb/images/coccinel-03.jpg"/>
          <p:cNvPicPr/>
          <p:nvPr/>
        </p:nvPicPr>
        <p:blipFill>
          <a:blip r:embed="rId3"/>
          <a:stretch/>
        </p:blipFill>
        <p:spPr>
          <a:xfrm>
            <a:off x="2643120" y="2214720"/>
            <a:ext cx="3629160" cy="253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ravagedigitaal.org/2006/mei/db5mier.jpg"/>
          <p:cNvPicPr/>
          <p:nvPr/>
        </p:nvPicPr>
        <p:blipFill>
          <a:blip r:embed="rId4"/>
          <a:stretch/>
        </p:blipFill>
        <p:spPr>
          <a:xfrm>
            <a:off x="3071880" y="214200"/>
            <a:ext cx="1685880" cy="16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sel.barc.usda.gov/hym/chalcids/Elachertus.gif"/>
          <p:cNvPicPr/>
          <p:nvPr/>
        </p:nvPicPr>
        <p:blipFill>
          <a:blip r:embed="rId5"/>
          <a:stretch/>
        </p:blipFill>
        <p:spPr>
          <a:xfrm>
            <a:off x="6429240" y="214200"/>
            <a:ext cx="214344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schoonheidssalon-friss.nl/uploads/images/waterdruppelCleanP17.jpg"/>
          <p:cNvPicPr/>
          <p:nvPr/>
        </p:nvPicPr>
        <p:blipFill>
          <a:blip r:embed="rId6"/>
          <a:stretch/>
        </p:blipFill>
        <p:spPr>
          <a:xfrm>
            <a:off x="6357960" y="4935600"/>
            <a:ext cx="2786040" cy="19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images.smulweb.nl/leden/ruthbrock/draaiende%20zon.gif.jpg"/>
          <p:cNvPicPr/>
          <p:nvPr/>
        </p:nvPicPr>
        <p:blipFill>
          <a:blip r:embed="rId7"/>
          <a:stretch/>
        </p:blipFill>
        <p:spPr>
          <a:xfrm>
            <a:off x="2786040" y="4857840"/>
            <a:ext cx="1643040" cy="1807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6860880" y="23572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ed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358560" y="250020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ed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4222080" y="50004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curr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http://www.fietjewaarom.nl/Fietje_Waarom/seizoen/voorjaar-2005/imgs_voorjaar_2005/imgs_minimolen/windmolen-op-stok.jpg"/>
          <p:cNvPicPr/>
          <p:nvPr/>
        </p:nvPicPr>
        <p:blipFill>
          <a:blip r:embed="rId8"/>
          <a:stretch/>
        </p:blipFill>
        <p:spPr>
          <a:xfrm>
            <a:off x="4714920" y="4786200"/>
            <a:ext cx="1643040" cy="1670040"/>
          </a:xfrm>
          <a:prstGeom prst="rect">
            <a:avLst/>
          </a:prstGeom>
          <a:ln w="0">
            <a:noFill/>
          </a:ln>
        </p:spPr>
      </p:pic>
      <p:sp>
        <p:nvSpPr>
          <p:cNvPr id="56" name="Right Arrow 18"/>
          <p:cNvSpPr/>
          <p:nvPr/>
        </p:nvSpPr>
        <p:spPr>
          <a:xfrm rot="1819800">
            <a:off x="2287080" y="2306520"/>
            <a:ext cx="785880" cy="500040"/>
          </a:xfrm>
          <a:prstGeom prst="rightArrow">
            <a:avLst>
              <a:gd name="adj1" fmla="val 50000"/>
              <a:gd name="adj2" fmla="val 568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19"/>
          <p:cNvSpPr/>
          <p:nvPr/>
        </p:nvSpPr>
        <p:spPr>
          <a:xfrm>
            <a:off x="3857760" y="1714680"/>
            <a:ext cx="500040" cy="7855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20"/>
          <p:cNvSpPr/>
          <p:nvPr/>
        </p:nvSpPr>
        <p:spPr>
          <a:xfrm rot="3116400">
            <a:off x="5971320" y="1916640"/>
            <a:ext cx="500040" cy="7142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21"/>
          <p:cNvSpPr/>
          <p:nvPr/>
        </p:nvSpPr>
        <p:spPr>
          <a:xfrm rot="20615400">
            <a:off x="2126880" y="40194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22"/>
          <p:cNvSpPr/>
          <p:nvPr/>
        </p:nvSpPr>
        <p:spPr>
          <a:xfrm rot="16843800">
            <a:off x="3555720" y="454176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23"/>
          <p:cNvSpPr/>
          <p:nvPr/>
        </p:nvSpPr>
        <p:spPr>
          <a:xfrm rot="10257600">
            <a:off x="5405040" y="4398480"/>
            <a:ext cx="57168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24"/>
          <p:cNvSpPr/>
          <p:nvPr/>
        </p:nvSpPr>
        <p:spPr>
          <a:xfrm rot="8448000">
            <a:off x="6392520" y="3927600"/>
            <a:ext cx="500040" cy="14191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3864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214200" y="20001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Energieverlies do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ssimil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itwerps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fgestorven weef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Bent Arrow 4"/>
          <p:cNvSpPr/>
          <p:nvPr/>
        </p:nvSpPr>
        <p:spPr>
          <a:xfrm>
            <a:off x="2571840" y="31431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321469" y="53578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3"/>
                </a:lnTo>
                <a:lnTo>
                  <a:pt x="321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Bent Arrow 5"/>
          <p:cNvSpPr/>
          <p:nvPr/>
        </p:nvSpPr>
        <p:spPr>
          <a:xfrm>
            <a:off x="2786040" y="257184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321469" y="53578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3"/>
                </a:lnTo>
                <a:lnTo>
                  <a:pt x="321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Bent Arrow 6"/>
          <p:cNvSpPr/>
          <p:nvPr/>
        </p:nvSpPr>
        <p:spPr>
          <a:xfrm>
            <a:off x="2938320" y="20001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0" y="428625"/>
                </a:moveTo>
                <a:lnTo>
                  <a:pt x="0" y="241102"/>
                </a:lnTo>
                <a:lnTo>
                  <a:pt x="0" y="241102"/>
                </a:lnTo>
                <a:arcTo wR="187523" hR="187523" stAng="10800000" swAng="5400000"/>
                <a:lnTo>
                  <a:pt x="321469" y="53578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3"/>
                </a:lnTo>
                <a:lnTo>
                  <a:pt x="321469" y="160734"/>
                </a:lnTo>
                <a:lnTo>
                  <a:pt x="187523" y="160734"/>
                </a:lnTo>
                <a:lnTo>
                  <a:pt x="187523" y="160734"/>
                </a:lnTo>
                <a:arcTo wR="80367" hR="80367" stAng="-5400000" swAng="-5400000"/>
                <a:lnTo>
                  <a:pt x="107156" y="42862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71680" y="4500720"/>
            <a:ext cx="828648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1920" y="403200"/>
            <a:ext cx="902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7953120" cy="6387840"/>
          </a:xfrm>
          <a:prstGeom prst="rect">
            <a:avLst/>
          </a:prstGeom>
          <a:ln w="0">
            <a:noFill/>
          </a:ln>
        </p:spPr>
      </p:pic>
      <p:sp>
        <p:nvSpPr>
          <p:cNvPr id="144" name="Flowchart: Process 3"/>
          <p:cNvSpPr/>
          <p:nvPr/>
        </p:nvSpPr>
        <p:spPr>
          <a:xfrm>
            <a:off x="714240" y="5000760"/>
            <a:ext cx="8286840" cy="1857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1" descr="midden6"/>
          <p:cNvPicPr/>
          <p:nvPr/>
        </p:nvPicPr>
        <p:blipFill>
          <a:blip r:embed="rId1"/>
          <a:stretch/>
        </p:blipFill>
        <p:spPr>
          <a:xfrm>
            <a:off x="8459640" y="4869000"/>
            <a:ext cx="433440" cy="1512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bilanduse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4236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8" name="Picture 6" descr="koeenergieverlies"/>
          <p:cNvPicPr/>
          <p:nvPr/>
        </p:nvPicPr>
        <p:blipFill>
          <a:blip r:embed="rId3"/>
          <a:stretch/>
        </p:blipFill>
        <p:spPr>
          <a:xfrm>
            <a:off x="1116000" y="4581360"/>
            <a:ext cx="2879640" cy="2303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5292720" y="4869000"/>
            <a:ext cx="3600360" cy="14655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kost per kilo aan w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ppels: 90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rdappelen: 45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omaten: 43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Rundvlees: 4.700 l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>
            <a:off x="4859280" y="2997360"/>
            <a:ext cx="216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492360" y="342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schikt om 7x zoveel personen te voeden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w.mp3" descr=""/>
          <p:cNvPicPr/>
          <p:nvPr/>
        </p:nvPicPr>
        <p:blipFill>
          <a:blip r:embed="rId4"/>
          <a:stretch/>
        </p:blipFill>
        <p:spPr>
          <a:xfrm>
            <a:off x="356400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mediacall" presetID="1" repeatCount="3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638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04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hetleidschparkethuis.nl/images/olifant1.jpg"/>
          <p:cNvPicPr/>
          <p:nvPr/>
        </p:nvPicPr>
        <p:blipFill>
          <a:blip r:embed="rId1"/>
          <a:stretch/>
        </p:blipFill>
        <p:spPr>
          <a:xfrm>
            <a:off x="5643720" y="1214280"/>
            <a:ext cx="3209760" cy="3162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76092"/>
                </a:solidFill>
                <a:latin typeface="Calibri"/>
              </a:rPr>
              <a:t>Niveaus van de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-2160" y="1285920"/>
            <a:ext cx="46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Individu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(bv. Een olif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0" y="190512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Populatie</a:t>
            </a: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( kudde olif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nderling voort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3286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Levensgemeenschap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(populatie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lifanten met populatie leeuw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4429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Ecosysteem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(levensgemeenschap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-biotische factoren same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pt-BR" sz="3200" spc="-1" strike="noStrike">
                <a:solidFill>
                  <a:srgbClr val="ff0000"/>
                </a:solidFill>
                <a:latin typeface="Calibri"/>
              </a:rPr>
              <a:t>Biosfeer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(alle ecosystemen aarde sa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504d"/>
                </a:solidFill>
                <a:latin typeface="Calibri"/>
              </a:rPr>
              <a:t>Biotoop =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uniform gebied, geschikt voor bepaalde organismen bijv. naaldb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504d"/>
                </a:solidFill>
                <a:latin typeface="Calibri"/>
              </a:rPr>
              <a:t>Habitat=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de werkelijke ruimte bijv. de waterk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504d"/>
                </a:solidFill>
                <a:latin typeface="Calibri"/>
              </a:rPr>
              <a:t>Niche (nis)=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functionele plaats in een biotoop/ecosysteem bij. Voedsel, holen graver, roofdier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ec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76092"/>
                </a:solidFill>
                <a:latin typeface="Calibri"/>
              </a:rPr>
              <a:t>Voorbeeld: de rode eekhoo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oop = gemengde bossen en naaldbo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bitat = in en om de b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che = eten van nootvruchten, verstoppen hiervan (zaadverspreiding), voedsel voor roofvogels en vossen. Concurrent voor wilde zwijnen, muizen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eekhoorn"/>
          <p:cNvPicPr/>
          <p:nvPr/>
        </p:nvPicPr>
        <p:blipFill>
          <a:blip r:embed="rId1"/>
          <a:stretch/>
        </p:blipFill>
        <p:spPr>
          <a:xfrm>
            <a:off x="4788000" y="443700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76092"/>
                </a:solidFill>
                <a:latin typeface="Calibri"/>
              </a:rPr>
              <a:t>Voedselk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http://www.noordnet.be/bosvriendje/prod/images/rups.jpg"/>
          <p:cNvPicPr/>
          <p:nvPr/>
        </p:nvPicPr>
        <p:blipFill>
          <a:blip r:embed="rId1"/>
          <a:stretch/>
        </p:blipFill>
        <p:spPr>
          <a:xfrm>
            <a:off x="2714760" y="1571760"/>
            <a:ext cx="1923840" cy="199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De Buizerd komt veel voor in Nederland en vooral in de winter zijn er veel exemplaren waar te nemen alsook de overwinteraars hier zijn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72200" y="1428840"/>
            <a:ext cx="1643040" cy="225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www.agf.nl/nieuws/2008/0116/salanova1.jpg"/>
          <p:cNvPicPr/>
          <p:nvPr/>
        </p:nvPicPr>
        <p:blipFill>
          <a:blip r:embed="rId4"/>
          <a:stretch/>
        </p:blipFill>
        <p:spPr>
          <a:xfrm>
            <a:off x="285840" y="1857240"/>
            <a:ext cx="1869840" cy="1500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http://www.guidodevliegher.be/fotos/vo_Koolmees.jpg"/>
          <p:cNvPicPr/>
          <p:nvPr/>
        </p:nvPicPr>
        <p:blipFill>
          <a:blip r:embed="rId5"/>
          <a:stretch/>
        </p:blipFill>
        <p:spPr>
          <a:xfrm>
            <a:off x="4643280" y="1714680"/>
            <a:ext cx="2276640" cy="159516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8"/>
          <p:cNvSpPr/>
          <p:nvPr/>
        </p:nvSpPr>
        <p:spPr>
          <a:xfrm>
            <a:off x="228600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9"/>
          <p:cNvSpPr/>
          <p:nvPr/>
        </p:nvSpPr>
        <p:spPr>
          <a:xfrm>
            <a:off x="407196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ight Arrow 10"/>
          <p:cNvSpPr/>
          <p:nvPr/>
        </p:nvSpPr>
        <p:spPr>
          <a:xfrm>
            <a:off x="628668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719280" y="1071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du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293544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474660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96132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1005480" y="4857840"/>
            <a:ext cx="73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Autotroof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=  kunnen zelf hun organische stoffen maken  (fotosyn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Heterotroof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= andere organismen nodig om aan organische stoffen te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428760" y="37861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Autotroof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             Heterotroof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ff0000"/>
                </a:solidFill>
                <a:latin typeface="Calibri"/>
              </a:rPr>
              <a:t>              Heterotroof                  Heterot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76092"/>
                </a:solidFill>
                <a:latin typeface="Calibri"/>
              </a:rPr>
              <a:t>Voedselweb/voedsel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no-smell.com/foto/konijn.jpg"/>
          <p:cNvPicPr/>
          <p:nvPr/>
        </p:nvPicPr>
        <p:blipFill>
          <a:blip r:embed="rId1"/>
          <a:stretch/>
        </p:blipFill>
        <p:spPr>
          <a:xfrm>
            <a:off x="3714840" y="3857760"/>
            <a:ext cx="1689120" cy="1734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oordnet.be/bosvriendje/prod/images/rups.jpg"/>
          <p:cNvPicPr/>
          <p:nvPr/>
        </p:nvPicPr>
        <p:blipFill>
          <a:blip r:embed="rId2"/>
          <a:stretch/>
        </p:blipFill>
        <p:spPr>
          <a:xfrm>
            <a:off x="2714760" y="1571760"/>
            <a:ext cx="1923840" cy="199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e Buizerd komt veel voor in Nederland en vooral in de winter zijn er veel exemplaren waar te nemen alsook de overwinteraars hier zijn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72200" y="1428840"/>
            <a:ext cx="1643040" cy="225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://www.agf.nl/nieuws/2008/0116/salanova1.jpg"/>
          <p:cNvPicPr/>
          <p:nvPr/>
        </p:nvPicPr>
        <p:blipFill>
          <a:blip r:embed="rId5"/>
          <a:stretch/>
        </p:blipFill>
        <p:spPr>
          <a:xfrm>
            <a:off x="285840" y="1857240"/>
            <a:ext cx="1869840" cy="1500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www.guidodevliegher.be/fotos/vo_Koolmees.jpg"/>
          <p:cNvPicPr/>
          <p:nvPr/>
        </p:nvPicPr>
        <p:blipFill>
          <a:blip r:embed="rId6"/>
          <a:stretch/>
        </p:blipFill>
        <p:spPr>
          <a:xfrm>
            <a:off x="4643280" y="1714680"/>
            <a:ext cx="2276640" cy="1595160"/>
          </a:xfrm>
          <a:prstGeom prst="rect">
            <a:avLst/>
          </a:prstGeom>
          <a:ln w="0">
            <a:noFill/>
          </a:ln>
        </p:spPr>
      </p:pic>
      <p:sp>
        <p:nvSpPr>
          <p:cNvPr id="94" name="Right Arrow 8"/>
          <p:cNvSpPr/>
          <p:nvPr/>
        </p:nvSpPr>
        <p:spPr>
          <a:xfrm>
            <a:off x="228600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9"/>
          <p:cNvSpPr/>
          <p:nvPr/>
        </p:nvSpPr>
        <p:spPr>
          <a:xfrm>
            <a:off x="407196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10"/>
          <p:cNvSpPr/>
          <p:nvPr/>
        </p:nvSpPr>
        <p:spPr>
          <a:xfrm>
            <a:off x="6286680" y="242892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719280" y="1071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du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93544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474660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6961320" y="9288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s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nl-NL" sz="1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5"/>
          <p:cNvSpPr/>
          <p:nvPr/>
        </p:nvSpPr>
        <p:spPr>
          <a:xfrm rot="2097000">
            <a:off x="2115720" y="3807000"/>
            <a:ext cx="1428840" cy="35712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ight Arrow 16"/>
          <p:cNvSpPr/>
          <p:nvPr/>
        </p:nvSpPr>
        <p:spPr>
          <a:xfrm rot="20445000">
            <a:off x="5583240" y="4130640"/>
            <a:ext cx="171432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76092"/>
                </a:solidFill>
                <a:latin typeface="Calibri"/>
              </a:rPr>
              <a:t>KRINGLOOP VAN STOFF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1800" y="5181480"/>
            <a:ext cx="163620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PRODU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247520" y="5181480"/>
            <a:ext cx="147168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REDU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560" y="1752480"/>
            <a:ext cx="1751760" cy="64260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CONSU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2E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57560" y="3657600"/>
            <a:ext cx="1751760" cy="64260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CONSU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1E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998400" y="1752480"/>
            <a:ext cx="1700280" cy="64260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CONSUM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3E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342920" y="3657600"/>
            <a:ext cx="136656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AFVAL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217320" y="594360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AN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RGANISCHE STO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2"/>
          <p:cNvSpPr/>
          <p:nvPr/>
        </p:nvSpPr>
        <p:spPr>
          <a:xfrm>
            <a:off x="914400" y="5562720"/>
            <a:ext cx="1523880" cy="6379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960" h="402">
                <a:moveTo>
                  <a:pt x="960" y="384"/>
                </a:moveTo>
                <a:lnTo>
                  <a:pt x="12" y="402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V="1">
            <a:off x="914400" y="44197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V="1">
            <a:off x="914400" y="27428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3276720" y="198108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7924680" y="27432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8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666880" y="5410080"/>
            <a:ext cx="3962520" cy="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 flipV="1">
            <a:off x="2666880" y="3962520"/>
            <a:ext cx="4114800" cy="129528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2714760" y="4143240"/>
            <a:ext cx="3914640" cy="1114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2690640" y="3929040"/>
            <a:ext cx="38102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8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2714760" y="2357280"/>
            <a:ext cx="3838320" cy="137664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>
            <a:off x="2685960" y="2133720"/>
            <a:ext cx="3886200" cy="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7924680" y="2743200"/>
            <a:ext cx="0" cy="76212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7924680" y="4267080"/>
            <a:ext cx="0" cy="838440"/>
          </a:xfrm>
          <a:prstGeom prst="line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4"/>
          <p:cNvSpPr/>
          <p:nvPr/>
        </p:nvSpPr>
        <p:spPr>
          <a:xfrm>
            <a:off x="6705720" y="5638680"/>
            <a:ext cx="1218960" cy="5335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lnTo>
                  <a:pt x="753" y="336"/>
                </a:lnTo>
                <a:lnTo>
                  <a:pt x="0" y="336"/>
                </a:lnTo>
              </a:path>
            </a:pathLst>
          </a:custGeom>
          <a:noFill/>
          <a:ln w="7632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2714760" y="2000160"/>
            <a:ext cx="4143240" cy="31813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7"/>
          <p:cNvSpPr/>
          <p:nvPr/>
        </p:nvSpPr>
        <p:spPr>
          <a:xfrm>
            <a:off x="6934320" y="2286000"/>
            <a:ext cx="0" cy="297180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1240" y="257040"/>
            <a:ext cx="9175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6:53:53Z</dcterms:created>
  <dc:creator>Jarco Smeenk</dc:creator>
  <dc:description/>
  <dc:language>en-US</dc:language>
  <cp:lastModifiedBy>Ria</cp:lastModifiedBy>
  <dcterms:modified xsi:type="dcterms:W3CDTF">2012-03-09T18:49:42Z</dcterms:modified>
  <cp:revision>18</cp:revision>
  <dc:subject/>
  <dc:title>Slide 1</dc:title>
</cp:coreProperties>
</file>