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gif" ContentType="image/gif"/>
  <Override PartName="/ppt/media/image5.jpeg" ContentType="image/jpeg"/>
  <Override PartName="/ppt/media/image13.gif" ContentType="image/gif"/>
  <Override PartName="/ppt/media/image16.jpeg" ContentType="image/jpeg"/>
  <Override PartName="/ppt/media/image19.gif" ContentType="image/gif"/>
  <Override PartName="/ppt/media/image1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3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5DC-3C13-446B-98B1-4E853412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11D-6D96-49F6-99B5-1C94487B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379-0552-403E-B818-2D0EFFF5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55F-F207-414D-BFBE-A6522465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A03-9C3C-4C42-8A6D-FC37E54F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C2C-3641-4EA6-96EF-61EDFDF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D0-7675-4201-9DBB-CD15CD03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873-ED5C-4A6E-A672-2F7F79DA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B99-B7EE-4314-AB9E-E7F5449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4E5-C98D-4B98-9B4B-C7CA5493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684-E6E8-45E6-AF50-B3BC378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9EC-E951-4451-8FF8-DD92178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37B-3474-41CE-9A69-AD725CB235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143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eeinzicht.nl/vleet/content/ned/?use_template=ecomare.html&amp;item=planten&amp;pageid=NED0336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w.plankenkoorts.com/fotos/surfaris/Ierland2004/origineel/4.Brandon%20Bay%20Zandstrand.jpg"/>
          <p:cNvPicPr/>
          <p:nvPr/>
        </p:nvPicPr>
        <p:blipFill>
          <a:blip r:embed="rId1"/>
          <a:stretch/>
        </p:blipFill>
        <p:spPr>
          <a:xfrm>
            <a:off x="0" y="0"/>
            <a:ext cx="9818640" cy="7215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animatiesite.nl/hpbimg/vogel%20vliegt.gif"/>
          <p:cNvPicPr/>
          <p:nvPr/>
        </p:nvPicPr>
        <p:blipFill>
          <a:blip r:embed="rId2"/>
          <a:stretch/>
        </p:blipFill>
        <p:spPr>
          <a:xfrm>
            <a:off x="6286680" y="1071720"/>
            <a:ext cx="1428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lh4.ggpht.com/_tPStkbmZ6PU/SDHT2ncEjHI/AAAAAAAABLA/GxlnBMLP6z0/Korstmos+2+-+Maarn.jpg"/>
          <p:cNvPicPr/>
          <p:nvPr/>
        </p:nvPicPr>
        <p:blipFill>
          <a:blip r:embed="rId1"/>
          <a:stretch/>
        </p:blipFill>
        <p:spPr>
          <a:xfrm>
            <a:off x="-1673280" y="-357120"/>
            <a:ext cx="10817280" cy="7215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animatiesite.nl/hpbimg/vis%20duikend.gif"/>
          <p:cNvPicPr/>
          <p:nvPr/>
        </p:nvPicPr>
        <p:blipFill>
          <a:blip r:embed="rId2"/>
          <a:stretch/>
        </p:blipFill>
        <p:spPr>
          <a:xfrm>
            <a:off x="428760" y="1357200"/>
            <a:ext cx="198108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limax"/>
          <p:cNvPicPr/>
          <p:nvPr/>
        </p:nvPicPr>
        <p:blipFill>
          <a:blip r:embed="rId1"/>
          <a:stretch/>
        </p:blipFill>
        <p:spPr>
          <a:xfrm>
            <a:off x="-1571760" y="-2143080"/>
            <a:ext cx="12766680" cy="9715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max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www.animatiesite.nl/hpbimg/vlinder%20blauw.gif"/>
          <p:cNvPicPr/>
          <p:nvPr/>
        </p:nvPicPr>
        <p:blipFill>
          <a:blip r:embed="rId2"/>
          <a:stretch/>
        </p:blipFill>
        <p:spPr>
          <a:xfrm>
            <a:off x="6786720" y="16430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Verandering bioma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mac122.icu.ac.jp/gen-ed/ecosystem-jpgs/succession2.jpg"/>
          <p:cNvPicPr/>
          <p:nvPr/>
        </p:nvPicPr>
        <p:blipFill>
          <a:blip r:embed="rId1"/>
          <a:stretch/>
        </p:blipFill>
        <p:spPr>
          <a:xfrm>
            <a:off x="0" y="1428840"/>
            <a:ext cx="8688240" cy="6000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5857920"/>
            <a:ext cx="1028700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://www.geography.hunter.cuny.edu/~tbw/ncc/chap4.wc/vegetation/plant.succession.jpg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4232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Pionierstadium        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c00000"/>
                </a:solidFill>
                <a:latin typeface="Arial"/>
              </a:rPr>
              <a:t>Climaxst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voudig voedselweb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gewikkeld voedsel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soorten in grote aanta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biodiversitei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name biomass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omassa blijft g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gelaagdhei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gelaag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kringl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oten kring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 wisselende abiotisch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e abiotische fac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ctoren (dus organismen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toleran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tabi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biel; natuurlijk evenw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-Right Arrow 5"/>
          <p:cNvSpPr/>
          <p:nvPr/>
        </p:nvSpPr>
        <p:spPr>
          <a:xfrm>
            <a:off x="3214800" y="500040"/>
            <a:ext cx="1428480" cy="28584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Prim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geen geschikte ondergrond (geen humus), helemaal vanaf het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de duinen, kale r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2400" spc="-1" strike="noStrike" u="sng">
                <a:solidFill>
                  <a:srgbClr val="c00000"/>
                </a:solidFill>
                <a:uFillTx/>
                <a:latin typeface="Arial"/>
              </a:rPr>
              <a:t>Secundaire success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; er is al een gunstige ondergrond (hu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. een verwaarloosd grasland, bos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ecopedia.be/data/images/frontend/wiki/successie.jpg"/>
          <p:cNvPicPr/>
          <p:nvPr/>
        </p:nvPicPr>
        <p:blipFill>
          <a:blip r:embed="rId1"/>
          <a:stretch/>
        </p:blipFill>
        <p:spPr>
          <a:xfrm>
            <a:off x="214200" y="5143680"/>
            <a:ext cx="864396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http://www.animatieplaatjes.nl/plaatjesI/insecten7.gif"/>
          <p:cNvPicPr/>
          <p:nvPr/>
        </p:nvPicPr>
        <p:blipFill>
          <a:blip r:embed="rId2"/>
          <a:stretch/>
        </p:blipFill>
        <p:spPr>
          <a:xfrm>
            <a:off x="6143760" y="1643040"/>
            <a:ext cx="1428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Duintjes met zeepostelein.&#13;Foto Sytske Dijksen&#13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919240" y="-142920"/>
            <a:ext cx="12887280" cy="7143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estarwegras, Elymus farctus, Sand couch, Agropyre a feuilles de jonc, Strandquecke (Binsenquecke), Strandkvik.&#13;Photo: Sytske Dijks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120760" y="0"/>
            <a:ext cx="11312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lik voor een afbeelding in hogere kwaliteit"/>
          <p:cNvPicPr/>
          <p:nvPr/>
        </p:nvPicPr>
        <p:blipFill>
          <a:blip r:embed="rId1"/>
          <a:stretch/>
        </p:blipFill>
        <p:spPr>
          <a:xfrm>
            <a:off x="-285840" y="0"/>
            <a:ext cx="12093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animatieplaatjes.nl/plaatjesS/spin15.gif"/>
          <p:cNvPicPr/>
          <p:nvPr/>
        </p:nvPicPr>
        <p:blipFill>
          <a:blip r:embed="rId2"/>
          <a:stretch/>
        </p:blipFill>
        <p:spPr>
          <a:xfrm>
            <a:off x="3286080" y="5000760"/>
            <a:ext cx="90504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uinflora&#13;Foto van Sytske Dijksen, © Foto Fitis:&#13; www.fotofitis.nl&#13; "/>
          <p:cNvPicPr/>
          <p:nvPr/>
        </p:nvPicPr>
        <p:blipFill>
          <a:blip r:embed="rId1"/>
          <a:stretch/>
        </p:blipFill>
        <p:spPr>
          <a:xfrm>
            <a:off x="-785880" y="0"/>
            <a:ext cx="12087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http://home.hccnet.nl/c.j.krul/gif/dieren/wesp.gif"/>
          <p:cNvPicPr/>
          <p:nvPr/>
        </p:nvPicPr>
        <p:blipFill>
          <a:blip r:embed="rId2"/>
          <a:stretch/>
        </p:blipFill>
        <p:spPr>
          <a:xfrm>
            <a:off x="3571920" y="4143240"/>
            <a:ext cx="666720" cy="83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i38.photobucket.com/albums/e122/demona000/duinen_crop0771.jpg"/>
          <p:cNvPicPr/>
          <p:nvPr/>
        </p:nvPicPr>
        <p:blipFill>
          <a:blip r:embed="rId1"/>
          <a:stretch/>
        </p:blipFill>
        <p:spPr>
          <a:xfrm>
            <a:off x="-500040" y="-357120"/>
            <a:ext cx="10761480" cy="7715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ucce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ontwikkeling biotoop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Rectangle 5"/>
          <p:cNvSpPr/>
          <p:nvPr/>
        </p:nvSpPr>
        <p:spPr>
          <a:xfrm>
            <a:off x="357120" y="1857240"/>
            <a:ext cx="78580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 rot="20780400">
            <a:off x="533520" y="2133720"/>
            <a:ext cx="4572000" cy="1066680"/>
          </a:xfrm>
          <a:prstGeom prst="rightArrow">
            <a:avLst>
              <a:gd name="adj1" fmla="val 50000"/>
              <a:gd name="adj2" fmla="val 1071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en beginnende veget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an zich ontwikkelen van enkele pioniers tot een soortenrijk ecosysteem. Het eindstadium van deze successie heet climaxvegeta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ionierplanten beïnvloed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biotische milieufactoren waardoor er ruimte komt voor de andere soo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uccessie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en opeenvolging van verschillende plantensoorten en diersoorten in een bepaald gebied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bij braakliggend terrein en nieuw land (opgespoten of eilanden).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iped Right Arrow 5"/>
          <p:cNvSpPr/>
          <p:nvPr/>
        </p:nvSpPr>
        <p:spPr>
          <a:xfrm rot="5400000">
            <a:off x="4107240" y="26535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2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0" y="107156"/>
                </a:lnTo>
                <a:lnTo>
                  <a:pt x="285750" y="0"/>
                </a:lnTo>
                <a:lnTo>
                  <a:pt x="500062" y="214313"/>
                </a:lnTo>
                <a:lnTo>
                  <a:pt x="285750" y="428625"/>
                </a:lnTo>
                <a:lnTo>
                  <a:pt x="285750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iped Right Arrow 6"/>
          <p:cNvSpPr/>
          <p:nvPr/>
        </p:nvSpPr>
        <p:spPr>
          <a:xfrm rot="5400000">
            <a:off x="4107240" y="4010760"/>
            <a:ext cx="500040" cy="428760"/>
          </a:xfrm>
          <a:custGeom>
            <a:avLst/>
            <a:gdLst>
              <a:gd name="textAreaLeft" fmla="*/ 66960 w 500040"/>
              <a:gd name="textAreaRight" fmla="*/ 393120 w 50004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00063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285751" y="107156"/>
                </a:lnTo>
                <a:lnTo>
                  <a:pt x="285751" y="0"/>
                </a:lnTo>
                <a:lnTo>
                  <a:pt x="500063" y="214313"/>
                </a:lnTo>
                <a:lnTo>
                  <a:pt x="285751" y="428625"/>
                </a:lnTo>
                <a:lnTo>
                  <a:pt x="285751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nl-NL" sz="4400" spc="-1" strike="noStrike">
                <a:solidFill>
                  <a:srgbClr val="c00000"/>
                </a:solidFill>
                <a:latin typeface="Arial"/>
              </a:rPr>
              <a:t>Samengev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fbeelding:Golden-Wond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785880" y="357120"/>
            <a:ext cx="8001000" cy="581400"/>
          </a:xfrm>
          <a:prstGeom prst="rect">
            <a:avLst/>
          </a:prstGeom>
          <a:solidFill>
            <a:srgbClr val="ffffff">
              <a:alpha val="64000"/>
            </a:srgbClr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niersecosyst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1:51:46Z</dcterms:created>
  <dc:creator>KSE</dc:creator>
  <dc:description/>
  <dc:language>en-US</dc:language>
  <cp:lastModifiedBy>Ria</cp:lastModifiedBy>
  <dcterms:modified xsi:type="dcterms:W3CDTF">2012-03-09T18:53:13Z</dcterms:modified>
  <cp:revision>50</cp:revision>
  <dc:subject/>
  <dc:title>Successie</dc:title>
</cp:coreProperties>
</file>