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8DB-4681-43E5-80A7-A0E43CB1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7D0-E9E8-4432-A7BE-3392C78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F0C-486B-4612-B897-428F273D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5B6-7D2A-44BF-A7FE-4EA3728B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0F6-F3A8-4336-A153-38FEB5C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98E-A78A-44A2-986C-FECA247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01D-D985-428F-A24A-6097468A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CCA-5770-4F83-B016-6E6BDC24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772-FFFF-4BA1-A473-600A35CC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1A1-AAFB-42D7-9569-79B72F5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12E-CE0B-42B8-B827-AEEF2CD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908-AC24-4F6A-9E63-E727222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A07-67ED-421E-84CC-D72A4B275F7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wbesusterengraetheide.nl/Roofvogels/buizerd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hyperlink" Target="http://www.wbesusterengraetheide.nl/Roofvogels/buizerd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caskwidge.com/shop/images/thermometer.gif"/>
          <p:cNvPicPr/>
          <p:nvPr/>
        </p:nvPicPr>
        <p:blipFill>
          <a:blip r:embed="rId1"/>
          <a:stretch/>
        </p:blipFill>
        <p:spPr>
          <a:xfrm>
            <a:off x="500040" y="3429000"/>
            <a:ext cx="2013120" cy="2125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bladluis.jpg"/>
          <p:cNvPicPr/>
          <p:nvPr/>
        </p:nvPicPr>
        <p:blipFill>
          <a:blip r:embed="rId2"/>
          <a:stretch/>
        </p:blipFill>
        <p:spPr>
          <a:xfrm>
            <a:off x="0" y="1000080"/>
            <a:ext cx="3143160" cy="2189160"/>
          </a:xfrm>
          <a:prstGeom prst="rect">
            <a:avLst/>
          </a:prstGeom>
          <a:ln w="0">
            <a:noFill/>
          </a:ln>
        </p:spPr>
      </p:pic>
      <p:sp>
        <p:nvSpPr>
          <p:cNvPr id="43" name="Line 4"/>
          <p:cNvSpPr/>
          <p:nvPr/>
        </p:nvSpPr>
        <p:spPr>
          <a:xfrm>
            <a:off x="395280" y="3284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12000" y="328464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436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natuurwetenschappen.be/expo/ccbb/images/coccinel-03.jpg"/>
          <p:cNvPicPr/>
          <p:nvPr/>
        </p:nvPicPr>
        <p:blipFill>
          <a:blip r:embed="rId3"/>
          <a:stretch/>
        </p:blipFill>
        <p:spPr>
          <a:xfrm>
            <a:off x="2643120" y="2214720"/>
            <a:ext cx="3629160" cy="253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ravagedigitaal.org/2006/mei/db5mier.jpg"/>
          <p:cNvPicPr/>
          <p:nvPr/>
        </p:nvPicPr>
        <p:blipFill>
          <a:blip r:embed="rId4"/>
          <a:stretch/>
        </p:blipFill>
        <p:spPr>
          <a:xfrm>
            <a:off x="3071880" y="214200"/>
            <a:ext cx="168588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sel.barc.usda.gov/hym/chalcids/Elachertus.gif"/>
          <p:cNvPicPr/>
          <p:nvPr/>
        </p:nvPicPr>
        <p:blipFill>
          <a:blip r:embed="rId5"/>
          <a:stretch/>
        </p:blipFill>
        <p:spPr>
          <a:xfrm>
            <a:off x="6429240" y="214200"/>
            <a:ext cx="21434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schoonheidssalon-friss.nl/uploads/images/waterdruppelCleanP17.jpg"/>
          <p:cNvPicPr/>
          <p:nvPr/>
        </p:nvPicPr>
        <p:blipFill>
          <a:blip r:embed="rId6"/>
          <a:stretch/>
        </p:blipFill>
        <p:spPr>
          <a:xfrm>
            <a:off x="6357960" y="4935600"/>
            <a:ext cx="2786040" cy="19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ages.smulweb.nl/leden/ruthbrock/draaiende%20zon.gif.jpg"/>
          <p:cNvPicPr/>
          <p:nvPr/>
        </p:nvPicPr>
        <p:blipFill>
          <a:blip r:embed="rId7"/>
          <a:stretch/>
        </p:blipFill>
        <p:spPr>
          <a:xfrm>
            <a:off x="2786040" y="4857840"/>
            <a:ext cx="1643040" cy="180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6860880" y="2357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e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58560" y="25002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ed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222080" y="50004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curr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://www.fietjewaarom.nl/Fietje_Waarom/seizoen/voorjaar-2005/imgs_voorjaar_2005/imgs_minimolen/windmolen-op-stok.jpg"/>
          <p:cNvPicPr/>
          <p:nvPr/>
        </p:nvPicPr>
        <p:blipFill>
          <a:blip r:embed="rId8"/>
          <a:stretch/>
        </p:blipFill>
        <p:spPr>
          <a:xfrm>
            <a:off x="4714920" y="4786200"/>
            <a:ext cx="1643040" cy="1670040"/>
          </a:xfrm>
          <a:prstGeom prst="rect">
            <a:avLst/>
          </a:prstGeom>
          <a:ln w="0">
            <a:noFill/>
          </a:ln>
        </p:spPr>
      </p:pic>
      <p:sp>
        <p:nvSpPr>
          <p:cNvPr id="56" name="Right Arrow 18"/>
          <p:cNvSpPr/>
          <p:nvPr/>
        </p:nvSpPr>
        <p:spPr>
          <a:xfrm rot="1819800">
            <a:off x="2287080" y="2306520"/>
            <a:ext cx="785880" cy="500040"/>
          </a:xfrm>
          <a:prstGeom prst="rightArrow">
            <a:avLst>
              <a:gd name="adj1" fmla="val 50000"/>
              <a:gd name="adj2" fmla="val 568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9"/>
          <p:cNvSpPr/>
          <p:nvPr/>
        </p:nvSpPr>
        <p:spPr>
          <a:xfrm>
            <a:off x="3857760" y="1714680"/>
            <a:ext cx="500040" cy="7855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20"/>
          <p:cNvSpPr/>
          <p:nvPr/>
        </p:nvSpPr>
        <p:spPr>
          <a:xfrm rot="3116400">
            <a:off x="5971320" y="191664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21"/>
          <p:cNvSpPr/>
          <p:nvPr/>
        </p:nvSpPr>
        <p:spPr>
          <a:xfrm rot="20615400">
            <a:off x="2126880" y="40194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22"/>
          <p:cNvSpPr/>
          <p:nvPr/>
        </p:nvSpPr>
        <p:spPr>
          <a:xfrm rot="16843800">
            <a:off x="3555720" y="454176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23"/>
          <p:cNvSpPr/>
          <p:nvPr/>
        </p:nvSpPr>
        <p:spPr>
          <a:xfrm rot="10257600">
            <a:off x="5405040" y="4398480"/>
            <a:ext cx="57168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24"/>
          <p:cNvSpPr/>
          <p:nvPr/>
        </p:nvSpPr>
        <p:spPr>
          <a:xfrm rot="8448000">
            <a:off x="6392520" y="3927600"/>
            <a:ext cx="500040" cy="14191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864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214200" y="20001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Energieverlies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ssimi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itwerps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fgestorv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ent Arrow 4"/>
          <p:cNvSpPr/>
          <p:nvPr/>
        </p:nvSpPr>
        <p:spPr>
          <a:xfrm>
            <a:off x="2571840" y="31431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Bent Arrow 5"/>
          <p:cNvSpPr/>
          <p:nvPr/>
        </p:nvSpPr>
        <p:spPr>
          <a:xfrm>
            <a:off x="2786040" y="257184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ent Arrow 6"/>
          <p:cNvSpPr/>
          <p:nvPr/>
        </p:nvSpPr>
        <p:spPr>
          <a:xfrm>
            <a:off x="2938320" y="20001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71680" y="4500720"/>
            <a:ext cx="828648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920" y="403200"/>
            <a:ext cx="902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953120" cy="6387840"/>
          </a:xfrm>
          <a:prstGeom prst="rect">
            <a:avLst/>
          </a:prstGeom>
          <a:ln w="0">
            <a:noFill/>
          </a:ln>
        </p:spPr>
      </p:pic>
      <p:sp>
        <p:nvSpPr>
          <p:cNvPr id="144" name="Flowchart: Process 3"/>
          <p:cNvSpPr/>
          <p:nvPr/>
        </p:nvSpPr>
        <p:spPr>
          <a:xfrm>
            <a:off x="714240" y="5000760"/>
            <a:ext cx="8286840" cy="1857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midden6"/>
          <p:cNvPicPr/>
          <p:nvPr/>
        </p:nvPicPr>
        <p:blipFill>
          <a:blip r:embed="rId1"/>
          <a:stretch/>
        </p:blipFill>
        <p:spPr>
          <a:xfrm>
            <a:off x="8459640" y="4869000"/>
            <a:ext cx="43344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bilanduse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23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8" name="Picture 6" descr="koeenergieverlies"/>
          <p:cNvPicPr/>
          <p:nvPr/>
        </p:nvPicPr>
        <p:blipFill>
          <a:blip r:embed="rId3"/>
          <a:stretch/>
        </p:blipFill>
        <p:spPr>
          <a:xfrm>
            <a:off x="1116000" y="4581360"/>
            <a:ext cx="2879640" cy="23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5292720" y="4869000"/>
            <a:ext cx="3600360" cy="1465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kost per kilo aan w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ppels: 9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rdappelen: 45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omaten: 43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Rundvlees: 4.70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4859280" y="2997360"/>
            <a:ext cx="216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492360" y="342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schikt om 7x zoveel personen te voed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w.mp3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mediacall" presetID="1" repeatCount="3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63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0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hetleidschparkethuis.nl/images/olifant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209760" cy="3162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Niveaus van de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-2160" y="1285920"/>
            <a:ext cx="46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Individu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bv. Een olif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190512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Populatie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 kudde olif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nderling voort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3286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Levensgemeenschap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populatie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lifanten met populatie leeuw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4429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Ecosysteem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levensgemeenschap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-biotische factoren same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Biosfeer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alle ecosystemen aarde sa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Biotoop 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uniform gebied, geschikt voor bepaalde organismen bijv. naald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Habitat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de werkelijke ruimte bijv. de water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Niche (nis)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functionele plaats in een biotoop/ecosysteem bij. Voedsel, holen graver, roofdier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ec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orbeeld: de rode eekhoo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oop = gemengde bossen en naaldbo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bitat = in en om de b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che = eten van nootvruchten, verstoppen hiervan (zaadverspreiding), voedsel voor roofvogels en vossen. Concurrent voor wilde zwijnen, muizen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ekhoorn"/>
          <p:cNvPicPr/>
          <p:nvPr/>
        </p:nvPicPr>
        <p:blipFill>
          <a:blip r:embed="rId1"/>
          <a:stretch/>
        </p:blipFill>
        <p:spPr>
          <a:xfrm>
            <a:off x="4788000" y="443700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k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noordnet.be/bosvriendje/prod/images/rups.jpg"/>
          <p:cNvPicPr/>
          <p:nvPr/>
        </p:nvPicPr>
        <p:blipFill>
          <a:blip r:embed="rId1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e Buizerd komt veel voor in Nederland en vooral in de winter zijn er veel exemplaren waar te nemen alsook de overwinteraars hier zij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agf.nl/nieuws/2008/0116/salanova1.jpg"/>
          <p:cNvPicPr/>
          <p:nvPr/>
        </p:nvPicPr>
        <p:blipFill>
          <a:blip r:embed="rId4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www.guidodevliegher.be/fotos/vo_Koolmees.jpg"/>
          <p:cNvPicPr/>
          <p:nvPr/>
        </p:nvPicPr>
        <p:blipFill>
          <a:blip r:embed="rId5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005480" y="4857840"/>
            <a:ext cx="73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=  kunnen zelf hun organische stoffen maken  (fotosyn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Heterotroof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= andere organismen nodig om aan organische stoffen t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28760" y="37861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Heter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 Heterotroof                  Heterot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web/voedsel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no-smell.com/foto/konijn.jpg"/>
          <p:cNvPicPr/>
          <p:nvPr/>
        </p:nvPicPr>
        <p:blipFill>
          <a:blip r:embed="rId1"/>
          <a:stretch/>
        </p:blipFill>
        <p:spPr>
          <a:xfrm>
            <a:off x="3714840" y="3857760"/>
            <a:ext cx="1689120" cy="173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oordnet.be/bosvriendje/prod/images/rups.jpg"/>
          <p:cNvPicPr/>
          <p:nvPr/>
        </p:nvPicPr>
        <p:blipFill>
          <a:blip r:embed="rId2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e Buizerd komt veel voor in Nederland en vooral in de winter zijn er veel exemplaren waar te nemen alsook de overwinteraars hier zij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www.agf.nl/nieuws/2008/0116/salanova1.jpg"/>
          <p:cNvPicPr/>
          <p:nvPr/>
        </p:nvPicPr>
        <p:blipFill>
          <a:blip r:embed="rId5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www.guidodevliegher.be/fotos/vo_Koolmees.jpg"/>
          <p:cNvPicPr/>
          <p:nvPr/>
        </p:nvPicPr>
        <p:blipFill>
          <a:blip r:embed="rId6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5"/>
          <p:cNvSpPr/>
          <p:nvPr/>
        </p:nvSpPr>
        <p:spPr>
          <a:xfrm rot="2097000">
            <a:off x="2115720" y="3807000"/>
            <a:ext cx="142884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16"/>
          <p:cNvSpPr/>
          <p:nvPr/>
        </p:nvSpPr>
        <p:spPr>
          <a:xfrm rot="20445000">
            <a:off x="5583240" y="4130640"/>
            <a:ext cx="171432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KRINGLOOP VAN STOFF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800" y="5181480"/>
            <a:ext cx="163620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PRO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247520" y="5181480"/>
            <a:ext cx="147168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RE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560" y="175248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2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560" y="365760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1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98400" y="1752480"/>
            <a:ext cx="170028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3E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342920" y="3657600"/>
            <a:ext cx="136656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FVAL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217320" y="594360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N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GANISCHE 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914400" y="5562720"/>
            <a:ext cx="1523880" cy="6379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960" h="402">
                <a:moveTo>
                  <a:pt x="960" y="384"/>
                </a:moveTo>
                <a:lnTo>
                  <a:pt x="12" y="40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914400" y="44197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914400" y="27428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3276720" y="198108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666880" y="5410080"/>
            <a:ext cx="3962520" cy="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 flipV="1">
            <a:off x="2666880" y="3962520"/>
            <a:ext cx="4114800" cy="1295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714760" y="4143240"/>
            <a:ext cx="3914640" cy="111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2690640" y="3929040"/>
            <a:ext cx="38102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2714760" y="2357280"/>
            <a:ext cx="3838320" cy="13766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2685960" y="2133720"/>
            <a:ext cx="3886200" cy="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4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2714760" y="2000160"/>
            <a:ext cx="4143240" cy="31813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6934320" y="2286000"/>
            <a:ext cx="0" cy="29718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1240" y="257040"/>
            <a:ext cx="917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53:53Z</dcterms:created>
  <dc:creator>Jarco Smeenk</dc:creator>
  <dc:description/>
  <dc:language>en-US</dc:language>
  <cp:lastModifiedBy>Ria</cp:lastModifiedBy>
  <dcterms:modified xsi:type="dcterms:W3CDTF">2012-03-09T18:49:42Z</dcterms:modified>
  <cp:revision>18</cp:revision>
  <dc:subject/>
  <dc:title>Slide 1</dc:title>
</cp:coreProperties>
</file>