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3FA-3FEA-4D8A-8DBB-1610C05E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092-D6AB-4465-81C4-02FF520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9C4-D257-4064-937A-ABB7D7CE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811-EC09-4EB6-816F-78BF71A0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1F0-A02A-472C-A777-1736C8C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5A9-ADDE-4130-B5E8-D206BF1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DAB-E89A-4DE6-B9AF-324AE11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A73-2C10-4DAD-B598-ACBE4870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7D7-2426-484E-906E-A62CC8D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A83-EE0A-435C-AC07-AA2570B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AE6-EB63-4CD3-8D7C-166F2405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CF4-F893-49BE-B78C-8933A9E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9CD9-A999-4F5E-8F19-655274CCC7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ringloop" TargetMode="External"/><Relationship Id="rId2" Type="http://schemas.openxmlformats.org/officeDocument/2006/relationships/hyperlink" Target="http://nl.wikipedia.org/wiki/Koolstofdioxide" TargetMode="External"/><Relationship Id="rId3" Type="http://schemas.openxmlformats.org/officeDocument/2006/relationships/hyperlink" Target="http://nl.wikipedia.org/wiki/Aardatmosfeer" TargetMode="External"/><Relationship Id="rId4" Type="http://schemas.openxmlformats.org/officeDocument/2006/relationships/hyperlink" Target="http://nl.wikipedia.org/wiki/Fotosynthese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Kooldioxide" TargetMode="External"/><Relationship Id="rId7" Type="http://schemas.openxmlformats.org/officeDocument/2006/relationships/hyperlink" Target="http://nl.wikipedia.org/wiki/Koolhydraat" TargetMode="External"/><Relationship Id="rId8" Type="http://schemas.openxmlformats.org/officeDocument/2006/relationships/hyperlink" Target="http://nl.wikipedia.org/wiki/Dissimilatie_%28chemie%29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arbon_cycle-cute_diagram_Dutch_tex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nl.wikipedia.org/wiki/Afbeelding:Carbon_cycle-cute_diagram_Dutch_text.jp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nl.wikipedia.org/wiki/Antartica" TargetMode="External"/><Relationship Id="rId4" Type="http://schemas.openxmlformats.org/officeDocument/2006/relationships/slide" Target=""/><Relationship Id="rId5" Type="http://schemas.openxmlformats.org/officeDocument/2006/relationships/hyperlink" Target="http://nl.wikipedia.org/wiki/IJstijd" TargetMode="External"/><Relationship Id="rId6" Type="http://schemas.openxmlformats.org/officeDocument/2006/relationships/hyperlink" Target="http://nl.wikipedia.org/wiki/Interglaciaal" TargetMode="External"/><Relationship Id="rId7" Type="http://schemas.openxmlformats.org/officeDocument/2006/relationships/hyperlink" Target="http://nl.wikipedia.org/wiki/Industri&#235;le_revolutie" TargetMode="External"/><Relationship Id="rId8" Type="http://schemas.openxmlformats.org/officeDocument/2006/relationships/hyperlink" Target="http://nl.wikipedia.org/wiki/Mauna_Loa" TargetMode="External"/><Relationship Id="rId9" Type="http://schemas.openxmlformats.org/officeDocument/2006/relationships/hyperlink" Target="http://nl.wikipedia.org/wiki/Mauna_Loa" TargetMode="External"/><Relationship Id="rId10" Type="http://schemas.openxmlformats.org/officeDocument/2006/relationships/hyperlink" Target="http://nl.wikipedia.org/wiki/Mauna_Loa" TargetMode="External"/><Relationship Id="rId11" Type="http://schemas.openxmlformats.org/officeDocument/2006/relationships/hyperlink" Target="http://nl.wikipedia.org/wiki/Hawa&#239;" TargetMode="External"/><Relationship Id="rId12" Type="http://schemas.openxmlformats.org/officeDocument/2006/relationships/hyperlink" Target="http://nl.wikipedia.org/wiki/Opwarming_van_de_Aarde" TargetMode="External"/><Relationship Id="rId13" Type="http://schemas.openxmlformats.org/officeDocument/2006/relationships/hyperlink" Target="http://nl.wikipedia.org/wiki/Aardolie" TargetMode="External"/><Relationship Id="rId14" Type="http://schemas.openxmlformats.org/officeDocument/2006/relationships/hyperlink" Target="http://nl.wikipedia.org/wiki/Aardgas" TargetMode="External"/><Relationship Id="rId15" Type="http://schemas.openxmlformats.org/officeDocument/2006/relationships/hyperlink" Target="http://nl.wikipedia.org/wiki/Steenkool" TargetMode="External"/><Relationship Id="rId16" Type="http://schemas.openxmlformats.org/officeDocument/2006/relationships/hyperlink" Target="http://nl.wikipedia.org/wiki/Cement" TargetMode="External"/><Relationship Id="rId17" Type="http://schemas.openxmlformats.org/officeDocument/2006/relationships/slide" Target="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aadolie" TargetMode="External"/><Relationship Id="rId2" Type="http://schemas.openxmlformats.org/officeDocument/2006/relationships/hyperlink" Target="http://nl.wikipedia.org/wiki/Hout" TargetMode="External"/><Relationship Id="rId3" Type="http://schemas.openxmlformats.org/officeDocument/2006/relationships/hyperlink" Target="http://nl.wikipedia.org/w/index.php?title=Afbranden&amp;action=edi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hyperlink" Target="http://nl.wikipedia.org/wiki/Afbeelding:CO2Anstieg.png" TargetMode="External"/><Relationship Id="rId3" Type="http://schemas.openxmlformats.org/officeDocument/2006/relationships/hyperlink" Target="http://nl.wikipedia.org/wiki/Afbeelding:CO2Anstieg.pn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nl.wikipedia.org/wiki/Afbeelding:CO2Anstieg.pn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nl.wikipedia.org/wiki/Afbeelding:CO2Anstieg.png" TargetMode="External"/><Relationship Id="rId8" Type="http://schemas.openxmlformats.org/officeDocument/2006/relationships/hyperlink" Target="http://nl.wikipedia.org/wiki/Afbeelding:CO2Anstieg.png" TargetMode="External"/><Relationship Id="rId9" Type="http://schemas.openxmlformats.org/officeDocument/2006/relationships/hyperlink" Target="http://nl.wikipedia.org/wiki/Afbeelding:CO2Anstieg.png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nl.wikipedia.org/wiki/Afbeelding:CO2Anstieg.png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uur" TargetMode="External"/><Relationship Id="rId2" Type="http://schemas.openxmlformats.org/officeDocument/2006/relationships/hyperlink" Target="http://nl.wikipedia.org/wiki/PH" TargetMode="External"/><Relationship Id="rId3" Type="http://schemas.openxmlformats.org/officeDocument/2006/relationships/hyperlink" Target="http://nl.wikipedia.org/wiki/Kalksteen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ssimilatie" TargetMode="External"/><Relationship Id="rId2" Type="http://schemas.openxmlformats.org/officeDocument/2006/relationships/hyperlink" Target="http://nl.wikipedia.org/wiki/Dissimilatie" TargetMode="External"/><Relationship Id="rId3" Type="http://schemas.openxmlformats.org/officeDocument/2006/relationships/hyperlink" Target="http://nl.wikipedia.org/wiki/Detritus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iochemische_kringloop" TargetMode="External"/><Relationship Id="rId2" Type="http://schemas.openxmlformats.org/officeDocument/2006/relationships/hyperlink" Target="http://nl.wikipedia.org/wiki/Geochemie" TargetMode="External"/><Relationship Id="rId3" Type="http://schemas.openxmlformats.org/officeDocument/2006/relationships/hyperlink" Target="http://nl.wikipedia.org/wiki/Stikstof" TargetMode="External"/><Relationship Id="rId4" Type="http://schemas.openxmlformats.org/officeDocument/2006/relationships/hyperlink" Target="http://nl.wikipedia.org/wiki/Aardatmosfeer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Bodem" TargetMode="External"/><Relationship Id="rId7" Type="http://schemas.openxmlformats.org/officeDocument/2006/relationships/hyperlink" Target="http://nl.wikipedia.org/wiki/Biomassa" TargetMode="External"/><Relationship Id="rId8" Type="http://schemas.openxmlformats.org/officeDocument/2006/relationships/hyperlink" Target="http://nl.wikipedia.org/wiki/Organisme" TargetMode="External"/><Relationship Id="rId9" Type="http://schemas.openxmlformats.org/officeDocument/2006/relationships/hyperlink" Target="http://nl.wikipedia.org/wiki/Aminozuur" TargetMode="External"/><Relationship Id="rId10" Type="http://schemas.openxmlformats.org/officeDocument/2006/relationships/hyperlink" Target="http://nl.wikipedia.org/wiki/Prote&#239;ne" TargetMode="External"/><Relationship Id="rId11" Type="http://schemas.openxmlformats.org/officeDocument/2006/relationships/hyperlink" Target="http://nl.wikipedia.org/wiki/DNA" TargetMode="External"/><Relationship Id="rId12" Type="http://schemas.openxmlformats.org/officeDocument/2006/relationships/hyperlink" Target="http://nl.wikipedia.org/wiki/Co-enzym" TargetMode="External"/><Relationship Id="rId13" Type="http://schemas.openxmlformats.org/officeDocument/2006/relationships/hyperlink" Target="http://nl.wikipedia.org/wiki/Aardatmosfeer" TargetMode="External"/><Relationship Id="rId14" Type="http://schemas.openxmlformats.org/officeDocument/2006/relationships/hyperlink" Target="http://nl.wikipedia.org/wiki/Bacteri&#235;n" TargetMode="External"/><Relationship Id="rId15" Type="http://schemas.openxmlformats.org/officeDocument/2006/relationships/hyperlink" Target="http://nl.wikipedia.org/wiki/Cyanobacteri&#235;n" TargetMode="External"/><Relationship Id="rId16" Type="http://schemas.openxmlformats.org/officeDocument/2006/relationships/hyperlink" Target="http://nl.wikipedia.org/wiki/Familie_%28biologie%29" TargetMode="External"/><Relationship Id="rId17" Type="http://schemas.openxmlformats.org/officeDocument/2006/relationships/hyperlink" Target="http://nl.wikipedia.org/w/index.php?title=Rhizobiaceae&amp;action=edit" TargetMode="External"/><Relationship Id="rId18" Type="http://schemas.openxmlformats.org/officeDocument/2006/relationships/hyperlink" Target="http://nl.wikipedia.org/wiki/Rhizobium" TargetMode="External"/><Relationship Id="rId19" Type="http://schemas.openxmlformats.org/officeDocument/2006/relationships/hyperlink" Target="http://nl.wikipedia.org/wiki/Symbiose" TargetMode="External"/><Relationship Id="rId20" Type="http://schemas.openxmlformats.org/officeDocument/2006/relationships/hyperlink" Target="http://nl.wikipedia.org/wiki/Vlinderbloemigen" TargetMode="External"/><Relationship Id="rId21" Type="http://schemas.openxmlformats.org/officeDocument/2006/relationships/hyperlink" Target="http://nl.wikipedia.org/wiki/Dier" TargetMode="External"/><Relationship Id="rId22" Type="http://schemas.openxmlformats.org/officeDocument/2006/relationships/hyperlink" Target="http://nl.wikipedia.org/wiki/Mens" TargetMode="External"/><Relationship Id="rId23" Type="http://schemas.openxmlformats.org/officeDocument/2006/relationships/hyperlink" Target="http://nl.wikipedia.org/wiki/Biosfeer" TargetMode="Externa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acteri&#235;n" TargetMode="External"/><Relationship Id="rId2" Type="http://schemas.openxmlformats.org/officeDocument/2006/relationships/hyperlink" Target="http://nl.wikipedia.org/wiki/Cyanobacteri&#235;n" TargetMode="External"/><Relationship Id="rId3" Type="http://schemas.openxmlformats.org/officeDocument/2006/relationships/hyperlink" Target="http://nl.wikipedia.org/wiki/Familie_%28biologie%29" TargetMode="External"/><Relationship Id="rId4" Type="http://schemas.openxmlformats.org/officeDocument/2006/relationships/hyperlink" Target="http://nl.wikipedia.org/w/index.php?title=Rhizobiaceae&amp;action=edit" TargetMode="External"/><Relationship Id="rId5" Type="http://schemas.openxmlformats.org/officeDocument/2006/relationships/hyperlink" Target="http://nl.wikipedia.org/wiki/Rhizobium" TargetMode="External"/><Relationship Id="rId6" Type="http://schemas.openxmlformats.org/officeDocument/2006/relationships/hyperlink" Target="http://nl.wikipedia.org/wiki/Vlinderbloemigen" TargetMode="External"/><Relationship Id="rId7" Type="http://schemas.openxmlformats.org/officeDocument/2006/relationships/hyperlink" Target="http://nl.wikipedia.org/wiki/Organische_stof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3080" y="1010880"/>
            <a:ext cx="678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olstof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de bekend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ogeochemisch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oolstofkringloop beschrijft onder andere w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gebeurt met door mensen uitgestoo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olstofdioxi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n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tmosfe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tosynthes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de lucht vastgelegd in planten in de v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oolhydr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klein deel hiervan komt weer vrij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simil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plan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fbeelding:Nitrogen Cycle Dutch text.jpg"/>
          <p:cNvPicPr/>
          <p:nvPr/>
        </p:nvPicPr>
        <p:blipFill>
          <a:blip r:embed="rId1"/>
          <a:stretch/>
        </p:blipFill>
        <p:spPr>
          <a:xfrm>
            <a:off x="1123920" y="571680"/>
            <a:ext cx="689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69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20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0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523880"/>
            <a:ext cx="64800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Koolstofkringloop. De zwarte getallen tonen hoeveel miljarden tonnen koolstof (GtC) in de verschillende opslagplaatsen aanwezig zijn. De blauwe getallen tonen hoeveel koolstof tussen de verschillende opslagplaatsen per jaar uitgewisseld wordt. N.B.:Vegetatie omvat alle organisme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197000"/>
            <a:ext cx="4762440" cy="37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4487760" y="502920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233960" y="38019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85200" y="927360"/>
            <a:ext cx="682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 analyse van boringen in h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tarct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js (blauwe lij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jkt dat de concentratie van kooldioxide tenminste in de laat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50.000 jaar  niet hoger is geweest dan 300 ml/m³.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Jstij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as de concentratie met 180 ml/m³ lager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armteperi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het begi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dustriële revolu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eeg de concent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entie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e rode lijn geeft de continue metingen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AW-Statio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una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o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p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awaï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edert 1958 aan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ze metingen blijkt een verhoging met 3,2 Gt C per ja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e a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pwarming van d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ij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erbranding van fossiele koolstofhoudende brandstoff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o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ardga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steenkoo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en door de productie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men per jaar 7,1 Gt C vrij (1980-1990)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[4]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5600" y="2700360"/>
            <a:ext cx="743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verbranding van biomassa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aadol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u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bran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ft alleen invloed op de kortlopende koolstofkringloop en 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halve niet bij aan een verhoging op de langlopende koolstof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7080" y="2184840"/>
            <a:ext cx="1155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CO2-verhoging in de aardatmosfe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92600" y="-2039760"/>
            <a:ext cx="1714320" cy="13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92600" y="-1951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6000" y="3996360"/>
            <a:ext cx="396072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CO</a:t>
            </a:r>
            <a:r>
              <a:rPr b="0" i="1" lang="en-US" sz="1800" spc="-1" strike="noStrike" baseline="-30000">
                <a:solidFill>
                  <a:srgbClr val="666699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-verhoging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2-verhoging in de aardatmosfe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83664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92600" y="326232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45320" y="1609200"/>
            <a:ext cx="692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verhoging van het kooldioxidegehalte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t voor een hogere oplossing van CO2 in het zee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orm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uu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ordt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het zee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ger (zuurder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pH-verlaging van de regen en het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de verwer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lkste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aarmee het verbruik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2 toe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ar geochemisch gevormde hoeveelheden echter zeer klein zij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elt dit effect op de korte termijn geen 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32880" y="1063800"/>
            <a:ext cx="8017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schattingen en verschillen in literatuurbron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er uiteraard veel discussie tussen wetensch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genover de toename van 120 Gt C per jaar (gigatonnen koolstof per ja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in totaal slechts 116 Gt C per j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tritusvorm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afkomstig van afgestorven organisme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erbij ontbreken dus in de balans 4 Gt C per jaa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te doen met verklaringen over ijstijden en warme tijden gedur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fgelopen duizenden jaren zonder aanwezigheid van de m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ze aantallen en de manier waarop wij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Al G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79092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ikstofkringloo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iochemische 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chem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mzett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ikstof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lu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od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omass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anis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bben stikstof nodig daar h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tanddeel i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inozu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iwit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N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-enzy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de totale hoeveelheid aanwezige stikstof op aarde (1015 t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indt zich 99 %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en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symbios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kunnen de stikstof uit de lucht omzetten in nitr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andere planten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die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men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unnen geen stikstof uit de lucht opnemen en zijn afhankelijk van de vastgelegde stikstof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bi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54240"/>
            <a:ext cx="7632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ring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tikstofkringloop bestaat uit de volgende proces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stlegg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stikstof uit de lucht door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wortelknolletje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ch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omen voor de plant do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rganisch mater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organismen, z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ën,schimmels en d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mmonific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na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de pl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door bacteriën v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14:48Z</dcterms:created>
  <dc:creator>bertusherman</dc:creator>
  <dc:description/>
  <dc:language>en-US</dc:language>
  <cp:lastModifiedBy>bertusherman</cp:lastModifiedBy>
  <dcterms:modified xsi:type="dcterms:W3CDTF">2010-02-26T21:30:34Z</dcterms:modified>
  <cp:revision>2</cp:revision>
  <dc:subject/>
  <dc:title>Dia 1</dc:title>
</cp:coreProperties>
</file>