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4D37-70EA-4AAB-8B1D-6E46E3CDA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5D69-BAC4-4964-9798-9491C85D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902E-AEDC-4070-8022-DA3AA06EB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C27E-E470-4835-8FE9-CC2BED188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CA0D-DFBC-445E-B2FE-DB53B57F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81E6-14FF-42E9-B826-AB78CBEF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3CB6-A076-4D37-9C60-FE41E340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4BA1-CDEB-491D-BDD0-A1FAD61A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5DC7-61B3-477A-A242-09D155D5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E425-75DD-444E-8084-50B29381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200F-75C3-4D4B-A50A-DE91452D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87D0-DE1F-420B-A4BD-E852E52B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3DFA-2BAA-44C5-B00A-784BE177C7F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nl.wikipedia.org/wiki/Kringloop" TargetMode="External"/><Relationship Id="rId2" Type="http://schemas.openxmlformats.org/officeDocument/2006/relationships/hyperlink" Target="http://nl.wikipedia.org/wiki/Koolstofdioxide" TargetMode="External"/><Relationship Id="rId3" Type="http://schemas.openxmlformats.org/officeDocument/2006/relationships/hyperlink" Target="http://nl.wikipedia.org/wiki/Aardatmosfeer" TargetMode="External"/><Relationship Id="rId4" Type="http://schemas.openxmlformats.org/officeDocument/2006/relationships/hyperlink" Target="http://nl.wikipedia.org/wiki/Fotosynthese" TargetMode="External"/><Relationship Id="rId5" Type="http://schemas.openxmlformats.org/officeDocument/2006/relationships/hyperlink" Target="http://nl.wikipedia.org/wiki/Planten" TargetMode="External"/><Relationship Id="rId6" Type="http://schemas.openxmlformats.org/officeDocument/2006/relationships/hyperlink" Target="http://nl.wikipedia.org/wiki/Kooldioxide" TargetMode="External"/><Relationship Id="rId7" Type="http://schemas.openxmlformats.org/officeDocument/2006/relationships/hyperlink" Target="http://nl.wikipedia.org/wiki/Koolhydraat" TargetMode="External"/><Relationship Id="rId8" Type="http://schemas.openxmlformats.org/officeDocument/2006/relationships/hyperlink" Target="http://nl.wikipedia.org/wiki/Dissimilatie_%28chemie%29" TargetMode="External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Afbeelding:Carbon_cycle-cute_diagram_Dutch_text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nl.wikipedia.org/wiki/Afbeelding:Carbon_cycle-cute_diagram_Dutch_text.jpg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nl.wikipedia.org/wiki/Afbeelding:CO2Anstieg.png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nl.wikipedia.org/wiki/Antartica" TargetMode="External"/><Relationship Id="rId4" Type="http://schemas.openxmlformats.org/officeDocument/2006/relationships/slide" Target=""/><Relationship Id="rId5" Type="http://schemas.openxmlformats.org/officeDocument/2006/relationships/hyperlink" Target="http://nl.wikipedia.org/wiki/IJstijd" TargetMode="External"/><Relationship Id="rId6" Type="http://schemas.openxmlformats.org/officeDocument/2006/relationships/hyperlink" Target="http://nl.wikipedia.org/wiki/Interglaciaal" TargetMode="External"/><Relationship Id="rId7" Type="http://schemas.openxmlformats.org/officeDocument/2006/relationships/hyperlink" Target="http://nl.wikipedia.org/wiki/Industri&#235;le_revolutie" TargetMode="External"/><Relationship Id="rId8" Type="http://schemas.openxmlformats.org/officeDocument/2006/relationships/hyperlink" Target="http://nl.wikipedia.org/wiki/Mauna_Loa" TargetMode="External"/><Relationship Id="rId9" Type="http://schemas.openxmlformats.org/officeDocument/2006/relationships/hyperlink" Target="http://nl.wikipedia.org/wiki/Mauna_Loa" TargetMode="External"/><Relationship Id="rId10" Type="http://schemas.openxmlformats.org/officeDocument/2006/relationships/hyperlink" Target="http://nl.wikipedia.org/wiki/Mauna_Loa" TargetMode="External"/><Relationship Id="rId11" Type="http://schemas.openxmlformats.org/officeDocument/2006/relationships/hyperlink" Target="http://nl.wikipedia.org/wiki/Hawa&#239;" TargetMode="External"/><Relationship Id="rId12" Type="http://schemas.openxmlformats.org/officeDocument/2006/relationships/hyperlink" Target="http://nl.wikipedia.org/wiki/Opwarming_van_de_Aarde" TargetMode="External"/><Relationship Id="rId13" Type="http://schemas.openxmlformats.org/officeDocument/2006/relationships/hyperlink" Target="http://nl.wikipedia.org/wiki/Aardolie" TargetMode="External"/><Relationship Id="rId14" Type="http://schemas.openxmlformats.org/officeDocument/2006/relationships/hyperlink" Target="http://nl.wikipedia.org/wiki/Aardgas" TargetMode="External"/><Relationship Id="rId15" Type="http://schemas.openxmlformats.org/officeDocument/2006/relationships/hyperlink" Target="http://nl.wikipedia.org/wiki/Steenkool" TargetMode="External"/><Relationship Id="rId16" Type="http://schemas.openxmlformats.org/officeDocument/2006/relationships/hyperlink" Target="http://nl.wikipedia.org/wiki/Cement" TargetMode="External"/><Relationship Id="rId17" Type="http://schemas.openxmlformats.org/officeDocument/2006/relationships/slide" Target="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nl.wikipedia.org/wiki/Koolzaadolie" TargetMode="External"/><Relationship Id="rId2" Type="http://schemas.openxmlformats.org/officeDocument/2006/relationships/hyperlink" Target="http://nl.wikipedia.org/wiki/Hout" TargetMode="External"/><Relationship Id="rId3" Type="http://schemas.openxmlformats.org/officeDocument/2006/relationships/hyperlink" Target="http://nl.wikipedia.org/w/index.php?title=Afbranden&amp;action=edit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l.wikipedia.org/wiki/Afbeelding:CO2Anstieg.png" TargetMode="External"/><Relationship Id="rId2" Type="http://schemas.openxmlformats.org/officeDocument/2006/relationships/hyperlink" Target="http://nl.wikipedia.org/wiki/Afbeelding:CO2Anstieg.png" TargetMode="External"/><Relationship Id="rId3" Type="http://schemas.openxmlformats.org/officeDocument/2006/relationships/hyperlink" Target="http://nl.wikipedia.org/wiki/Afbeelding:CO2Anstieg.png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://nl.wikipedia.org/wiki/Afbeelding:CO2Anstieg.png" TargetMode="External"/><Relationship Id="rId6" Type="http://schemas.openxmlformats.org/officeDocument/2006/relationships/image" Target="../media/image2.png"/><Relationship Id="rId7" Type="http://schemas.openxmlformats.org/officeDocument/2006/relationships/hyperlink" Target="http://nl.wikipedia.org/wiki/Afbeelding:CO2Anstieg.png" TargetMode="External"/><Relationship Id="rId8" Type="http://schemas.openxmlformats.org/officeDocument/2006/relationships/hyperlink" Target="http://nl.wikipedia.org/wiki/Afbeelding:CO2Anstieg.png" TargetMode="External"/><Relationship Id="rId9" Type="http://schemas.openxmlformats.org/officeDocument/2006/relationships/hyperlink" Target="http://nl.wikipedia.org/wiki/Afbeelding:CO2Anstieg.png" TargetMode="External"/><Relationship Id="rId10" Type="http://schemas.openxmlformats.org/officeDocument/2006/relationships/image" Target="../media/image3.png"/><Relationship Id="rId11" Type="http://schemas.openxmlformats.org/officeDocument/2006/relationships/hyperlink" Target="http://nl.wikipedia.org/wiki/Afbeelding:CO2Anstieg.png" TargetMode="External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nl.wikipedia.org/wiki/Koolzuur" TargetMode="External"/><Relationship Id="rId2" Type="http://schemas.openxmlformats.org/officeDocument/2006/relationships/hyperlink" Target="http://nl.wikipedia.org/wiki/PH" TargetMode="External"/><Relationship Id="rId3" Type="http://schemas.openxmlformats.org/officeDocument/2006/relationships/hyperlink" Target="http://nl.wikipedia.org/wiki/Kalksteen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l.wikipedia.org/wiki/Assimilatie" TargetMode="External"/><Relationship Id="rId2" Type="http://schemas.openxmlformats.org/officeDocument/2006/relationships/hyperlink" Target="http://nl.wikipedia.org/wiki/Dissimilatie" TargetMode="External"/><Relationship Id="rId3" Type="http://schemas.openxmlformats.org/officeDocument/2006/relationships/hyperlink" Target="http://nl.wikipedia.org/wiki/Detritus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iochemische_kringloop" TargetMode="External"/><Relationship Id="rId2" Type="http://schemas.openxmlformats.org/officeDocument/2006/relationships/hyperlink" Target="http://nl.wikipedia.org/wiki/Geochemie" TargetMode="External"/><Relationship Id="rId3" Type="http://schemas.openxmlformats.org/officeDocument/2006/relationships/hyperlink" Target="http://nl.wikipedia.org/wiki/Stikstof" TargetMode="External"/><Relationship Id="rId4" Type="http://schemas.openxmlformats.org/officeDocument/2006/relationships/hyperlink" Target="http://nl.wikipedia.org/wiki/Aardatmosfeer" TargetMode="External"/><Relationship Id="rId5" Type="http://schemas.openxmlformats.org/officeDocument/2006/relationships/hyperlink" Target="http://nl.wikipedia.org/wiki/Planten" TargetMode="External"/><Relationship Id="rId6" Type="http://schemas.openxmlformats.org/officeDocument/2006/relationships/hyperlink" Target="http://nl.wikipedia.org/wiki/Bodem" TargetMode="External"/><Relationship Id="rId7" Type="http://schemas.openxmlformats.org/officeDocument/2006/relationships/hyperlink" Target="http://nl.wikipedia.org/wiki/Biomassa" TargetMode="External"/><Relationship Id="rId8" Type="http://schemas.openxmlformats.org/officeDocument/2006/relationships/hyperlink" Target="http://nl.wikipedia.org/wiki/Organisme" TargetMode="External"/><Relationship Id="rId9" Type="http://schemas.openxmlformats.org/officeDocument/2006/relationships/hyperlink" Target="http://nl.wikipedia.org/wiki/Aminozuur" TargetMode="External"/><Relationship Id="rId10" Type="http://schemas.openxmlformats.org/officeDocument/2006/relationships/hyperlink" Target="http://nl.wikipedia.org/wiki/Prote&#239;ne" TargetMode="External"/><Relationship Id="rId11" Type="http://schemas.openxmlformats.org/officeDocument/2006/relationships/hyperlink" Target="http://nl.wikipedia.org/wiki/DNA" TargetMode="External"/><Relationship Id="rId12" Type="http://schemas.openxmlformats.org/officeDocument/2006/relationships/hyperlink" Target="http://nl.wikipedia.org/wiki/Co-enzym" TargetMode="External"/><Relationship Id="rId13" Type="http://schemas.openxmlformats.org/officeDocument/2006/relationships/hyperlink" Target="http://nl.wikipedia.org/wiki/Aardatmosfeer" TargetMode="External"/><Relationship Id="rId14" Type="http://schemas.openxmlformats.org/officeDocument/2006/relationships/hyperlink" Target="http://nl.wikipedia.org/wiki/Bacteri&#235;n" TargetMode="External"/><Relationship Id="rId15" Type="http://schemas.openxmlformats.org/officeDocument/2006/relationships/hyperlink" Target="http://nl.wikipedia.org/wiki/Cyanobacteri&#235;n" TargetMode="External"/><Relationship Id="rId16" Type="http://schemas.openxmlformats.org/officeDocument/2006/relationships/hyperlink" Target="http://nl.wikipedia.org/wiki/Familie_%28biologie%29" TargetMode="External"/><Relationship Id="rId17" Type="http://schemas.openxmlformats.org/officeDocument/2006/relationships/hyperlink" Target="http://nl.wikipedia.org/w/index.php?title=Rhizobiaceae&amp;action=edit" TargetMode="External"/><Relationship Id="rId18" Type="http://schemas.openxmlformats.org/officeDocument/2006/relationships/hyperlink" Target="http://nl.wikipedia.org/wiki/Rhizobium" TargetMode="External"/><Relationship Id="rId19" Type="http://schemas.openxmlformats.org/officeDocument/2006/relationships/hyperlink" Target="http://nl.wikipedia.org/wiki/Symbiose" TargetMode="External"/><Relationship Id="rId20" Type="http://schemas.openxmlformats.org/officeDocument/2006/relationships/hyperlink" Target="http://nl.wikipedia.org/wiki/Vlinderbloemigen" TargetMode="External"/><Relationship Id="rId21" Type="http://schemas.openxmlformats.org/officeDocument/2006/relationships/hyperlink" Target="http://nl.wikipedia.org/wiki/Dier" TargetMode="External"/><Relationship Id="rId22" Type="http://schemas.openxmlformats.org/officeDocument/2006/relationships/hyperlink" Target="http://nl.wikipedia.org/wiki/Mens" TargetMode="External"/><Relationship Id="rId23" Type="http://schemas.openxmlformats.org/officeDocument/2006/relationships/hyperlink" Target="http://nl.wikipedia.org/wiki/Biosfeer" TargetMode="External"/><Relationship Id="rId2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acteri&#235;n" TargetMode="External"/><Relationship Id="rId2" Type="http://schemas.openxmlformats.org/officeDocument/2006/relationships/hyperlink" Target="http://nl.wikipedia.org/wiki/Cyanobacteri&#235;n" TargetMode="External"/><Relationship Id="rId3" Type="http://schemas.openxmlformats.org/officeDocument/2006/relationships/hyperlink" Target="http://nl.wikipedia.org/wiki/Familie_%28biologie%29" TargetMode="External"/><Relationship Id="rId4" Type="http://schemas.openxmlformats.org/officeDocument/2006/relationships/hyperlink" Target="http://nl.wikipedia.org/w/index.php?title=Rhizobiaceae&amp;action=edit" TargetMode="External"/><Relationship Id="rId5" Type="http://schemas.openxmlformats.org/officeDocument/2006/relationships/hyperlink" Target="http://nl.wikipedia.org/wiki/Rhizobium" TargetMode="External"/><Relationship Id="rId6" Type="http://schemas.openxmlformats.org/officeDocument/2006/relationships/hyperlink" Target="http://nl.wikipedia.org/wiki/Vlinderbloemigen" TargetMode="External"/><Relationship Id="rId7" Type="http://schemas.openxmlformats.org/officeDocument/2006/relationships/hyperlink" Target="http://nl.wikipedia.org/wiki/Organische_stof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63080" y="1010880"/>
            <a:ext cx="6785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koolstofkringloop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is de bekends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ogeochemische </a:t>
            </a: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ringloop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koolstofkringloop beschrijft onder andere w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gebeurt met door mensen uitgestoot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koolstofdioxid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in de </a:t>
            </a: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tmosfe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de </a:t>
            </a: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otosynthes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an </a:t>
            </a: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lant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wordt </a:t>
            </a: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CO2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 de lucht vastgelegd in planten in de vo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</a:t>
            </a: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koolhydrat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klein deel hiervan komt weer vrij do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dissimila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an de plant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Afbeelding:Nitrogen Cycle Dutch text.jpg"/>
          <p:cNvPicPr/>
          <p:nvPr/>
        </p:nvPicPr>
        <p:blipFill>
          <a:blip r:embed="rId1"/>
          <a:stretch/>
        </p:blipFill>
        <p:spPr>
          <a:xfrm>
            <a:off x="1123920" y="571680"/>
            <a:ext cx="6896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66960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7201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47640" y="836640"/>
            <a:ext cx="59040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332000" y="1523880"/>
            <a:ext cx="648000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Koolstofkringloop. De zwarte getallen tonen hoeveel miljarden tonnen koolstof (GtC) in de verschillende opslagplaatsen aanwezig zijn. De blauwe getallen tonen hoeveel koolstof tussen de verschillende opslagplaatsen per jaar uitgewisseld wordt. N.B.:Vegetatie omvat alle organismen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1197000"/>
            <a:ext cx="4762440" cy="3705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-4487760" y="5029200"/>
            <a:ext cx="142920" cy="1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4233960" y="3801960"/>
            <a:ext cx="142920" cy="104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85200" y="927360"/>
            <a:ext cx="6827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Uit de analyse van boringen in het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tarctisch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js (blauwe lij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ijkt dat de concentratie van kooldioxide tenminste in de laats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650.000 jaar  niet hoger is geweest dan 300 ml/m³.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[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ijdens d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IJstijd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was de concentratie met 180 ml/m³ lager d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ijdens d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armteperiod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t het begin van d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industriële revoluti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steeg de concentrat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ponentie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De rode lijn geeft de continue metingen v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AW-Station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Mauna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Loa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op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awaï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sedert 1958 aan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Uit deze metingen blijkt een verhoging met 3,2 Gt C per jaa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ie aan d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opwarming van de Aard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bijdraag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oor de verbranding van fossiele koolstofhoudende brandstoff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aardoli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aardgas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steenkoo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en door de productie van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cemen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omen per jaar 7,1 Gt C vrij (1980-1990)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[4]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335600" y="2700360"/>
            <a:ext cx="743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verbranding van biomassa (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oolzaadoli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out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fbrand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eft alleen invloed op de kortlopende koolstofkringloop en draag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halve niet bij aan een verhoging op de langlopende koolstofkring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637080" y="2184840"/>
            <a:ext cx="1155600" cy="24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 </a:t>
            </a:r>
            <a:r>
              <a:rPr b="0" i="1" lang="en-US" sz="8500" spc="-1" strike="noStrike">
                <a:solidFill>
                  <a:srgbClr val="666699"/>
                </a:solidFill>
                <a:latin typeface="Arial"/>
              </a:rPr>
              <a:t> </a:t>
            </a:r>
            <a:r>
              <a:rPr b="0" i="1" lang="en-US" sz="1800" spc="-1" strike="noStrike">
                <a:solidFill>
                  <a:srgbClr val="666699"/>
                </a:solidFill>
                <a:latin typeface="Arial"/>
              </a:rPr>
              <a:t>           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 </a:t>
            </a:r>
            <a:r>
              <a:rPr b="0" i="1" lang="en-US" sz="600" spc="-1" strike="noStrike">
                <a:solidFill>
                  <a:srgbClr val="666699"/>
                </a:solidFill>
                <a:latin typeface="Arial"/>
              </a:rPr>
              <a:t> </a:t>
            </a:r>
            <a:r>
              <a:rPr b="0" i="1" lang="en-US" sz="1800" spc="-1" strike="noStrike">
                <a:solidFill>
                  <a:srgbClr val="6666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CO2-verhoging in de aardatmosfee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92600" y="-2039760"/>
            <a:ext cx="1714320" cy="1361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92600" y="-195120"/>
            <a:ext cx="142920" cy="104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56000" y="3996360"/>
            <a:ext cx="3960720" cy="22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 </a:t>
            </a:r>
            <a:r>
              <a:rPr b="0" i="1" lang="en-US" sz="8500" spc="-1" strike="noStrike">
                <a:solidFill>
                  <a:srgbClr val="666699"/>
                </a:solidFill>
                <a:latin typeface="Arial"/>
              </a:rPr>
              <a:t> </a:t>
            </a:r>
            <a:r>
              <a:rPr b="0" i="1" lang="en-US" sz="1800" spc="-1" strike="noStrike">
                <a:solidFill>
                  <a:srgbClr val="666699"/>
                </a:solidFill>
                <a:latin typeface="Arial"/>
              </a:rPr>
              <a:t>           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  </a:t>
            </a:r>
            <a:r>
              <a:rPr b="0" i="1" lang="en-US" sz="600" spc="-1" strike="noStrike">
                <a:solidFill>
                  <a:srgbClr val="666699"/>
                </a:solidFill>
                <a:latin typeface="Arial"/>
              </a:rPr>
              <a:t> </a:t>
            </a:r>
            <a:r>
              <a:rPr b="0" i="1" lang="en-US" sz="1800" spc="-1" strike="noStrike">
                <a:solidFill>
                  <a:srgbClr val="6666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99"/>
                </a:solidFill>
                <a:latin typeface="Arial"/>
              </a:rPr>
              <a:t>CO</a:t>
            </a:r>
            <a:r>
              <a:rPr b="0" i="1" lang="en-US" sz="1800" spc="-1" strike="noStrike" baseline="-30000">
                <a:solidFill>
                  <a:srgbClr val="666699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666699"/>
                </a:solidFill>
                <a:latin typeface="Arial"/>
              </a:rPr>
              <a:t>-verhoging in de aardatmosf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CO2-verhoging in de aardatmosfeer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835280" y="836640"/>
            <a:ext cx="3671640" cy="2952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792600" y="3262320"/>
            <a:ext cx="142920" cy="1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345320" y="1609200"/>
            <a:ext cx="6922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verhoging van het kooldioxidegehalte in de aardatmosf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rgt voor een hogere oplossing van CO2 in het zeewat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oor de vorming van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oolzuur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wordt d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H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van het zeewa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ager (zuurder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oor de pH-verlaging van de regen en het wa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al de verwering van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kalkste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en daarmee het verbruik v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2 toene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aar geochemisch gevormde hoeveelheden echter zeer klein zij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peelt dit effect op de korte termijn geen ro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32880" y="1063800"/>
            <a:ext cx="80175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oor schattingen en verschillen in literatuurbronn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s er uiteraard veel discussie tussen wetensch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ijvoorbeel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egenover de toename van 120 Gt C per jaar (gigatonnen koolstof per jaar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oor d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ssimilati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staat in totaal slechts 116 Gt C per ja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oor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issimilati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detritusvormin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afkomstig van afgestorven organismen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erbij ontbreken dus in de balans 4 Gt C per jaa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 te doen met verklaringen over ijstijden en warme tijden gedure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afgelopen duizenden jaren zonder aanwezigheid van de me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deze aantallen en de manier waarop wij l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m Al Go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116000" y="790920"/>
            <a:ext cx="7343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tikstofkringloop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s d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iochemische kring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n d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eochemisch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omzetting van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tikstof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n de luc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ardatmosfeer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lant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d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bodem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biomassa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ll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organism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hebben stikstof nodig daar het 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standdeel is van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aminozur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eiwitt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DNA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en van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co-enzym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an de totale hoeveelheid aanwezige stikstof op aarde (1015 to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vindt zich 99 % in d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aardatmosfeer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lleen special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bacterië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in het bijzonder d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Cyanobacterië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ikstofknolletjesbacteriën van d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famili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van d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Rhizobiacea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n bacteriën van het geslacht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Rhizobium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symbios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met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vlinderbloemig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planten kunnen de stikstof uit de lucht omzetten in nitra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lle andere planten,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dier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en d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mens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kunnen geen stikstof uit de lucht opnemen en zijn afhankelijk van de vastgelegde stikstof in d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biosfeer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11280" y="354240"/>
            <a:ext cx="763272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Kring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stikstofkringloop bestaat uit de volgende process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stleggin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van stikstof uit de lucht door special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acterië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in het bijzonder d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yanobacterië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stikstofknolletjesbacteriën van d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famili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van d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Rhizobiacea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en bacteriën van het geslacht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Rhizobium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n de wortelknolletjes van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vlinderbloemig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plan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schikbaar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komen voor de plant doo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fbraak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organisch materia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door organismen, zoa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acteriën,schimmels en dier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Ammonificati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itrificat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pnam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door de pl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fbraak door bacteriën vi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nitrificat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17:14:48Z</dcterms:created>
  <dc:creator>bertusherman</dc:creator>
  <dc:description/>
  <dc:language>en-US</dc:language>
  <cp:lastModifiedBy>bertusherman</cp:lastModifiedBy>
  <dcterms:modified xsi:type="dcterms:W3CDTF">2010-02-26T21:30:34Z</dcterms:modified>
  <cp:revision>2</cp:revision>
  <dc:subject/>
  <dc:title>Dia 1</dc:title>
</cp:coreProperties>
</file>