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6.gif" ContentType="image/gif"/>
  <Override PartName="/ppt/media/image5.jpeg" ContentType="image/jpeg"/>
  <Override PartName="/ppt/media/image13.gif" ContentType="image/gif"/>
  <Override PartName="/ppt/media/image16.jpeg" ContentType="image/jpeg"/>
  <Override PartName="/ppt/media/image19.gif" ContentType="image/gif"/>
  <Override PartName="/ppt/media/image1.jpeg" ContentType="image/jpeg"/>
  <Override PartName="/ppt/media/image10.png" ContentType="image/png"/>
  <Override PartName="/ppt/media/image17.png" ContentType="image/png"/>
  <Override PartName="/ppt/media/image4.jpeg" ContentType="image/jpeg"/>
  <Override PartName="/ppt/media/image14.jpeg" ContentType="image/jpeg"/>
  <Override PartName="/ppt/media/image2.gif" ContentType="image/gif"/>
  <Override PartName="/ppt/media/image12.jpeg" ContentType="image/jpeg"/>
  <Override PartName="/ppt/media/image7.jpeg" ContentType="image/jpeg"/>
  <Override PartName="/ppt/media/image15.gif" ContentType="image/gif"/>
  <Override PartName="/ppt/media/image3.jpeg" ContentType="image/jpeg"/>
  <Override PartName="/ppt/media/image8.gif" ContentType="image/gif"/>
  <Override PartName="/ppt/media/image18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9AD41-00A0-4424-9A66-449108EED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FDD8E-1D12-4B59-B14E-78A559939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FF3D4-C845-41C7-B7B8-830AA49FA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92127-4AAB-4CBE-8742-C7BF946C7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B98B0-C946-49B6-85B8-C6FA9E88A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15097-1F5C-4256-9687-C2EBDFFE1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995DF-F822-4694-A471-43102A643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EA278-2FC2-4C5F-9D44-C13BFA534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D5734-92F0-4BC9-927D-8DEB8DD64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0F0E2-2384-49A7-994C-03A9EC389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94483-0A19-4D10-AD24-FEC6B3EC2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41249-A772-4771-92EE-D625DEC86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91FDE-0084-4C70-A72A-BAC676F2FAD1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zeeinzicht.nl/vleet/content/ned/?use_template=ecomare.html&amp;item=planten&amp;pageid=NED0143.HTM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zeeinzicht.nl/vleet/content/ned/?use_template=ecomare.html&amp;item=planten&amp;pageid=NED0336.HTM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http://www.plankenkoorts.com/fotos/surfaris/Ierland2004/origineel/4.Brandon%20Bay%20Zandstrand.jpg"/>
          <p:cNvPicPr/>
          <p:nvPr/>
        </p:nvPicPr>
        <p:blipFill>
          <a:blip r:embed="rId1"/>
          <a:stretch/>
        </p:blipFill>
        <p:spPr>
          <a:xfrm>
            <a:off x="0" y="0"/>
            <a:ext cx="9818640" cy="7215120"/>
          </a:xfrm>
          <a:prstGeom prst="rect">
            <a:avLst/>
          </a:prstGeom>
          <a:ln w="0">
            <a:noFill/>
          </a:ln>
        </p:spPr>
      </p:pic>
      <p:sp>
        <p:nvSpPr>
          <p:cNvPr id="42" name="TextBox 4"/>
          <p:cNvSpPr/>
          <p:nvPr/>
        </p:nvSpPr>
        <p:spPr>
          <a:xfrm>
            <a:off x="785880" y="357120"/>
            <a:ext cx="8001000" cy="581400"/>
          </a:xfrm>
          <a:prstGeom prst="rect">
            <a:avLst/>
          </a:prstGeom>
          <a:solidFill>
            <a:srgbClr val="ffffff">
              <a:alpha val="64000"/>
            </a:srgbClr>
          </a:solidFill>
          <a:ln w="93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uccess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9" descr="http://www.animatiesite.nl/hpbimg/vogel%20vliegt.gif"/>
          <p:cNvPicPr/>
          <p:nvPr/>
        </p:nvPicPr>
        <p:blipFill>
          <a:blip r:embed="rId2"/>
          <a:stretch/>
        </p:blipFill>
        <p:spPr>
          <a:xfrm>
            <a:off x="6286680" y="1071720"/>
            <a:ext cx="1428480" cy="120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http://lh4.ggpht.com/_tPStkbmZ6PU/SDHT2ncEjHI/AAAAAAAABLA/GxlnBMLP6z0/Korstmos+2+-+Maarn.jpg"/>
          <p:cNvPicPr/>
          <p:nvPr/>
        </p:nvPicPr>
        <p:blipFill>
          <a:blip r:embed="rId1"/>
          <a:stretch/>
        </p:blipFill>
        <p:spPr>
          <a:xfrm>
            <a:off x="-1673280" y="-357120"/>
            <a:ext cx="10817280" cy="7215120"/>
          </a:xfrm>
          <a:prstGeom prst="rect">
            <a:avLst/>
          </a:prstGeom>
          <a:ln w="0">
            <a:noFill/>
          </a:ln>
        </p:spPr>
      </p:pic>
      <p:sp>
        <p:nvSpPr>
          <p:cNvPr id="67" name="TextBox 2"/>
          <p:cNvSpPr/>
          <p:nvPr/>
        </p:nvSpPr>
        <p:spPr>
          <a:xfrm>
            <a:off x="785880" y="357120"/>
            <a:ext cx="8001000" cy="581400"/>
          </a:xfrm>
          <a:prstGeom prst="rect">
            <a:avLst/>
          </a:prstGeom>
          <a:solidFill>
            <a:srgbClr val="ffffff">
              <a:alpha val="64000"/>
            </a:srgbClr>
          </a:solidFill>
          <a:ln w="93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ioniersecosyste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8" descr="http://www.animatiesite.nl/hpbimg/vis%20duikend.gif"/>
          <p:cNvPicPr/>
          <p:nvPr/>
        </p:nvPicPr>
        <p:blipFill>
          <a:blip r:embed="rId2"/>
          <a:stretch/>
        </p:blipFill>
        <p:spPr>
          <a:xfrm>
            <a:off x="428760" y="1357200"/>
            <a:ext cx="1981080" cy="9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climax"/>
          <p:cNvPicPr/>
          <p:nvPr/>
        </p:nvPicPr>
        <p:blipFill>
          <a:blip r:embed="rId1"/>
          <a:stretch/>
        </p:blipFill>
        <p:spPr>
          <a:xfrm>
            <a:off x="-1571760" y="-2143080"/>
            <a:ext cx="12766680" cy="9715320"/>
          </a:xfrm>
          <a:prstGeom prst="rect">
            <a:avLst/>
          </a:prstGeom>
          <a:ln w="0">
            <a:noFill/>
          </a:ln>
        </p:spPr>
      </p:pic>
      <p:sp>
        <p:nvSpPr>
          <p:cNvPr id="70" name="TextBox 4"/>
          <p:cNvSpPr/>
          <p:nvPr/>
        </p:nvSpPr>
        <p:spPr>
          <a:xfrm>
            <a:off x="785880" y="357120"/>
            <a:ext cx="8001000" cy="581400"/>
          </a:xfrm>
          <a:prstGeom prst="rect">
            <a:avLst/>
          </a:prstGeom>
          <a:solidFill>
            <a:srgbClr val="ffffff">
              <a:alpha val="64000"/>
            </a:srgbClr>
          </a:solidFill>
          <a:ln w="93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limaxecosyste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http://www.animatiesite.nl/hpbimg/vlinder%20blauw.gif"/>
          <p:cNvPicPr/>
          <p:nvPr/>
        </p:nvPicPr>
        <p:blipFill>
          <a:blip r:embed="rId2"/>
          <a:stretch/>
        </p:blipFill>
        <p:spPr>
          <a:xfrm>
            <a:off x="6786720" y="1643040"/>
            <a:ext cx="571320" cy="5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nl-NL" sz="4400" spc="-1" strike="noStrike">
                <a:solidFill>
                  <a:srgbClr val="c00000"/>
                </a:solidFill>
                <a:latin typeface="Arial"/>
              </a:rPr>
              <a:t>Verandering biomass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http://mac122.icu.ac.jp/gen-ed/ecosystem-jpgs/succession2.jpg"/>
          <p:cNvPicPr/>
          <p:nvPr/>
        </p:nvPicPr>
        <p:blipFill>
          <a:blip r:embed="rId1"/>
          <a:stretch/>
        </p:blipFill>
        <p:spPr>
          <a:xfrm>
            <a:off x="0" y="1428840"/>
            <a:ext cx="8688240" cy="600084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5"/>
          <p:cNvSpPr/>
          <p:nvPr/>
        </p:nvSpPr>
        <p:spPr>
          <a:xfrm>
            <a:off x="0" y="5857920"/>
            <a:ext cx="10287000" cy="24289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6" descr="http://www.geography.hunter.cuny.edu/~tbw/ncc/chap4.wc/vegetation/plant.succession.jpg"/>
          <p:cNvPicPr/>
          <p:nvPr/>
        </p:nvPicPr>
        <p:blipFill>
          <a:blip r:embed="rId1"/>
          <a:stretch/>
        </p:blipFill>
        <p:spPr>
          <a:xfrm>
            <a:off x="0" y="3571920"/>
            <a:ext cx="9144000" cy="423216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4440" indent="0">
              <a:spcBef>
                <a:spcPts val="4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000" spc="-1" strike="noStrike">
                <a:solidFill>
                  <a:srgbClr val="c00000"/>
                </a:solidFill>
                <a:latin typeface="Arial"/>
              </a:rPr>
              <a:t>Pionierstadium        </a:t>
            </a:r>
            <a:r>
              <a:rPr b="1" lang="nl-NL" sz="20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1" lang="nl-NL" sz="20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1" lang="nl-NL" sz="20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1" lang="nl-NL" sz="2000" spc="-1" strike="noStrike">
                <a:solidFill>
                  <a:srgbClr val="c00000"/>
                </a:solidFill>
                <a:latin typeface="Arial"/>
              </a:rPr>
              <a:t>Climaxstadi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440" indent="0">
              <a:spcBef>
                <a:spcPts val="4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envoudig voedselweb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ngewikkeld voedselwe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440" indent="0">
              <a:spcBef>
                <a:spcPts val="4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einig soorten in grote aantallen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rote biodiversiteit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oename biomassa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iomassa blijft gelij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440" indent="0">
              <a:spcBef>
                <a:spcPts val="4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440" indent="0">
              <a:spcBef>
                <a:spcPts val="4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einig gelaagdheid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eer gelaagdhe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440" indent="0">
              <a:spcBef>
                <a:spcPts val="4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440" indent="0">
              <a:spcBef>
                <a:spcPts val="4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pen kringlopen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sloten kringlo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440" indent="0">
              <a:spcBef>
                <a:spcPts val="4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440" indent="0">
              <a:spcBef>
                <a:spcPts val="4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terk wisselende abiotisch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tabiele abiotische facto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440" indent="0">
              <a:spcBef>
                <a:spcPts val="4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actoren (dus organismen m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440" indent="0">
              <a:spcBef>
                <a:spcPts val="4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rote toleranti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440" indent="0">
              <a:spcBef>
                <a:spcPts val="4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440" indent="0">
              <a:spcBef>
                <a:spcPts val="4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nstabiel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tabiel; natuurlijk evenwic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eft-Right Arrow 5"/>
          <p:cNvSpPr/>
          <p:nvPr/>
        </p:nvSpPr>
        <p:spPr>
          <a:xfrm>
            <a:off x="3214800" y="500040"/>
            <a:ext cx="1428480" cy="285840"/>
          </a:xfrm>
          <a:prstGeom prst="leftRightArrow">
            <a:avLst>
              <a:gd name="adj1" fmla="val 50000"/>
              <a:gd name="adj2" fmla="val 49975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7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7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428760" y="9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nl-NL" sz="2400" spc="-1" strike="noStrike" u="sng">
                <a:solidFill>
                  <a:srgbClr val="c00000"/>
                </a:solidFill>
                <a:uFillTx/>
                <a:latin typeface="Arial"/>
              </a:rPr>
              <a:t>Primaire successie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; geen geschikte ondergrond (geen humus), helemaal vanaf het 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v. de duinen, kale r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nl-NL" sz="2400" spc="-1" strike="noStrike" u="sng">
                <a:solidFill>
                  <a:srgbClr val="c00000"/>
                </a:solidFill>
                <a:uFillTx/>
                <a:latin typeface="Arial"/>
              </a:rPr>
              <a:t>Secundaire successie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; er is al een gunstige ondergrond (humu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v. een verwaarloosd grasland, bosbr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" descr="http://ecopedia.be/data/images/frontend/wiki/successie.jpg"/>
          <p:cNvPicPr/>
          <p:nvPr/>
        </p:nvPicPr>
        <p:blipFill>
          <a:blip r:embed="rId1"/>
          <a:stretch/>
        </p:blipFill>
        <p:spPr>
          <a:xfrm>
            <a:off x="214200" y="5143680"/>
            <a:ext cx="8643960" cy="15238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7" descr="http://www.animatieplaatjes.nl/plaatjesI/insecten7.gif"/>
          <p:cNvPicPr/>
          <p:nvPr/>
        </p:nvPicPr>
        <p:blipFill>
          <a:blip r:embed="rId2"/>
          <a:stretch/>
        </p:blipFill>
        <p:spPr>
          <a:xfrm>
            <a:off x="6143760" y="1643040"/>
            <a:ext cx="142848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Duintjes met zeepostelein.&#13;Foto Sytske Dijksen&#13;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-2919240" y="-142920"/>
            <a:ext cx="12887280" cy="7143840"/>
          </a:xfrm>
          <a:prstGeom prst="rect">
            <a:avLst/>
          </a:prstGeom>
          <a:ln w="0">
            <a:noFill/>
          </a:ln>
        </p:spPr>
      </p:pic>
      <p:sp>
        <p:nvSpPr>
          <p:cNvPr id="45" name="TextBox 3"/>
          <p:cNvSpPr/>
          <p:nvPr/>
        </p:nvSpPr>
        <p:spPr>
          <a:xfrm>
            <a:off x="785880" y="357120"/>
            <a:ext cx="8001000" cy="581400"/>
          </a:xfrm>
          <a:prstGeom prst="rect">
            <a:avLst/>
          </a:prstGeom>
          <a:solidFill>
            <a:srgbClr val="ffffff">
              <a:alpha val="64000"/>
            </a:srgbClr>
          </a:solidFill>
          <a:ln w="93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uccess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Biestarwegras, Elymus farctus, Sand couch, Agropyre a feuilles de jonc, Strandquecke (Binsenquecke), Strandkvik.&#13;Photo: Sytske Dijkse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-2120760" y="0"/>
            <a:ext cx="1131228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TextBox 4"/>
          <p:cNvSpPr/>
          <p:nvPr/>
        </p:nvSpPr>
        <p:spPr>
          <a:xfrm>
            <a:off x="785880" y="357120"/>
            <a:ext cx="8001000" cy="581400"/>
          </a:xfrm>
          <a:prstGeom prst="rect">
            <a:avLst/>
          </a:prstGeom>
          <a:solidFill>
            <a:srgbClr val="ffffff">
              <a:alpha val="64000"/>
            </a:srgbClr>
          </a:solidFill>
          <a:ln w="93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uccess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Klik voor een afbeelding in hogere kwaliteit"/>
          <p:cNvPicPr/>
          <p:nvPr/>
        </p:nvPicPr>
        <p:blipFill>
          <a:blip r:embed="rId1"/>
          <a:stretch/>
        </p:blipFill>
        <p:spPr>
          <a:xfrm>
            <a:off x="-285840" y="0"/>
            <a:ext cx="1209384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Box 2"/>
          <p:cNvSpPr/>
          <p:nvPr/>
        </p:nvSpPr>
        <p:spPr>
          <a:xfrm>
            <a:off x="785880" y="357120"/>
            <a:ext cx="8001000" cy="581400"/>
          </a:xfrm>
          <a:prstGeom prst="rect">
            <a:avLst/>
          </a:prstGeom>
          <a:solidFill>
            <a:srgbClr val="ffffff">
              <a:alpha val="64000"/>
            </a:srgbClr>
          </a:solidFill>
          <a:ln w="93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uccess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" descr="http://www.animatieplaatjes.nl/plaatjesS/spin15.gif"/>
          <p:cNvPicPr/>
          <p:nvPr/>
        </p:nvPicPr>
        <p:blipFill>
          <a:blip r:embed="rId2"/>
          <a:stretch/>
        </p:blipFill>
        <p:spPr>
          <a:xfrm>
            <a:off x="3286080" y="5000760"/>
            <a:ext cx="905040" cy="100008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5" descr="Duinflora&#13;Foto van Sytske Dijksen, © Foto Fitis:&#13; www.fotofitis.nl&#13; "/>
          <p:cNvPicPr/>
          <p:nvPr/>
        </p:nvPicPr>
        <p:blipFill>
          <a:blip r:embed="rId1"/>
          <a:stretch/>
        </p:blipFill>
        <p:spPr>
          <a:xfrm>
            <a:off x="-785880" y="0"/>
            <a:ext cx="1208736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TextBox 5"/>
          <p:cNvSpPr/>
          <p:nvPr/>
        </p:nvSpPr>
        <p:spPr>
          <a:xfrm>
            <a:off x="785880" y="357120"/>
            <a:ext cx="8001000" cy="581400"/>
          </a:xfrm>
          <a:prstGeom prst="rect">
            <a:avLst/>
          </a:prstGeom>
          <a:solidFill>
            <a:srgbClr val="ffffff">
              <a:alpha val="64000"/>
            </a:srgbClr>
          </a:solidFill>
          <a:ln w="93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uccess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9" descr="http://home.hccnet.nl/c.j.krul/gif/dieren/wesp.gif"/>
          <p:cNvPicPr/>
          <p:nvPr/>
        </p:nvPicPr>
        <p:blipFill>
          <a:blip r:embed="rId2"/>
          <a:stretch/>
        </p:blipFill>
        <p:spPr>
          <a:xfrm>
            <a:off x="3571920" y="4143240"/>
            <a:ext cx="666720" cy="8384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http://i38.photobucket.com/albums/e122/demona000/duinen_crop0771.jpg"/>
          <p:cNvPicPr/>
          <p:nvPr/>
        </p:nvPicPr>
        <p:blipFill>
          <a:blip r:embed="rId1"/>
          <a:stretch/>
        </p:blipFill>
        <p:spPr>
          <a:xfrm>
            <a:off x="-500040" y="-357120"/>
            <a:ext cx="10761480" cy="7715160"/>
          </a:xfrm>
          <a:prstGeom prst="rect">
            <a:avLst/>
          </a:prstGeom>
          <a:ln w="0">
            <a:noFill/>
          </a:ln>
        </p:spPr>
      </p:pic>
      <p:sp>
        <p:nvSpPr>
          <p:cNvPr id="55" name="TextBox 3"/>
          <p:cNvSpPr/>
          <p:nvPr/>
        </p:nvSpPr>
        <p:spPr>
          <a:xfrm>
            <a:off x="785880" y="357120"/>
            <a:ext cx="8001000" cy="581400"/>
          </a:xfrm>
          <a:prstGeom prst="rect">
            <a:avLst/>
          </a:prstGeom>
          <a:solidFill>
            <a:srgbClr val="ffffff">
              <a:alpha val="64000"/>
            </a:srgbClr>
          </a:solidFill>
          <a:ln w="93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uccess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nl-NL" sz="4400" spc="-1" strike="noStrike">
                <a:solidFill>
                  <a:srgbClr val="c00000"/>
                </a:solidFill>
                <a:latin typeface="Arial"/>
              </a:rPr>
              <a:t>Success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3" descr="ontwikkeling biotoop"/>
          <p:cNvPicPr/>
          <p:nvPr/>
        </p:nvPicPr>
        <p:blipFill>
          <a:blip r:embed="rId1"/>
          <a:stretch/>
        </p:blipFill>
        <p:spPr>
          <a:xfrm>
            <a:off x="0" y="2000160"/>
            <a:ext cx="9144000" cy="48578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58" name="Rectangle 5"/>
          <p:cNvSpPr/>
          <p:nvPr/>
        </p:nvSpPr>
        <p:spPr>
          <a:xfrm>
            <a:off x="357120" y="1857240"/>
            <a:ext cx="7858080" cy="357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6"/>
          <p:cNvSpPr/>
          <p:nvPr/>
        </p:nvSpPr>
        <p:spPr>
          <a:xfrm rot="20780400">
            <a:off x="533520" y="2133720"/>
            <a:ext cx="4572000" cy="1066680"/>
          </a:xfrm>
          <a:prstGeom prst="rightArrow">
            <a:avLst>
              <a:gd name="adj1" fmla="val 50000"/>
              <a:gd name="adj2" fmla="val 10715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tij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42876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4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Een beginnende vegetatie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kan zich ontwikkelen van enkele pioniers tot een soortenrijk ecosysteem. Het eindstadium van deze successie heet climaxvegetat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br>
              <a:rPr sz="2000"/>
            </a:b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Pionierplanten beïnvloeden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abiotische milieufactoren waardoor er ruimte komt voor de andere soort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br>
              <a:rPr sz="2000"/>
            </a:b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Successie: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Een opeenvolging van verschillende plantensoorten en diersoorten in een bepaald gebied.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ooral bij braakliggend terrein en nieuw land (opgespoten of eilanden).</a:t>
            </a:r>
            <a:br>
              <a:rPr sz="14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Striped Right Arrow 5"/>
          <p:cNvSpPr/>
          <p:nvPr/>
        </p:nvSpPr>
        <p:spPr>
          <a:xfrm rot="5400000">
            <a:off x="4107240" y="2653560"/>
            <a:ext cx="500040" cy="428760"/>
          </a:xfrm>
          <a:custGeom>
            <a:avLst/>
            <a:gdLst>
              <a:gd name="textAreaLeft" fmla="*/ 66960 w 500040"/>
              <a:gd name="textAreaRight" fmla="*/ 393120 w 500040"/>
              <a:gd name="textAreaTop" fmla="*/ 106920 h 428760"/>
              <a:gd name="textAreaBottom" fmla="*/ 321840 h 428760"/>
            </a:gdLst>
            <a:ahLst/>
            <a:rect l="textAreaLeft" t="textAreaTop" r="textAreaRight" b="textAreaBottom"/>
            <a:pathLst>
              <a:path w="500062" h="428625">
                <a:moveTo>
                  <a:pt x="0" y="107156"/>
                </a:moveTo>
                <a:lnTo>
                  <a:pt x="13395" y="107156"/>
                </a:lnTo>
                <a:lnTo>
                  <a:pt x="13395" y="321469"/>
                </a:lnTo>
                <a:lnTo>
                  <a:pt x="0" y="321469"/>
                </a:lnTo>
                <a:close/>
                <a:moveTo>
                  <a:pt x="26789" y="107156"/>
                </a:moveTo>
                <a:lnTo>
                  <a:pt x="53578" y="107156"/>
                </a:lnTo>
                <a:lnTo>
                  <a:pt x="53578" y="321469"/>
                </a:lnTo>
                <a:lnTo>
                  <a:pt x="26789" y="321469"/>
                </a:lnTo>
                <a:close/>
                <a:moveTo>
                  <a:pt x="66973" y="107156"/>
                </a:moveTo>
                <a:lnTo>
                  <a:pt x="285750" y="107156"/>
                </a:lnTo>
                <a:lnTo>
                  <a:pt x="285750" y="0"/>
                </a:lnTo>
                <a:lnTo>
                  <a:pt x="500062" y="214313"/>
                </a:lnTo>
                <a:lnTo>
                  <a:pt x="285750" y="428625"/>
                </a:lnTo>
                <a:lnTo>
                  <a:pt x="285750" y="321469"/>
                </a:lnTo>
                <a:lnTo>
                  <a:pt x="66973" y="321469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Striped Right Arrow 6"/>
          <p:cNvSpPr/>
          <p:nvPr/>
        </p:nvSpPr>
        <p:spPr>
          <a:xfrm rot="5400000">
            <a:off x="4107240" y="4010760"/>
            <a:ext cx="500040" cy="428760"/>
          </a:xfrm>
          <a:custGeom>
            <a:avLst/>
            <a:gdLst>
              <a:gd name="textAreaLeft" fmla="*/ 66960 w 500040"/>
              <a:gd name="textAreaRight" fmla="*/ 393120 w 500040"/>
              <a:gd name="textAreaTop" fmla="*/ 106920 h 428760"/>
              <a:gd name="textAreaBottom" fmla="*/ 321840 h 428760"/>
            </a:gdLst>
            <a:ahLst/>
            <a:rect l="textAreaLeft" t="textAreaTop" r="textAreaRight" b="textAreaBottom"/>
            <a:pathLst>
              <a:path w="500063" h="428625">
                <a:moveTo>
                  <a:pt x="0" y="107156"/>
                </a:moveTo>
                <a:lnTo>
                  <a:pt x="13395" y="107156"/>
                </a:lnTo>
                <a:lnTo>
                  <a:pt x="13395" y="321469"/>
                </a:lnTo>
                <a:lnTo>
                  <a:pt x="0" y="321469"/>
                </a:lnTo>
                <a:close/>
                <a:moveTo>
                  <a:pt x="26789" y="107156"/>
                </a:moveTo>
                <a:lnTo>
                  <a:pt x="53578" y="107156"/>
                </a:lnTo>
                <a:lnTo>
                  <a:pt x="53578" y="321469"/>
                </a:lnTo>
                <a:lnTo>
                  <a:pt x="26789" y="321469"/>
                </a:lnTo>
                <a:close/>
                <a:moveTo>
                  <a:pt x="66973" y="107156"/>
                </a:moveTo>
                <a:lnTo>
                  <a:pt x="285751" y="107156"/>
                </a:lnTo>
                <a:lnTo>
                  <a:pt x="285751" y="0"/>
                </a:lnTo>
                <a:lnTo>
                  <a:pt x="500063" y="214313"/>
                </a:lnTo>
                <a:lnTo>
                  <a:pt x="285751" y="428625"/>
                </a:lnTo>
                <a:lnTo>
                  <a:pt x="285751" y="321469"/>
                </a:lnTo>
                <a:lnTo>
                  <a:pt x="66973" y="321469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nl-NL" sz="4400" spc="-1" strike="noStrike">
                <a:solidFill>
                  <a:srgbClr val="c00000"/>
                </a:solidFill>
                <a:latin typeface="Arial"/>
              </a:rPr>
              <a:t>Samengev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5" descr="Afbeelding:Golden-Wonder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65" name="TextBox 4"/>
          <p:cNvSpPr/>
          <p:nvPr/>
        </p:nvSpPr>
        <p:spPr>
          <a:xfrm>
            <a:off x="785880" y="357120"/>
            <a:ext cx="8001000" cy="581400"/>
          </a:xfrm>
          <a:prstGeom prst="rect">
            <a:avLst/>
          </a:prstGeom>
          <a:solidFill>
            <a:srgbClr val="ffffff">
              <a:alpha val="64000"/>
            </a:srgbClr>
          </a:solidFill>
          <a:ln w="93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ioniersecosyste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9T11:51:46Z</dcterms:created>
  <dc:creator>KSE</dc:creator>
  <dc:description/>
  <dc:language>en-US</dc:language>
  <cp:lastModifiedBy>Ria</cp:lastModifiedBy>
  <dcterms:modified xsi:type="dcterms:W3CDTF">2012-03-09T18:53:13Z</dcterms:modified>
  <cp:revision>50</cp:revision>
  <dc:subject/>
  <dc:title>Successie</dc:title>
</cp:coreProperties>
</file>