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1DC-51AB-45FE-9D0A-1E71689F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B3E-E950-4406-B280-F782C552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3EF-3BE0-42D5-AC2A-5B435E6C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AA60-F914-4E97-923D-120ED522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22A-CD95-49BF-AA89-D3A12189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D6D-4954-42C6-9B37-6F0BCB65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403-8A0D-4A96-8556-989D17C5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B7A-7459-4AB1-A797-C205E49C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10B-EAEC-42E6-A687-94C3F559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1E3-4310-4CF4-8E4E-DCB77F15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F19-085C-436E-B07E-DA563AA4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DADF-D8CC-4C58-9664-6CBC11B8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6D5F-9B27-4C89-9BBC-2A82FC0B2E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7640" y="2133720"/>
            <a:ext cx="69105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Future met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will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je om te zeggen da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ets in de toekomst zal gaan gebeur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 Je gebruik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ls je voorspellingen doet zonder dat je daar bewijs voor hebt of als je er geen invloed op hebt. In het Nederlands gebruik je vaak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za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zul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t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wil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probably rain this afternoo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People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  <a:ea typeface="Arial"/>
              </a:rPr>
              <a:t>won’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drive their own cars in the future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3280" y="2133720"/>
            <a:ext cx="69105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ture met 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going to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je om te zeggen da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je iets van plan ben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 In het Nederlands gebruik je vaak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aa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m going to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 some shopping this afternoo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re going to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y tennis tomorrow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e gebruik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o be going to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als je (bijna)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eker wee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t iets gaat gebeuren omdat je er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bewij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oor hebt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Look at those dark clouds!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’s going t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rai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  <a:ea typeface="Arial"/>
              </a:rPr>
              <a:t>My aunt is pregnant.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he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’s going to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ave a baby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3280" y="2133720"/>
            <a:ext cx="69105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Future met d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present simple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je als het gaat om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ijden volgens een vast schema aan te gev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bijvoorbeeld een dienstregeling of openings- en sluitingstijd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The post office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en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at half past eigh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The boat race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tart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at nine.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ture met de 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present continuous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je om aan te geven dat iets binnenkort gaat gebeuren. Het gaat om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fsprak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ingen die georganiseerd zij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They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re travellin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to Canada next month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y sister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s giving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party this Saturday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280" y="2133720"/>
            <a:ext cx="741708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ow show what you know!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Maak zinnen me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on’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of me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o be going t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28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 The sun is shining so bright. It ______ a hot day!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b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 I don’t know if he ______. He told me he had some other plans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com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 When the earthquake hit I was so scared. I thought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‘I ______ .’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d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 I can’t help you if you ______ me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l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Maak zinnen me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f de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resent simple)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. Tomorrow I ______ dinner with two of my best friends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hav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. The clothes store on Queen Street never ______ before 6 pm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clos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. That Irish rockband, The Kleptomaniacs, ______ across Europe this summer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tou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8. The rugby game ______ at 3 pm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star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2:18:09Z</dcterms:created>
  <dc:creator>spijkers</dc:creator>
  <dc:description/>
  <dc:language>en-US</dc:language>
  <cp:lastModifiedBy>Gebruiker</cp:lastModifiedBy>
  <dcterms:modified xsi:type="dcterms:W3CDTF">2013-11-10T19:39:10Z</dcterms:modified>
  <cp:revision>74</cp:revision>
  <dc:subject/>
  <dc:title>Dia 1</dc:title>
</cp:coreProperties>
</file>