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996-3887-451D-855F-C752A9D2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577-FCD1-4E82-8763-31BE2B81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1F1-680C-474C-9BE2-B9D6BC9C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05A-5297-4A8F-83E5-C175F371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2AB-C8CF-4E01-9B64-FEDCB24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0DE-8826-4FD9-A701-B3A645CB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F71-AF61-411B-B46D-B95350C1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6DF-DFFB-403D-AEDC-8863F94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DDA-D124-445D-93CC-99988CA4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A46-DAE4-475D-A549-9D7C018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B79-4381-4C3F-ABE4-14E833ED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FA0-5F52-4F5D-90E1-4815D7F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5F75-6A7B-475E-ABA8-FE2CCF83D8D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1052640"/>
          <a:ext cx="6842160" cy="5578200"/>
        </p:xfrm>
        <a:graphic>
          <a:graphicData uri="http://schemas.openxmlformats.org/drawingml/2006/table">
            <a:tbl>
              <a:tblPr/>
              <a:tblGrid>
                <a:gridCol w="2160720"/>
                <a:gridCol w="46814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         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hitru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/does +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s she like One Dire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you like appl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/doesn’t +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, she doesn’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, I don’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170921"/>
              <a:gd name="adj2" fmla="val 32208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hte verbindingslijn 6"/>
          <p:cNvSpPr/>
          <p:nvPr/>
        </p:nvSpPr>
        <p:spPr>
          <a:xfrm>
            <a:off x="179280" y="422100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9-15T18:47:00Z</dcterms:modified>
  <cp:revision>12</cp:revision>
  <dc:subject/>
  <dc:title>Dia 1</dc:title>
</cp:coreProperties>
</file>