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B3A7-E10A-4827-A5B2-619C23CC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F4C0-963B-444E-B654-404BDBA0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C021-D8A8-46C3-9DE2-51C021A0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2AB2-8EB1-4A08-8E58-2B601FD7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CF30-73E9-4B50-A5CF-AF41F801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0EC2-997E-4D10-88AF-7BED7E25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6F4B-3880-4102-8A8A-25385015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EC10-B8C2-45EB-8B06-8C1EEA99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8901-28E7-443A-B8EB-B06C6043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3ED8-DAA7-4485-A3C9-D3D9B9BD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7498-24AA-4639-8AE6-B403C4F4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5849-D36D-4EB0-9C6B-9ED6AA97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7BB9-A821-4F71-B97B-0C6F92DE03A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rcRect l="0" t="0" r="2058" b="4973"/>
          <a:stretch/>
        </p:blipFill>
        <p:spPr>
          <a:xfrm>
            <a:off x="4535640" y="189000"/>
            <a:ext cx="4608360" cy="3240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"/>
          <p:cNvPicPr/>
          <p:nvPr/>
        </p:nvPicPr>
        <p:blipFill>
          <a:blip r:embed="rId2"/>
          <a:stretch/>
        </p:blipFill>
        <p:spPr>
          <a:xfrm>
            <a:off x="0" y="189000"/>
            <a:ext cx="4476600" cy="3200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6" descr="http://www.digitanis.com/wp-content/uploads/2011/11/psvspc.gif"/>
          <p:cNvPicPr/>
          <p:nvPr/>
        </p:nvPicPr>
        <p:blipFill>
          <a:blip r:embed="rId3"/>
          <a:stretch/>
        </p:blipFill>
        <p:spPr>
          <a:xfrm>
            <a:off x="2268360" y="3514680"/>
            <a:ext cx="42865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171880"/>
                <a:gridCol w="3485880"/>
                <a:gridCol w="348624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 si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 continu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verb + </a:t>
                      </a:r>
                      <a:r>
                        <a:rPr b="1" lang="nl-NL" sz="1800" spc="-1" strike="noStrike" u="sng">
                          <a:solidFill>
                            <a:srgbClr val="ffff00"/>
                          </a:solidFill>
                          <a:uFillTx/>
                          <a:latin typeface="Calibri"/>
                        </a:rPr>
                        <a:t>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c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irregular verb</a:t>
                      </a:r>
                      <a:r>
                        <a:rPr b="0" lang="nl-NL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o – </a:t>
                      </a:r>
                      <a:r>
                        <a:rPr b="1" lang="nl-NL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wen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g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as/were</a:t>
                      </a:r>
                      <a:r>
                        <a:rPr b="0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 + </a:t>
                      </a:r>
                      <a:r>
                        <a:rPr b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 + </a:t>
                      </a:r>
                      <a:r>
                        <a:rPr b="1" lang="nl-NL" sz="1800" spc="-1" strike="noStrike" u="sng">
                          <a:solidFill>
                            <a:srgbClr val="558ed5"/>
                          </a:solidFill>
                          <a:uFillTx/>
                          <a:latin typeface="Calibri"/>
                        </a:rPr>
                        <a:t>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938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paint</a:t>
                      </a:r>
                      <a:r>
                        <a:rPr b="1" lang="nl-NL" sz="1800" spc="-1" strike="noStrike" u="sng">
                          <a:solidFill>
                            <a:srgbClr val="ffff00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house yellow </a:t>
                      </a: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year ago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i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as </a:t>
                      </a:r>
                      <a:r>
                        <a:rPr b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 u="sng">
                          <a:solidFill>
                            <a:srgbClr val="558ed5"/>
                          </a:solidFill>
                          <a:uFillTx/>
                          <a:latin typeface="Calibri"/>
                        </a:rPr>
                        <a:t>ing</a:t>
                      </a:r>
                      <a:r>
                        <a:rPr b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Karen’s so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y brother came i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9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had</a:t>
                      </a:r>
                      <a:r>
                        <a:rPr b="0" lang="nl-NL" sz="1800" spc="-1" strike="noStrike">
                          <a:solidFill>
                            <a:srgbClr val="fdeada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bad fall in rugby </a:t>
                      </a: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terday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m called her brother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hil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y </a:t>
                      </a:r>
                      <a:r>
                        <a:rPr b="1" i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ere </a:t>
                      </a:r>
                      <a:r>
                        <a:rPr b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atch</a:t>
                      </a:r>
                      <a:r>
                        <a:rPr b="1" lang="nl-NL" sz="1800" spc="-1" strike="noStrike" u="sng">
                          <a:solidFill>
                            <a:srgbClr val="558ed5"/>
                          </a:solidFill>
                          <a:uFillTx/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 event in the past which is FINISH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 event in the past that happened BEFORE something else happened in the pas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’s usually 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n indicator of the past t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here’s </a:t>
                      </a:r>
                      <a:r>
                        <a:rPr b="0" i="1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usually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an indicator of the past tense AND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word 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‘while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EXPR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you see these words, it’s automatically this tense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t week, a year ago, in June, yesterday, </a:t>
                      </a: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h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hthoek 1"/>
          <p:cNvSpPr/>
          <p:nvPr/>
        </p:nvSpPr>
        <p:spPr>
          <a:xfrm>
            <a:off x="250920" y="1341360"/>
            <a:ext cx="849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I ______ a film when the telephone ______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watch / r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He ______ television when someone ______ on the door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watch / knoc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 My dog ______ while I ______ to put on its leash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bark / try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His brothers ______ the car when he ______ the garage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repair / ent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She ______ home when the accident ______ 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drive / happ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 We ______ a game, but when Mark ______ we ______ 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play / cheat / st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kstvak 2"/>
          <p:cNvSpPr/>
          <p:nvPr/>
        </p:nvSpPr>
        <p:spPr>
          <a:xfrm>
            <a:off x="468360" y="692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ACTICE: Now let’s show what you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 1"/>
          <p:cNvSpPr/>
          <p:nvPr/>
        </p:nvSpPr>
        <p:spPr>
          <a:xfrm>
            <a:off x="250920" y="134136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I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watch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 film when the telephone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ra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ch / r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He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watch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levision when someone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knock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 the door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ch / knoc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 My dog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bark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hile I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tried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 put on its leash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ark / try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His brothers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repair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 car when he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enter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the garage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pair / ent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She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driv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me when the accident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happen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rive / happ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 We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ere play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 game, but when Mark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cheated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stopp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lay / cheat / st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kstvak 2"/>
          <p:cNvSpPr/>
          <p:nvPr/>
        </p:nvSpPr>
        <p:spPr>
          <a:xfrm>
            <a:off x="468360" y="692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5T15:09:38Z</dcterms:created>
  <dc:creator>Gebruiker</dc:creator>
  <dc:description/>
  <dc:language>en-US</dc:language>
  <cp:lastModifiedBy>Gebruiker</cp:lastModifiedBy>
  <dcterms:modified xsi:type="dcterms:W3CDTF">2013-10-20T19:07:31Z</dcterms:modified>
  <cp:revision>15</cp:revision>
  <dc:subject/>
  <dc:title>Dia 1</dc:title>
</cp:coreProperties>
</file>