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89B8-962D-44A1-B0C1-42BC9C07D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82D3-8A6D-47F1-849A-A574B0C9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FA5F-4EE5-44B2-B9EA-697EF07C6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AC65-A1B7-40B1-8B46-99E28988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C9A3-7C45-4E05-AD16-E26BB864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BFEF-4869-4AC3-B3D6-D1338459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C32B-DB0D-4D12-8308-8151C0C7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7179-53CB-4276-AF60-CFF2098E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3310-73D5-4824-8AA5-FDD9FA14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C075-DE33-4B99-A3F5-054BC247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B8F3-3440-4A8A-A57B-99FBAFE8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CCD5-B7E6-4908-99BA-588119C2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C9D1-9A98-4A7A-9899-3EECF6CE9271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30989" t="44882" r="53448" b="30453"/>
          <a:stretch/>
        </p:blipFill>
        <p:spPr>
          <a:xfrm>
            <a:off x="1619280" y="1341360"/>
            <a:ext cx="6048360" cy="5389560"/>
          </a:xfrm>
          <a:prstGeom prst="rect">
            <a:avLst/>
          </a:prstGeom>
          <a:ln w="0">
            <a:noFill/>
          </a:ln>
        </p:spPr>
      </p:pic>
      <p:sp>
        <p:nvSpPr>
          <p:cNvPr id="42" name="Tekstvak 4"/>
          <p:cNvSpPr/>
          <p:nvPr/>
        </p:nvSpPr>
        <p:spPr>
          <a:xfrm>
            <a:off x="1835280" y="40464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Passive or act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http://www.collider.com/wp-content/uploads/girl-zombie-The-Walking-Dead-AMC-tv-show-image.jpg"/>
          <p:cNvPicPr/>
          <p:nvPr/>
        </p:nvPicPr>
        <p:blipFill>
          <a:blip r:embed="rId1"/>
          <a:stretch/>
        </p:blipFill>
        <p:spPr>
          <a:xfrm>
            <a:off x="0" y="0"/>
            <a:ext cx="957744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ttp://static.tvtropes.org/pmwiki/pub/images/fat_zombie_boomer.jpg"/>
          <p:cNvPicPr/>
          <p:nvPr/>
        </p:nvPicPr>
        <p:blipFill>
          <a:blip r:embed="rId2">
            <a:grayscl/>
          </a:blip>
          <a:stretch/>
        </p:blipFill>
        <p:spPr>
          <a:xfrm>
            <a:off x="250920" y="333360"/>
            <a:ext cx="2636640" cy="2808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http://i0.kym-cdn.com/photos/images/newsfeed/000/017/382/1250991947631.jpg?1252470214"/>
          <p:cNvPicPr/>
          <p:nvPr/>
        </p:nvPicPr>
        <p:blipFill>
          <a:blip r:embed="rId3"/>
          <a:stretch/>
        </p:blipFill>
        <p:spPr>
          <a:xfrm>
            <a:off x="5292720" y="4124160"/>
            <a:ext cx="4103640" cy="273384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kstvak 8"/>
          <p:cNvSpPr/>
          <p:nvPr/>
        </p:nvSpPr>
        <p:spPr>
          <a:xfrm>
            <a:off x="276120" y="5157720"/>
            <a:ext cx="607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Calibri"/>
              </a:rPr>
              <a:t>She  was chased by zomb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kstvak 9"/>
          <p:cNvSpPr/>
          <p:nvPr/>
        </p:nvSpPr>
        <p:spPr>
          <a:xfrm>
            <a:off x="5267160" y="333360"/>
            <a:ext cx="38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alibri"/>
              </a:rPr>
              <a:t>The passive: de lijdende v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The passive: de lijdende vorm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0560" y="620640"/>
            <a:ext cx="88930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ls je achter de zin kan zetten ‘by zombies’ dan is het een </a:t>
            </a: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passieve z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PASSIVE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/lijdende zin: She </a:t>
            </a:r>
            <a:r>
              <a:rPr b="1" lang="nl-NL" sz="2000" spc="-1" strike="noStrike">
                <a:solidFill>
                  <a:srgbClr val="984807"/>
                </a:solidFill>
                <a:latin typeface="Calibri"/>
              </a:rPr>
              <a:t>was chased 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(BY ZOMBI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ACTIVE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/bedrijvende zin: </a:t>
            </a:r>
            <a:r>
              <a:rPr b="1" lang="nl-NL" sz="2000" spc="-1" strike="noStrike">
                <a:solidFill>
                  <a:srgbClr val="0070c0"/>
                </a:solidFill>
                <a:latin typeface="Calibri"/>
              </a:rPr>
              <a:t>Zombies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chased he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Waaro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n zin 1 is de actie duidelijk: zij wordt </a:t>
            </a:r>
            <a:r>
              <a:rPr b="1" lang="nl-NL" sz="1600" spc="-1" strike="noStrike">
                <a:solidFill>
                  <a:srgbClr val="984807"/>
                </a:solidFill>
                <a:latin typeface="Calibri"/>
              </a:rPr>
              <a:t>achter nagezete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. Dat kan door iedereen zijn, maar in dit geval door zombi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n  zin 2 is duidelijk dat de zombies iemand achterna zitten. Wie? Haar! Het is in deze zin belangrijk dat </a:t>
            </a:r>
            <a:r>
              <a:rPr b="1" lang="nl-NL" sz="1600" spc="-1" strike="noStrike">
                <a:solidFill>
                  <a:srgbClr val="0070c0"/>
                </a:solidFill>
                <a:latin typeface="Calibri"/>
              </a:rPr>
              <a:t>de zombie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iets doe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Calibri"/>
              </a:rPr>
              <a:t>Waar ligt de nadruk op in allebei de zinnen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Calibri"/>
              </a:rPr>
              <a:t>ZIN 1/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passive</a:t>
            </a:r>
            <a:r>
              <a:rPr b="0" lang="nl-NL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1300" spc="-1" strike="noStrike">
                <a:solidFill>
                  <a:srgbClr val="984807"/>
                </a:solidFill>
                <a:latin typeface="Calibri"/>
              </a:rPr>
              <a:t>HET ACHTERNA ZITTEN </a:t>
            </a:r>
            <a:r>
              <a:rPr b="0" lang="nl-NL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300" spc="-1" strike="noStrike">
                <a:solidFill>
                  <a:srgbClr val="000000"/>
                </a:solidFill>
                <a:latin typeface="Calibri"/>
              </a:rPr>
              <a:t> de actie/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wat</a:t>
            </a:r>
            <a:r>
              <a:rPr b="1" lang="nl-NL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300" spc="-1" strike="noStrike">
                <a:solidFill>
                  <a:srgbClr val="000000"/>
                </a:solidFill>
                <a:latin typeface="Calibri"/>
              </a:rPr>
              <a:t>er gebeur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Calibri"/>
              </a:rPr>
              <a:t>ZIN 2/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active: </a:t>
            </a:r>
            <a:r>
              <a:rPr b="1" lang="nl-NL" sz="1300" spc="-1" strike="noStrike">
                <a:solidFill>
                  <a:srgbClr val="0070c0"/>
                </a:solidFill>
                <a:latin typeface="Calibri"/>
              </a:rPr>
              <a:t>DE ZOMBIES </a:t>
            </a:r>
            <a:r>
              <a:rPr b="0" lang="nl-NL" sz="1300" spc="-1" strike="noStrike">
                <a:solidFill>
                  <a:srgbClr val="000000"/>
                </a:solidFill>
                <a:latin typeface="Calibri"/>
              </a:rPr>
              <a:t>zitten iemand achterna </a:t>
            </a:r>
            <a:r>
              <a:rPr b="0" lang="nl-NL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300" spc="-1" strike="noStrike">
                <a:solidFill>
                  <a:srgbClr val="000000"/>
                </a:solidFill>
                <a:latin typeface="Calibri"/>
              </a:rPr>
              <a:t> het onderwerp, </a:t>
            </a: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wie</a:t>
            </a:r>
            <a:r>
              <a:rPr b="0" lang="nl-NL" sz="1300" spc="-1" strike="noStrike">
                <a:solidFill>
                  <a:srgbClr val="000000"/>
                </a:solidFill>
                <a:latin typeface="Calibri"/>
              </a:rPr>
              <a:t> iets heeft gedaa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Hoe maak je een passieve zi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1. Onderwerp wordt lijdend voorwer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2. Tijd blijft hetzelf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3. Voeg wel de juiste vorm van het werkwooord BE + voltooid deelwoord to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AMPLES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PRESENT simple PASSIVE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he man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is eat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by zomb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 algn="ctr"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PAST simple PASS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he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was chased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by zombies) yesterday at 08: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rcRect l="47377" t="27441" r="16751" b="16535"/>
          <a:stretch/>
        </p:blipFill>
        <p:spPr>
          <a:xfrm>
            <a:off x="179280" y="3573360"/>
            <a:ext cx="3421080" cy="3003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http://3.bp.blogspot.com/-8HHaUCGNhIc/T3WeteaLaQI/AAAAAAAAE4U/SPk0AHsbKaM/s1600/zombies-eating.jpg"/>
          <p:cNvPicPr/>
          <p:nvPr/>
        </p:nvPicPr>
        <p:blipFill>
          <a:blip r:embed="rId2"/>
          <a:stretch/>
        </p:blipFill>
        <p:spPr>
          <a:xfrm>
            <a:off x="6084720" y="333360"/>
            <a:ext cx="2664000" cy="3995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http://www.touchscreen-digiborden.nl/wp-content/uploads/2012/03/klok.jpg"/>
          <p:cNvPicPr/>
          <p:nvPr/>
        </p:nvPicPr>
        <p:blipFill>
          <a:blip r:embed="rId3"/>
          <a:stretch/>
        </p:blipFill>
        <p:spPr>
          <a:xfrm>
            <a:off x="826920" y="5516640"/>
            <a:ext cx="83664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Passive: hoe nu verde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9280" y="907920"/>
            <a:ext cx="87854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?????Hoe maak je het???????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1. onderwerp wordt lijdend voorwerp (indien nodi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2. Tijd blijft hetzelf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3. vorm van be + voltooid deelwo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Calibri"/>
              </a:rPr>
              <a:t>Present simple passiv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he man </a:t>
            </a:r>
            <a:r>
              <a:rPr b="1" lang="nl-NL" sz="2700" spc="-1" strike="noStrike">
                <a:solidFill>
                  <a:srgbClr val="ff0000"/>
                </a:solidFill>
                <a:latin typeface="Calibri"/>
              </a:rPr>
              <a:t>is eaten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(by zombies) </a:t>
            </a:r>
            <a:r>
              <a:rPr b="1" lang="nl-NL" sz="2700" spc="-1" strike="noStrike">
                <a:solidFill>
                  <a:srgbClr val="000000"/>
                </a:solidFill>
                <a:latin typeface="Calibri"/>
              </a:rPr>
              <a:t>(am/is/are+voltooid deelwoord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(active= Zombies </a:t>
            </a:r>
            <a:r>
              <a:rPr b="1" i="1" lang="nl-NL" sz="2400" spc="-1" strike="noStrike">
                <a:solidFill>
                  <a:srgbClr val="953735"/>
                </a:solidFill>
                <a:latin typeface="Calibri"/>
              </a:rPr>
              <a:t>eat</a:t>
            </a:r>
            <a:r>
              <a:rPr b="1" i="1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the m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Calibri"/>
              </a:rPr>
              <a:t>Past simple passiv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he </a:t>
            </a:r>
            <a:r>
              <a:rPr b="1" lang="nl-NL" sz="2700" spc="-1" strike="noStrike">
                <a:solidFill>
                  <a:srgbClr val="ff0000"/>
                </a:solidFill>
                <a:latin typeface="Calibri"/>
              </a:rPr>
              <a:t>was chased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(by zombies) yesterday </a:t>
            </a:r>
            <a:r>
              <a:rPr b="1" lang="nl-NL" sz="2700" spc="-1" strike="noStrike">
                <a:solidFill>
                  <a:srgbClr val="000000"/>
                </a:solidFill>
                <a:latin typeface="Calibri"/>
              </a:rPr>
              <a:t>(was/were + voltooid deelwoord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(active= Zombies </a:t>
            </a:r>
            <a:r>
              <a:rPr b="1" i="1" lang="nl-NL" sz="2400" spc="-1" strike="noStrike">
                <a:solidFill>
                  <a:srgbClr val="953735"/>
                </a:solidFill>
                <a:latin typeface="Calibri"/>
              </a:rPr>
              <a:t>chased</a:t>
            </a: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 her yesterday)</a:t>
            </a:r>
            <a:br>
              <a:rPr sz="27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y it yoursel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. My books ______________ (steal) </a:t>
            </a: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(by zombies)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yesterda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. She ___________ (kiss) </a:t>
            </a: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(by a zombie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) yester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. The man __________ (devour)   </a:t>
            </a: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(by zombie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y it yoursel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3898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. My books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WERE STO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steal) </a:t>
            </a: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(by zombies)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yesterda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Past simple pass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s/were+voltooid deelwo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www.mymcpl.org/_uploaded_resources/imagecache/blog_wide_thumb/zombie_booksrev.jpg"/>
          <p:cNvPicPr/>
          <p:nvPr/>
        </p:nvPicPr>
        <p:blipFill>
          <a:blip r:embed="rId1"/>
          <a:stretch/>
        </p:blipFill>
        <p:spPr>
          <a:xfrm>
            <a:off x="4932360" y="1341360"/>
            <a:ext cx="38876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y it yoursel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3898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. She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WAS KISSED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kiss) </a:t>
            </a: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(by a zombie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) yester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Past simple pass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s/were+voltooid deelwo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zombieresearchsociety.com/wp-content/uploads/2012/07/Zombie-Kiss.jpg"/>
          <p:cNvPicPr/>
          <p:nvPr/>
        </p:nvPicPr>
        <p:blipFill>
          <a:blip r:embed="rId1"/>
          <a:stretch/>
        </p:blipFill>
        <p:spPr>
          <a:xfrm>
            <a:off x="4572000" y="1700280"/>
            <a:ext cx="432108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y it yoursel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3898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. The man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IS DEVOURED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devour)   </a:t>
            </a: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(by zombie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Present simple pass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m/is/are+voltooid deelwo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http://tbivision.com/wp-content/uploads/2013/02/TheWalkingDead_S2_ep01_Z04.jpg_cmyk.jpg"/>
          <p:cNvPicPr/>
          <p:nvPr/>
        </p:nvPicPr>
        <p:blipFill>
          <a:blip r:embed="rId1"/>
          <a:stretch/>
        </p:blipFill>
        <p:spPr>
          <a:xfrm>
            <a:off x="3708360" y="1413000"/>
            <a:ext cx="5216400" cy="34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10:14:12Z</dcterms:created>
  <dc:creator>Gebruiker</dc:creator>
  <dc:description/>
  <dc:language>en-US</dc:language>
  <cp:lastModifiedBy>Gebruiker</cp:lastModifiedBy>
  <dcterms:modified xsi:type="dcterms:W3CDTF">2013-11-24T20:25:06Z</dcterms:modified>
  <cp:revision>26</cp:revision>
  <dc:subject/>
  <dc:title>The passive</dc:title>
</cp:coreProperties>
</file>