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E13D-0ECD-4781-A9D5-377B043D0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72CD-54B0-4717-BFB8-F4FB1CF8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4F5A-E9BA-434A-B494-FFA1F36EE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D092-CD7C-4E9D-81C8-A84C91C87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AF61-8FE1-4CAA-9916-45BD1712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0DE1-8490-49CC-844D-30C34DE4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FB8D-EE83-4055-B02F-9453F9F6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D1AE-8D80-4714-8652-A62B8F23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484A-D802-47FC-84FB-C91FFFFE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911D-B76F-4859-BC5B-0DF9A6C7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9573-24D6-4393-8C77-48BB5BBA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4FC5-C1E9-42DF-9FD1-A85B71DF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FD2A-2B4D-49C9-A8CB-20DE485D4979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1052640"/>
          <a:ext cx="8569080" cy="5626080"/>
        </p:xfrm>
        <a:graphic>
          <a:graphicData uri="http://schemas.openxmlformats.org/drawingml/2006/table">
            <a:tbl>
              <a:tblPr/>
              <a:tblGrid>
                <a:gridCol w="1638000"/>
                <a:gridCol w="3875400"/>
                <a:gridCol w="3055680"/>
              </a:tblGrid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ve/has + past participl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f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ve/has + past participl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si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period of time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|---------------|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llowed by a specific time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|------------- --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 have lived in Den Bosch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 years and then we moved to Os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ve loved football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c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 was four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Y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don’t live in Den Bosch any more (for 2 yea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still love footb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ve been a fan of Katy Perry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5 yea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duration=5 years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ve been a fan of Katy Perry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c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009 (starting point = 200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42" name="Tekstvak 2"/>
          <p:cNvSpPr/>
          <p:nvPr/>
        </p:nvSpPr>
        <p:spPr>
          <a:xfrm>
            <a:off x="395280" y="260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For and since with the present 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23:25Z</dcterms:created>
  <dc:creator>Gebruiker</dc:creator>
  <dc:description/>
  <dc:language>en-US</dc:language>
  <cp:lastModifiedBy>Gebruiker</cp:lastModifiedBy>
  <dcterms:modified xsi:type="dcterms:W3CDTF">2013-09-01T19:11:12Z</dcterms:modified>
  <cp:revision>2</cp:revision>
  <dc:subject/>
  <dc:title>Dia 1</dc:title>
</cp:coreProperties>
</file>