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87F-CBB3-4500-A472-0A951BB9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7A0-A219-41EB-8F6E-35E892FB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72C-9733-443E-AE33-E81C9A60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F15-DF47-485C-B7B4-0CBBF937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DEA-DDD9-40EB-AF6E-5489BE29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BF9-5292-473F-A785-77E1F2AE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BC2-B519-4163-83DA-8A914AC9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484-6518-48F8-8B90-A3787D6C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B94-590B-46AB-B626-8CCEE81D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AAD-34CC-486B-AB1D-C623656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FF5-344A-4E97-9C13-CD1B828E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3C8-7321-45ED-A956-60ED031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90F2-B2F4-4350-9A95-49BBE9167D5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000" y="42840"/>
          <a:ext cx="8856720" cy="6626160"/>
        </p:xfrm>
        <a:graphic>
          <a:graphicData uri="http://schemas.openxmlformats.org/drawingml/2006/table">
            <a:tbl>
              <a:tblPr/>
              <a:tblGrid>
                <a:gridCol w="2079720"/>
                <a:gridCol w="2695320"/>
                <a:gridCol w="1231920"/>
                <a:gridCol w="28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rt ans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(I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’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not (I am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I am. / No, I’m 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(you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n’t (you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yo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you are / No, you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’s (he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isn’t (he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h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he is / No, he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’s (she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isn’t (she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sh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she is / No, she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(it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sn’t (it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it is / No, it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’re (we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’re not (we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w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we are / No, we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’re (they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’re not (they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the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they are / No, they aren’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(you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not (you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yo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you are/ No, you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abel het werkwoord zij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 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’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j 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’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j/zij/het 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is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’s/she’s/it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j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e’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j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’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lie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’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11-24T21:13:08Z</dcterms:modified>
  <cp:revision>16</cp:revision>
  <dc:subject/>
  <dc:title>Dia 1</dc:title>
</cp:coreProperties>
</file>