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0AA-E6A5-4D26-98F1-BC80CC88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3EB-6A67-41A6-AC99-DB5C599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A17-3F57-4A69-8ACF-D2095E77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247-75EA-464E-BB2C-B9D11EA7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DE1-448D-4D42-8FD1-C04B0C0F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978-25BA-47E3-AB68-AD0A1C7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63E-EF8A-4F2C-80A6-2B813867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F6F-7E18-433E-9A26-D928B48F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32E-9D80-49C7-AAA7-AB8E8A00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788-27B2-4B1C-8320-9D51B90D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CDE-C7F7-4416-9471-0273BFC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3EC-469C-46F6-AC26-0FB27C3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A761-07CD-4DF9-B676-1D224B6DD6A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7 TB p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1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2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9: </a:t>
            </a:r>
            <a:r>
              <a:rPr b="1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Think of a question to test how loyal people are. Use the vocabulary of exercise 7 in the textbook. Work with your neighbou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E.g.  (exempli gratia – for exam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You get on well with your new classmate sitting next to you. The popular boy/girl in the class asks if you’d like to sit next to her/him. Do you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y ‘yes’ immediately and ignore the other classmate from now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el happy with the request, but keep sitting next to your classmate any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k your other classmate if he/she’s ok with you changing sea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4 WB p. 14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59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2484360" y="155736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4"/>
          <p:cNvSpPr/>
          <p:nvPr/>
        </p:nvSpPr>
        <p:spPr>
          <a:xfrm>
            <a:off x="5364000" y="162864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hit i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acquain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friends ar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veryday English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xercise 5 Wb p. 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2. ….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3. As a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f f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4. that’s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. How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uld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6. Th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n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the bet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4572000" y="1557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That’s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ow could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… th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As a matter of 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The sooner the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5:27:08Z</dcterms:created>
  <dc:creator>Gebruiker</dc:creator>
  <dc:description/>
  <dc:language>en-US</dc:language>
  <cp:lastModifiedBy>Gebruiker</cp:lastModifiedBy>
  <dcterms:modified xsi:type="dcterms:W3CDTF">2013-11-10T19:39:14Z</dcterms:modified>
  <cp:revision>32</cp:revision>
  <dc:subject/>
  <dc:title>Exercise 7 TB p. 21</dc:title>
</cp:coreProperties>
</file>