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AFB5-D2CB-4710-842E-29312BA5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3B09-B93B-4F63-B8A1-9E0F8C9E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2B48-0555-470F-B143-B754326C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35AD-FFE2-4BF7-A8B2-696CEC4B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212C-1436-42E4-88ED-7946BD24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83EB-0D53-4994-B8F2-FB0E5A7D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BCB6-A8F8-415B-865D-9EBF0AC1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07EF-2DAB-4A72-9559-918113AD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6AC4-2D0C-4008-BE97-C62249DE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4BAB-4C46-4D84-8D3F-84EC0C72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B32-E4CA-452C-8DB3-89BD6A62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27AD-C5EE-4697-A479-28E0E448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6836-84EF-4ABF-8813-D6157C872BB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alternativeteaching.files.wordpress.com/2013/06/546682_457833490923207_576466024_n.jpg"/>
          <p:cNvPicPr/>
          <p:nvPr/>
        </p:nvPicPr>
        <p:blipFill>
          <a:blip r:embed="rId1"/>
          <a:stretch/>
        </p:blipFill>
        <p:spPr>
          <a:xfrm>
            <a:off x="395280" y="0"/>
            <a:ext cx="856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773760"/>
        </p:xfrm>
        <a:graphic>
          <a:graphicData uri="http://schemas.openxmlformats.org/drawingml/2006/table">
            <a:tbl>
              <a:tblPr/>
              <a:tblGrid>
                <a:gridCol w="2411280"/>
                <a:gridCol w="3684600"/>
                <a:gridCol w="3048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3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specific noun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goodby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a pr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so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thank 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it out 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it ag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d say…. (ik zou zeggen dat…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other specific noun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l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jo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 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someone off (become angry with some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 tr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sec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say 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tell someone 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id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e was t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out 90% of what we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y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sn’t spoke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one’s body language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lls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how they are feeling.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old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 he was tir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TCH EQUIVAL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g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tell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l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4:23:33Z</dcterms:created>
  <dc:creator>Gebruiker</dc:creator>
  <dc:description/>
  <dc:language>en-US</dc:language>
  <cp:lastModifiedBy>Gebruiker</cp:lastModifiedBy>
  <dcterms:modified xsi:type="dcterms:W3CDTF">2013-09-22T14:36:32Z</dcterms:modified>
  <cp:revision>4</cp:revision>
  <dc:subject/>
  <dc:title>Dia 1</dc:title>
</cp:coreProperties>
</file>