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10B-207F-490E-8DEA-2E49C5EA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89C-8E9A-4854-B0D3-D47A38FD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91E-F146-4D59-ABC5-8F6FB0A7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A3C-B5CD-41FB-98B1-5DCB913C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AE0-775B-4BEC-AD0B-3296E019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72E-1CD0-4EC9-ABD2-3436A0CF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416-5170-4ED6-99AA-6F6EE5C5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0E4-DA18-4B2E-BEB4-BCE5BE4D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204-D600-4333-8C23-002FBE3D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2A3-90B6-4C26-BCA0-EACF1A3C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E9D-9B35-4790-AEAC-D6DD08D1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8CE-79D1-42B5-9FD3-23B370F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992E-A140-4D1C-AA3A-5CA9106A29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885080" y="620640"/>
            <a:ext cx="843120" cy="5761080"/>
          </a:xfrm>
          <a:prstGeom prst="rect">
            <a:avLst/>
          </a:prstGeom>
          <a:solidFill>
            <a:srgbClr val="8ac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2664000" cy="863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324000" y="1197000"/>
            <a:ext cx="65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Personal and object pronou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(persoonlijke voornaamwoord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50920" y="2060640"/>
            <a:ext cx="74898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 looks like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m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mij/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 is as old as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je/jou/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H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ke’s cat never hit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hi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e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h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really like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h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a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n’t touch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you call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u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teachers like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jull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can feed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ze/hu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lauwe woorden: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object pronouns =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jdend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eewerkend voorwer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885080" y="620640"/>
            <a:ext cx="843120" cy="5761080"/>
          </a:xfrm>
          <a:prstGeom prst="rect">
            <a:avLst/>
          </a:prstGeom>
          <a:solidFill>
            <a:srgbClr val="8ac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2664000" cy="863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68360" y="1125360"/>
            <a:ext cx="59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ow, show what you know!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lete these sentence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95280" y="1989000"/>
            <a:ext cx="646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I want to see ____ soon!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e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Please, call ____ tonight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me/mij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Can you give that drink to ____?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a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Do they talk to ____?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julli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Give ____ to me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e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That pizza is for ____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. Tell _____ I’m at home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ze/hen/hu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. I like to be friends with ____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j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4:28:40Z</dcterms:created>
  <dc:creator>votalen</dc:creator>
  <dc:description/>
  <dc:language>en-US</dc:language>
  <cp:lastModifiedBy>lbd</cp:lastModifiedBy>
  <dcterms:modified xsi:type="dcterms:W3CDTF">2013-11-13T08:57:28Z</dcterms:modified>
  <cp:revision>9</cp:revision>
  <dc:subject/>
  <dc:title>Negations with to be  (ontkenningen met to be)</dc:title>
</cp:coreProperties>
</file>