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7989-D3D9-46E3-B1D7-908F216EC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2569-8A29-47C6-9C78-EB6DE806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9EC6-FD6F-4116-9126-89152E91A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B1BC-D9A3-47B2-9EBF-948159897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5E2E-52C6-4B2E-838B-C469382B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7DD7-0B58-4B85-AFDC-109CB67C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13BC-1A21-4E9B-8DF2-E73CBE87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AF12-F938-4BE9-8D5C-620E41E5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F773-F00C-4C67-AD4B-E069E20D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8CF4-F8A5-454A-9DDF-764B84C0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1BEF-FD61-49C9-9B54-BAFC21A3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01DA-B2A1-4783-884A-35F49EC6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6ED4-04D4-4B04-B51D-0A18BC043BE9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resent simple vs Present continuous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50920" y="1700280"/>
          <a:ext cx="7416720" cy="4851360"/>
        </p:xfrm>
        <a:graphic>
          <a:graphicData uri="http://schemas.openxmlformats.org/drawingml/2006/table">
            <a:tbl>
              <a:tblPr/>
              <a:tblGrid>
                <a:gridCol w="2471760"/>
                <a:gridCol w="2473200"/>
                <a:gridCol w="2471760"/>
              </a:tblGrid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si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continu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(formul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/she/it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/you/we/they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/is/ar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verb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te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chool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k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smell of gr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I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listen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the teacher right now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its &amp; facts, in the 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 THE MOMENT, in the present. (right now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lling exce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=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sh/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lent ‘e’ rem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gambling (to gamb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the present ten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 parent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 Washington bu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'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jus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sit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" name="Wolkvormige toelichting 4"/>
          <p:cNvSpPr/>
          <p:nvPr/>
        </p:nvSpPr>
        <p:spPr>
          <a:xfrm>
            <a:off x="7272360" y="981000"/>
            <a:ext cx="1871640" cy="1440000"/>
          </a:xfrm>
          <a:prstGeom prst="cloudCallout">
            <a:avLst>
              <a:gd name="adj1" fmla="val -22851"/>
              <a:gd name="adj2" fmla="val 8203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Verb = 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Ww=werkwo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8:08:16Z</dcterms:created>
  <dc:creator>Gebruiker</dc:creator>
  <dc:description/>
  <dc:language>en-US</dc:language>
  <cp:lastModifiedBy>Gebruiker</cp:lastModifiedBy>
  <dcterms:modified xsi:type="dcterms:W3CDTF">2013-08-25T08:52:56Z</dcterms:modified>
  <cp:revision>9</cp:revision>
  <dc:subject/>
  <dc:title>Dia 1</dc:title>
</cp:coreProperties>
</file>