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AF6-ADE8-4884-9BE7-96EB0EB0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29C-6847-4E82-B72B-47E69DE2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024-4B0F-4DEC-834C-CE250711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0F7-D4C7-401A-BE01-2C2AC1C9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C778-13B4-4313-92BB-3F37732B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AA68-A516-4AC2-A164-F026D2BC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228-63F8-4C14-A3AE-629206D4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2DD-2280-4AAD-BCCD-4F857041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4B9-2BA1-4AD1-98C7-7EF938A1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A7B-5BD4-4EAA-A9BD-3FAD6ABB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855-96F0-494E-9C43-A3D66FD9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ECB-7222-4A8C-B75A-A104783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18A-14F9-4D64-8EB5-B55AC15D603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64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ets in de toekomst zal gaan gebeu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als je voorspellingen doet zonder dat je daar bewijs voor hebt of als je er geen invloed op hebt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a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zul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t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wil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robably rain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People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drive their own cars in the future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going to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te zeggen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e iets van plan b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In het Nederlands gebruik je vaak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aa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 some shopping this afternoo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y tennis tomorrow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e gebruik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o be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als je (bijna)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eker wee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iets gaat gebeuren omdat je er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w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voor hebt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ook at those dark clouds!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’s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a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  <a:ea typeface="Arial"/>
              </a:rPr>
              <a:t>My aunt is pregnant.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’s going to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ave a bab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3280" y="2133720"/>
            <a:ext cx="6910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Future met d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present simpl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als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ijden volgens een vast schema aan te gev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bijvoorbeeld een dienstregeling of openings- en sluitingstijde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post offi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en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half past eigh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The boat rac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rt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at nine.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ture met de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present continuous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je om aan te geven dat iets binnenkort gaat gebeuren. Het gaat om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fsprak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ingen die georganiseerd zij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re travell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to Canada next month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y siste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s giv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party this Saturday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280" y="2133720"/>
            <a:ext cx="741708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ow show what you know!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on’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of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o be going t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8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 The sun is shining so bright. It ______ a hot day!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b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 I don’t know if he ______. He told me he had some other plan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om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 When the earthquake hit I was so scared. I thought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‘I ______ .’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d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 I can’t help you if you ______ me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le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Maak zinnen me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f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resent simple)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Tomorrow I ______ dinner with two of my best friends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hav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The clothes store on Queen Street never ______ before 6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clos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That Irish rockband, The Kleptomaniacs, ______ across Europe this summer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tou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. The rugby game ______ at 3 pm. (</a:t>
            </a:r>
            <a:r>
              <a:rPr b="1" lang="nl-NL" sz="2000" spc="-1" strike="noStrike">
                <a:solidFill>
                  <a:srgbClr val="0070c0"/>
                </a:solidFill>
                <a:latin typeface="Arial"/>
              </a:rPr>
              <a:t>st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)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8:09Z</dcterms:created>
  <dc:creator>spijkers</dc:creator>
  <dc:description/>
  <dc:language>en-US</dc:language>
  <cp:lastModifiedBy>Gebruiker</cp:lastModifiedBy>
  <dcterms:modified xsi:type="dcterms:W3CDTF">2013-11-10T19:39:10Z</dcterms:modified>
  <cp:revision>74</cp:revision>
  <dc:subject/>
  <dc:title>Dia 1</dc:title>
</cp:coreProperties>
</file>