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3A31-1E25-4717-BBE6-0BC54E5D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F268-17E7-450A-9994-C8A7D96F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E678-F18E-4291-A979-BF7C177B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CEB-BEBA-42D1-B822-8C9EB73C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9AAD-B5BC-4793-B5B2-93B561B6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C009-F57D-4A5A-984A-90567423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D249-4EE1-4E74-9A66-FF925784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8A88-AD4A-4DCA-BC93-01334943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5B07-8612-4D6F-A8A3-227D3761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F0E7-016C-497D-9068-3EB6F5B0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65AB-3D87-4D21-B86C-AD7F631B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1B0D-C10D-4E01-98AC-72B072AD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3568-2F76-472F-99C4-67D4D240869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413000"/>
          <a:ext cx="8461080" cy="5110200"/>
        </p:xfrm>
        <a:graphic>
          <a:graphicData uri="http://schemas.openxmlformats.org/drawingml/2006/table">
            <a:tbl>
              <a:tblPr/>
              <a:tblGrid>
                <a:gridCol w="1677960"/>
                <a:gridCol w="3962160"/>
                <a:gridCol w="28209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-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erb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la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isten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classical mus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want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o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ome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ll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back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hes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nj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an’t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(don’t) m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h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dec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off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lear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tud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ut I </a:t>
                      </a:r>
                      <a:r>
                        <a:rPr b="1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hope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lawyer someday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25092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rund versus the to-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01:51Z</dcterms:created>
  <dc:creator>Gebruiker</dc:creator>
  <dc:description/>
  <dc:language>en-US</dc:language>
  <cp:lastModifiedBy>Gebruiker</cp:lastModifiedBy>
  <dcterms:modified xsi:type="dcterms:W3CDTF">2013-09-01T19:11:41Z</dcterms:modified>
  <cp:revision>4</cp:revision>
  <dc:subject/>
  <dc:title>Dia 1</dc:title>
</cp:coreProperties>
</file>