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8C3-C5E1-4BA3-8790-DE1A62FB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CBB-57DF-4709-A8BC-318F9D98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6E75-7CC2-4DD2-947C-99D44214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FE9-7720-428E-ABA0-CA02B933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CC8B-DBD3-49F6-A756-47517A92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E5E7-6963-4EA8-89B2-51686C19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DCE-B000-46D0-9612-FB951BD4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8FA-7D76-498A-8D6A-68979A98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8C5D-B058-48CA-9D17-582E7394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B77-D9B8-4F4E-88F4-7AD2F7E8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26C-CADA-4FE9-85B1-0AF79521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3169-DCBC-4093-A0D7-1082F611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7D3D-37BA-4B16-A2C1-8778DBF6B59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9280" y="1052640"/>
          <a:ext cx="6842160" cy="5578200"/>
        </p:xfrm>
        <a:graphic>
          <a:graphicData uri="http://schemas.openxmlformats.org/drawingml/2006/table">
            <a:tbl>
              <a:tblPr/>
              <a:tblGrid>
                <a:gridCol w="2160720"/>
                <a:gridCol w="4681440"/>
              </a:tblGrid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          </a:t>
                      </a: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hitru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/does + 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es she like One Direct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you like appl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’t/doesn’t + 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, she doesn’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, I don’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170921"/>
              <a:gd name="adj2" fmla="val 32208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hte verbindingslijn 6"/>
          <p:cNvSpPr/>
          <p:nvPr/>
        </p:nvSpPr>
        <p:spPr>
          <a:xfrm>
            <a:off x="179280" y="4221000"/>
            <a:ext cx="684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9-15T18:47:00Z</dcterms:modified>
  <cp:revision>12</cp:revision>
  <dc:subject/>
  <dc:title>Dia 1</dc:title>
</cp:coreProperties>
</file>