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B630-96D0-419B-BE6A-B04D7139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3FD3-780A-44C0-87E2-293B0053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8804-5793-4D2A-9D46-A9308F88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D637-9342-4F2F-AF7F-A071029A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0295-16C2-499E-9C5A-EE4B8395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CF61-084A-48EE-AEA6-5B6C5BB1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D63E-565C-4427-96CF-64E7AA1D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C91C-07D8-48AE-A308-B417FA61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C4DC-1132-4E5C-B704-EE07E423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6735-F5AC-4BD1-A1F8-0649D72A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A1B4-8A78-4631-9D3F-44E0EA4C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D7A4-E8D6-49ED-A1BF-A0723E90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FC79-AC3D-419E-B01B-41A997DFCCC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oun suffixes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95280" y="1123920"/>
          <a:ext cx="8280360" cy="4753080"/>
        </p:xfrm>
        <a:graphic>
          <a:graphicData uri="http://schemas.openxmlformats.org/drawingml/2006/table">
            <a:tbl>
              <a:tblPr/>
              <a:tblGrid>
                <a:gridCol w="2070000"/>
                <a:gridCol w="2070360"/>
                <a:gridCol w="2070000"/>
                <a:gridCol w="207000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SE 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W 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8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es a jo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5968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1859c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urna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52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uns from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l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2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uns from verbs and ad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 + -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44" name="Tekstvak 4"/>
          <p:cNvSpPr/>
          <p:nvPr/>
        </p:nvSpPr>
        <p:spPr>
          <a:xfrm>
            <a:off x="395280" y="476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oun Suffixes (achtervoegsels bij zelfstandige naamwoor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58:36Z</dcterms:created>
  <dc:creator>Gebruiker</dc:creator>
  <dc:description/>
  <dc:language>en-US</dc:language>
  <cp:lastModifiedBy>Gebruiker</cp:lastModifiedBy>
  <dcterms:modified xsi:type="dcterms:W3CDTF">2013-09-01T19:09:48Z</dcterms:modified>
  <cp:revision>2</cp:revision>
  <dc:subject/>
  <dc:title>Noun suffixes </dc:title>
</cp:coreProperties>
</file>