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BB1-63FB-44A9-8F1D-2B61DD98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29C-5B87-4EF1-94F4-B8A5A402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532-1A88-4C00-BB89-060E68A9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947-F6F5-4AA5-A3FD-CAAD35F8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940-62A5-4334-B837-5AD21D60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39D-4609-4379-9170-5F0906F2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A2A-C2AF-4A9F-B7B5-B3CAAF8F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AE0-0717-48CD-BC83-F5C4DE09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BA0-65BA-471F-A699-DA93C9B8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5ED-8183-4C6F-A781-89B30DCD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CCE-6659-4102-A381-C99A51E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465-2A57-46C8-837F-13C20FF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EABB-19EA-4A44-ACF9-94D2F7282D3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"/>
          <p:cNvPicPr/>
          <p:nvPr/>
        </p:nvPicPr>
        <p:blipFill>
          <a:blip r:embed="rId1"/>
          <a:srcRect l="0" t="0" r="2058" b="4973"/>
          <a:stretch/>
        </p:blipFill>
        <p:spPr>
          <a:xfrm>
            <a:off x="4535640" y="189000"/>
            <a:ext cx="4608360" cy="32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189000"/>
            <a:ext cx="447660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http://www.digitanis.com/wp-content/uploads/2011/11/psvspc.gif"/>
          <p:cNvPicPr/>
          <p:nvPr/>
        </p:nvPicPr>
        <p:blipFill>
          <a:blip r:embed="rId3"/>
          <a:stretch/>
        </p:blipFill>
        <p:spPr>
          <a:xfrm>
            <a:off x="2268360" y="3514680"/>
            <a:ext cx="42865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171880"/>
                <a:gridCol w="3485880"/>
                <a:gridCol w="348624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verb + 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c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irregular verb</a:t>
                      </a:r>
                      <a:r>
                        <a:rPr b="0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o –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wen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g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/were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+ 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int</a:t>
                      </a:r>
                      <a:r>
                        <a:rPr b="1" lang="nl-NL" sz="1800" spc="-1" strike="noStrike" u="sng">
                          <a:solidFill>
                            <a:srgbClr val="ffff00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house yellow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year ago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s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Karen’s so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y brother came i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had</a:t>
                      </a:r>
                      <a:r>
                        <a:rPr b="0" lang="nl-NL" sz="1800" spc="-1" strike="noStrike">
                          <a:solidFill>
                            <a:srgbClr val="fdeada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ad fall in rugby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terd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m called her brother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 </a:t>
                      </a:r>
                      <a:r>
                        <a:rPr b="1" i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ere </a:t>
                      </a:r>
                      <a:r>
                        <a:rPr b="1" lang="nl-NL" sz="1800" spc="-1" strike="noStrike">
                          <a:solidFill>
                            <a:srgbClr val="558ed5"/>
                          </a:solidFill>
                          <a:latin typeface="Calibri"/>
                        </a:rPr>
                        <a:t>watch</a:t>
                      </a:r>
                      <a:r>
                        <a:rPr b="1" lang="nl-NL" sz="1800" spc="-1" strike="noStrike" u="sng">
                          <a:solidFill>
                            <a:srgbClr val="558ed5"/>
                          </a:solidFill>
                          <a:uFillTx/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which is FINISH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 event in the past that happened BEFORE something else happened in the pa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’s usually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n indicator of the 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here’s </a:t>
                      </a:r>
                      <a:r>
                        <a:rPr b="0" i="1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usually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an indicator of the past tense AND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d </a:t>
                      </a: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‘while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EX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 you see these words, it’s automatically this tens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 week, a year ago, in June, yesterday,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hthoek 1"/>
          <p:cNvSpPr/>
          <p:nvPr/>
        </p:nvSpPr>
        <p:spPr>
          <a:xfrm>
            <a:off x="250920" y="1341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______ a film when the telephone ______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______ television when someone ______ on the door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______ while I ______ to put on its leash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______ the car when he ______ the garage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______ home when the accident ______ 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______ a game, but when Mark ______ we ______ . (</a:t>
            </a:r>
            <a:r>
              <a:rPr b="1" lang="nl-NL" sz="2400" spc="-1" strike="noStrike">
                <a:solidFill>
                  <a:srgbClr val="0070c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ACTICE: Now let’s show what you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 1"/>
          <p:cNvSpPr/>
          <p:nvPr/>
        </p:nvSpPr>
        <p:spPr>
          <a:xfrm>
            <a:off x="250920" y="134136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I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film when the teleph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ra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r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watch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evision when someon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knock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 the door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ch / knoc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My dog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bark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tri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 put on its leash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ark / try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His brothers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repair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 car when h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enter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he garage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air / ente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Sh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as driv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me when the accident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happen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rive / happ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6. We </a:t>
            </a: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were play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 game, but when Mark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cheate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nl-NL" sz="2400" spc="-1" strike="noStrike">
                <a:solidFill>
                  <a:srgbClr val="00b0f0"/>
                </a:solidFill>
                <a:latin typeface="Arial"/>
              </a:rPr>
              <a:t>stoppe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lay / cheat / stop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2"/>
          <p:cNvSpPr/>
          <p:nvPr/>
        </p:nvSpPr>
        <p:spPr>
          <a:xfrm>
            <a:off x="468360" y="692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5:09:38Z</dcterms:created>
  <dc:creator>Gebruiker</dc:creator>
  <dc:description/>
  <dc:language>en-US</dc:language>
  <cp:lastModifiedBy>Gebruiker</cp:lastModifiedBy>
  <dcterms:modified xsi:type="dcterms:W3CDTF">2013-10-20T19:07:31Z</dcterms:modified>
  <cp:revision>15</cp:revision>
  <dc:subject/>
  <dc:title>Dia 1</dc:title>
</cp:coreProperties>
</file>