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40C-BE75-455F-B7BC-93D0CC0B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3EE-540E-4A96-A548-4BF867AB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FD17-A368-465C-9FA6-B9C08913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B98-97E7-4B3B-BEF4-C144ADE0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ACB-0185-4E92-AD23-9820A9D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0C87-844C-486E-BC9F-325190A0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FD7-5131-43AA-BFFC-D295CE86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0B8-E4C7-4246-8833-C7490A14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504-8817-4AA0-9D35-D646AFD6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6FA-6A09-4E67-AC23-A1B16916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3C2-B220-43B0-8036-110234C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B16-960F-4A42-896B-51A87D2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9D68-E8F0-495A-8FA7-8F3D35D6BAD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33360"/>
          <a:ext cx="8496000" cy="6264360"/>
        </p:xfrm>
        <a:graphic>
          <a:graphicData uri="http://schemas.openxmlformats.org/drawingml/2006/table">
            <a:tbl>
              <a:tblPr/>
              <a:tblGrid>
                <a:gridCol w="1698480"/>
                <a:gridCol w="1700280"/>
                <a:gridCol w="1698480"/>
                <a:gridCol w="1700280"/>
                <a:gridCol w="1698480"/>
              </a:tblGrid>
              <a:tr h="598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erlatives (overtreffende tra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8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SYLL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Één lettergree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</a:t>
                      </a:r>
                      <a:r>
                        <a:rPr b="1" lang="nl-NL" sz="18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86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TWO SYLLABLES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lettergrepen of me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R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ST </a:t>
                      </a:r>
                      <a:br>
                        <a:rPr sz="1800"/>
                      </a:b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a6a6"/>
                    </a:solidFill>
                  </a:tcPr>
                </a:tc>
              </a:tr>
              <a:tr h="485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  <a:tr h="486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79280" y="476280"/>
          <a:ext cx="8713800" cy="4876920"/>
        </p:xfrm>
        <a:graphic>
          <a:graphicData uri="http://schemas.openxmlformats.org/drawingml/2006/table">
            <a:tbl>
              <a:tblPr/>
              <a:tblGrid>
                <a:gridCol w="1743120"/>
                <a:gridCol w="1741680"/>
                <a:gridCol w="1743120"/>
                <a:gridCol w="1742760"/>
                <a:gridCol w="1743120"/>
              </a:tblGrid>
              <a:tr h="5144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ar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…. 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…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812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n’t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 big 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ad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beautiful than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e is the most beautiful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ity in Ita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1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ld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a is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lli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than Li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telligent girl in class is Susa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35:21Z</dcterms:created>
  <dc:creator>Gebruiker</dc:creator>
  <dc:description/>
  <dc:language>en-US</dc:language>
  <cp:lastModifiedBy>Gebruiker</cp:lastModifiedBy>
  <dcterms:modified xsi:type="dcterms:W3CDTF">2013-09-01T19:10:43Z</dcterms:modified>
  <cp:revision>4</cp:revision>
  <dc:subject/>
  <dc:title>Dia 1</dc:title>
</cp:coreProperties>
</file>