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029CF-A08A-4DA6-8DCB-AA3DAF13D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DD348-19B8-445E-92BA-14E6DF62B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BCEC8-05C7-453C-88F6-84737F215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20F2A-8DEC-4DB7-8B94-8E81CC257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BBF83-6C77-4DC9-8B24-EB0090F29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ECA51-D8D7-4A68-926D-86E4BA338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E10FD-9BA5-46BB-8F67-905E8BB9E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CE7C8-EB78-40BB-BF8D-BE614DB1B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0CAA4-791D-4E7C-BFD4-FA7F0C064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95DDF-27D6-4731-98C6-C1F41D9DA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7741A-2A1C-47DD-925F-ADD6B6ECB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F0561-1543-4979-A6EC-49DBA55C0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DE78E-54E2-4D00-A1D7-2476A87E3AFB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324000" y="1052640"/>
          <a:ext cx="8569080" cy="5626080"/>
        </p:xfrm>
        <a:graphic>
          <a:graphicData uri="http://schemas.openxmlformats.org/drawingml/2006/table">
            <a:tbl>
              <a:tblPr/>
              <a:tblGrid>
                <a:gridCol w="1638000"/>
                <a:gridCol w="3875400"/>
                <a:gridCol w="3055680"/>
              </a:tblGrid>
              <a:tr h="50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I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3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RMU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ave/has + past participle 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 f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ave/has + past participle 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 si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29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 period of time</a:t>
                      </a: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|---------------|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llowed by a specific time</a:t>
                      </a: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|------------- --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00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AMP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e have lived in Den Bosch 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r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2 years and then we moved to Os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’ve loved football 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nce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I was four!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25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Y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ou don’t live in Den Bosch any more (for 2 year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ou still love footb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FFERENC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’ve been a fan of Katy Perry 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r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5 year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duration=5 years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’ve been a fan of Katy Perry 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nce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2009 (starting point = 200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42" name="Tekstvak 2"/>
          <p:cNvSpPr/>
          <p:nvPr/>
        </p:nvSpPr>
        <p:spPr>
          <a:xfrm>
            <a:off x="395280" y="260280"/>
            <a:ext cx="84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For and since with the present perf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01T18:23:25Z</dcterms:created>
  <dc:creator>Gebruiker</dc:creator>
  <dc:description/>
  <dc:language>en-US</dc:language>
  <cp:lastModifiedBy>Gebruiker</cp:lastModifiedBy>
  <dcterms:modified xsi:type="dcterms:W3CDTF">2013-09-01T19:11:12Z</dcterms:modified>
  <cp:revision>2</cp:revision>
  <dc:subject/>
  <dc:title>Dia 1</dc:title>
</cp:coreProperties>
</file>