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0A1-2285-490E-A98A-B95D19FD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3CD-9350-4DB9-9E2E-7C19FA0A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B74-3242-458B-BF49-060F415C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B3B-6A20-43C7-9CD4-3240ED23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75C-BE63-4D55-A810-208D5510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28-3911-4B2E-B2E4-F03842C6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8D9F-944C-4026-B336-529F3F52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5E6-A688-4E8D-86B7-8DFCF21A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4C2-597F-4B31-A268-40D7E839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8E7D-A915-4468-AE8F-D215040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A46-C15E-45AE-965B-F3350C0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AF1-37DA-4766-B718-4FB049F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4D18-8EA8-4EF2-A478-FDF2308AF93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st simple past perfect answer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B p. 20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3178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d done, had been, hadn’t killed, had hidden, had sa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simple to talk about an event that took place at a particular time in the p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 use the past perfect when we need to make clean that an event took place BEFORE another past even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kstvak 3"/>
          <p:cNvSpPr/>
          <p:nvPr/>
        </p:nvSpPr>
        <p:spPr>
          <a:xfrm>
            <a:off x="3708360" y="155736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5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Mike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arrived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t the station, the train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lef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he programme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finished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when Tessa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turned o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 T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home, the dog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eat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heir ste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rybody </a:t>
            </a:r>
            <a:r>
              <a:rPr b="0" lang="nl-NL" sz="2400" spc="-1" strike="noStrike">
                <a:solidFill>
                  <a:srgbClr val="00b050"/>
                </a:solidFill>
                <a:latin typeface="Calibri"/>
              </a:rPr>
              <a:t>had gon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me when they </a:t>
            </a: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g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to the part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 5D TB p. 20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a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w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n’t retur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ve ha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oo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rri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escap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ad m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xercises 3a/3b/3c WB p.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30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1835280" y="1628640"/>
            <a:ext cx="316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alise, had l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d, had 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dn’t know, had said, was cr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ot, had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n’t working, had forgo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aw, had,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4"/>
          <p:cNvSpPr/>
          <p:nvPr/>
        </p:nvSpPr>
        <p:spPr>
          <a:xfrm>
            <a:off x="5724360" y="1628640"/>
            <a:ext cx="341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3. h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4. b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5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6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7. ha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8. 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9. 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0. d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11. w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16:34:32Z</dcterms:created>
  <dc:creator>Gebruiker</dc:creator>
  <dc:description/>
  <dc:language>en-US</dc:language>
  <cp:lastModifiedBy>Gebruiker</cp:lastModifiedBy>
  <dcterms:modified xsi:type="dcterms:W3CDTF">2013-11-10T16:51:34Z</dcterms:modified>
  <cp:revision>2</cp:revision>
  <dc:subject/>
  <dc:title>Dia 1</dc:title>
</cp:coreProperties>
</file>