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894-FEC3-4084-88E0-5766A11D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774-466F-42B6-8F64-F624D343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B4B-B6ED-4A90-8A29-907C516F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9EF-FC23-4C08-A40D-D313AA8F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BB6-8950-4816-A58B-FBAFDF43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3A7-C186-4F2A-9D03-2AC2F9EC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0F9-1BF4-46F0-A596-5746CBB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038-A71F-43ED-9A73-F6E1F9D4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4F9-A106-403D-91BF-759857FB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88F-3A26-4AEB-A589-681F7501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916-E18B-4ABF-B602-77F5EF33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28D-225A-4C19-A6D6-9D1672D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2A3-FD98-4D8B-93D8-0696409BD4A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8000" y="42840"/>
          <a:ext cx="8856720" cy="6626160"/>
        </p:xfrm>
        <a:graphic>
          <a:graphicData uri="http://schemas.openxmlformats.org/drawingml/2006/table">
            <a:tbl>
              <a:tblPr/>
              <a:tblGrid>
                <a:gridCol w="2079720"/>
                <a:gridCol w="2695320"/>
                <a:gridCol w="1231920"/>
                <a:gridCol w="2849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rt ans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(I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’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’m not (I am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I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I am. / No, I’m 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(you </a:t>
                      </a: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n’t (you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you are / No, you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’s (he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 isn’t (he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h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he is / No, he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’s (she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isn’t (she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sh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she is / No, she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(it 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isn’t (it is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i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it is / No, it is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’re (we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’re not (we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w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we are / No, we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’re (they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’re not (they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the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they are / No, they aren’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(you a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’re not (you are no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you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, you are/ No, you aren’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abel het werkwoord zij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 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’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j 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’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j/zij/het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is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e’s/she’s/it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j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e’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j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y’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lie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are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you’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11-24T21:13:08Z</dcterms:modified>
  <cp:revision>16</cp:revision>
  <dc:subject/>
  <dc:title>Dia 1</dc:title>
</cp:coreProperties>
</file>