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4CB9-3A07-4779-ADAA-B32A8748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FAD6-BA36-4F3E-BB6E-E17E099C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D1DD-16DE-4F5C-A8B9-0C606EE7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C2C1-9092-49F1-A407-35C3D8F3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719-4C6F-4498-9549-0A5398D6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69D6-F99E-464F-8EB5-2F13CD74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A77-65AA-4AA5-B358-4B377ACC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A852-C7B1-4F3A-B45B-F91B4D65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BC4-256C-498C-B6F2-2588C687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C21-667B-41B4-9839-34328A77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FF8-45AD-4F38-BC0D-4D923148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00B-B2C8-45EA-979E-AF317CBE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560B-3D05-411C-8D6E-5E04F572894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7 TB p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exercise 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1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2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4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6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Exercise 9: </a:t>
            </a:r>
            <a:r>
              <a:rPr b="1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 Think of a question to test how loyal people are. Use the vocabulary of exercise 7 in the textbook. Work with your neighbour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E.g.  (exempli gratia – for exam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You get on well with your new classmate sitting next to you. The popular boy/girl in the class asks if you’d like to sit next to her/him. Do you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ay ‘yes’ immediately and ignore the other classmate from now 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feel happy with the request, but keep sitting next to your classmate anywa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sk your other classmate if he/she’s ok with you changing sea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4 WB p. 14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600200"/>
            <a:ext cx="159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.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5.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6.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2484360" y="1557360"/>
            <a:ext cx="266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.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.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 .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5.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kstvak 4"/>
          <p:cNvSpPr/>
          <p:nvPr/>
        </p:nvSpPr>
        <p:spPr>
          <a:xfrm>
            <a:off x="5364000" y="1628640"/>
            <a:ext cx="324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2. al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m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hit it of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cl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acquain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friends ar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Everyday English: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Exercise 5 Wb p. 1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23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5a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2. ….th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3. As a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matter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of fa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4. that’s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new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5. How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uld 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you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6. The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sooner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the bet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3"/>
          <p:cNvSpPr/>
          <p:nvPr/>
        </p:nvSpPr>
        <p:spPr>
          <a:xfrm>
            <a:off x="4572000" y="1557360"/>
            <a:ext cx="41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2. That’s n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ow could you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… th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As a matter of f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The sooner the bet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5:27:08Z</dcterms:created>
  <dc:creator>Gebruiker</dc:creator>
  <dc:description/>
  <dc:language>en-US</dc:language>
  <cp:lastModifiedBy>Gebruiker</cp:lastModifiedBy>
  <dcterms:modified xsi:type="dcterms:W3CDTF">2013-11-10T19:39:14Z</dcterms:modified>
  <cp:revision>32</cp:revision>
  <dc:subject/>
  <dc:title>Exercise 7 TB p. 21</dc:title>
</cp:coreProperties>
</file>