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348-32FF-4E9A-B8ED-AD1A361E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5AE-30AE-4BFF-9D72-B9F39C72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4AF-9E44-4D5A-9C8C-B4587EC0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6E0-5B2C-4C52-B589-A901E7B8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42E-3E98-4ACD-A141-CAC6AFB3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6B7-3477-4000-9D0D-4B34364C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09A-E4B1-480E-BF51-B4C8B1CB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4BF-66D5-4C73-8737-970FFA9A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F8E-2C37-4BEA-8627-78E5A56D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19D1-38F9-4965-8D7E-EEBFAF33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483-5696-4DD5-8949-6043F2C9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ACE-0B06-4832-92AB-F71337D4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275C-8A7A-4265-A8DF-D47F39EE498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9280" y="260280"/>
          <a:ext cx="8629920" cy="6264360"/>
        </p:xfrm>
        <a:graphic>
          <a:graphicData uri="http://schemas.openxmlformats.org/drawingml/2006/table">
            <a:tbl>
              <a:tblPr/>
              <a:tblGrid>
                <a:gridCol w="862992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s TB p. 19 exercise 2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walking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eard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strange noi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looked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p, some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on the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, everything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lac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en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oke up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I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lying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 hospital b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rang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bell, a nurse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m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talk to 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nurse </a:t>
                      </a:r>
                      <a:r>
                        <a:rPr b="0" lang="nl-NL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talking 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, I </a:t>
                      </a:r>
                      <a:r>
                        <a:rPr b="0" lang="nl-NL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fell</a:t>
                      </a:r>
                      <a:r>
                        <a:rPr b="0" lang="nl-NL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love with her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24000" y="152280"/>
          <a:ext cx="8820000" cy="6516720"/>
        </p:xfrm>
        <a:graphic>
          <a:graphicData uri="http://schemas.openxmlformats.org/drawingml/2006/table">
            <a:tbl>
              <a:tblPr/>
              <a:tblGrid>
                <a:gridCol w="8820000"/>
              </a:tblGrid>
              <a:tr h="651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s TB p. 19  exercise 2F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We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a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ome problem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What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appene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Well,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 singing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ourth song, all the lights suddenly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)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ut!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What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i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do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s soon as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lights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came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ack on, I realised my microphone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)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asn’t working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So </a:t>
                      </a:r>
                      <a:r>
                        <a:rPr b="0" lang="nl-NL" sz="3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while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guys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) </a:t>
                      </a:r>
                      <a:r>
                        <a:rPr b="0" lang="nl-NL" sz="3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ere fixing 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icrophone, the band played on and I </a:t>
                      </a:r>
                      <a:br>
                        <a:rPr sz="3000"/>
                      </a:b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) </a:t>
                      </a:r>
                      <a:r>
                        <a:rPr b="0" lang="nl-NL" sz="30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started</a:t>
                      </a:r>
                      <a:r>
                        <a:rPr b="0" lang="nl-NL" sz="3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inging aga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B exercise 1A p. 12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look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for my tennis balls,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foun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an old sandwich under my b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y parents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cam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back, we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hav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 part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open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e door, they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danc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n the dar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foun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is girl’s phone number </a:t>
            </a: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clean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your ro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e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 were waiting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, we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start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o write invit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as teaching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 gym class </a:t>
            </a:r>
            <a:r>
              <a:rPr b="1" lang="nl-NL" sz="25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hear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about the plane cras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omeone </a:t>
            </a: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call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you on your mobile </a:t>
            </a:r>
            <a:r>
              <a:rPr b="1" lang="nl-NL" sz="2500" spc="-1" strike="noStrike">
                <a:solidFill>
                  <a:srgbClr val="ff0000"/>
                </a:solidFill>
                <a:latin typeface="Calibri"/>
              </a:rPr>
              <a:t>whi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ere taking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 the dog for a wal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70c0"/>
                </a:solidFill>
                <a:latin typeface="Calibri"/>
              </a:rPr>
              <a:t>WHEN: past simp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ff0000"/>
                </a:solidFill>
                <a:latin typeface="Calibri"/>
              </a:rPr>
              <a:t>While: past continu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B exercise 1B p. 13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nl-NL" sz="2700" spc="-1" strike="noStrike">
                <a:solidFill>
                  <a:srgbClr val="ff0000"/>
                </a:solidFill>
                <a:latin typeface="Calibri"/>
              </a:rPr>
              <a:t>while + was travelling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- 2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ca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nl-NL" sz="2700" spc="-1" strike="noStrike">
                <a:solidFill>
                  <a:srgbClr val="ff0000"/>
                </a:solidFill>
                <a:latin typeface="Calibri"/>
              </a:rPr>
              <a:t>While + was ringing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– 4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notic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5. She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pick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up the ph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6. The next time the phone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rang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– 7.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did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he same thin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Calibri"/>
              </a:rPr>
              <a:t>But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he next time,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didn’t move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9. His mother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answer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he pho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0. Every time David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phon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 – 11. 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went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to sit next to the phon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1" lang="nl-NL" sz="2700" spc="-1" strike="noStrike">
                <a:solidFill>
                  <a:srgbClr val="0070c0"/>
                </a:solidFill>
                <a:latin typeface="Calibri"/>
              </a:rPr>
              <a:t>Wh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it wasn’t David, Godzilla </a:t>
            </a:r>
            <a:r>
              <a:rPr b="0" lang="nl-NL" sz="2700" spc="-1" strike="noStrike">
                <a:solidFill>
                  <a:srgbClr val="0070c0"/>
                </a:solidFill>
                <a:latin typeface="Calibri"/>
              </a:rPr>
              <a:t>stayed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where she wa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7T20:15:08Z</dcterms:created>
  <dc:creator>Gebruiker</dc:creator>
  <dc:description/>
  <dc:language>en-US</dc:language>
  <cp:lastModifiedBy>Gebruiker</cp:lastModifiedBy>
  <dcterms:modified xsi:type="dcterms:W3CDTF">2013-11-10T15:47:07Z</dcterms:modified>
  <cp:revision>14</cp:revision>
  <dc:subject/>
  <dc:title>Dia 1</dc:title>
</cp:coreProperties>
</file>