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B29-9D5D-4E99-8B77-8776A740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3F8-590E-4616-887D-00861A09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0CB-29CF-487E-80AB-ABC10F3C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F7D-9442-44D3-AD04-3942C1AF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3143-2204-4C53-A709-6BA78EDB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FC9-49F2-4DA4-8249-729EF052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F52-E676-4B12-ADF7-A40C7BBB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9E6-A116-487A-B2C2-1F239C30F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148-E932-4095-AD47-8AE4D8E0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EA9-5534-4718-9E04-10AAC18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395-6CC3-4181-A767-ECFB4E48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B57-7F4D-47FE-A696-4EB88875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7DAD-92BA-4192-BCD2-0411E3FC484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alternativeteaching.files.wordpress.com/2013/06/546682_457833490923207_576466024_n.jpg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773760"/>
        </p:xfrm>
        <a:graphic>
          <a:graphicData uri="http://schemas.openxmlformats.org/drawingml/2006/table">
            <a:tbl>
              <a:tblPr/>
              <a:tblGrid>
                <a:gridCol w="2411280"/>
                <a:gridCol w="368460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A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goodby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a pr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so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thank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out 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y it ag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d say…. (ik zou zeggen dat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other specific noun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l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jo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someone off (become angry with some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the tr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l a sec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say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You tell someone 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i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 was ti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out 90% of what w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y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sn’t spok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one’s body language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ells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how they are feeling.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old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 he was tir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TCH EQUIVA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g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tell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 T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l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4:23:33Z</dcterms:created>
  <dc:creator>Gebruiker</dc:creator>
  <dc:description/>
  <dc:language>en-US</dc:language>
  <cp:lastModifiedBy>Gebruiker</cp:lastModifiedBy>
  <dcterms:modified xsi:type="dcterms:W3CDTF">2013-09-22T14:36:32Z</dcterms:modified>
  <cp:revision>4</cp:revision>
  <dc:subject/>
  <dc:title>Dia 1</dc:title>
</cp:coreProperties>
</file>