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600-10AA-41C1-A0A1-F8ED85A2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7E6-7B85-41EB-946F-04B6552B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92C-059E-4B9E-B78D-CBC3DA22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824-B8D7-43E0-B936-2F76EDD0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E80-5E7F-49BD-9EB6-8B4297B0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DEB-CF1E-4DF7-B3B1-E77D0FF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6C8-FC45-45E2-B0C3-77EE69B0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A9F-A7EC-4ED4-A961-77639458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BF0-8A72-4A8B-9212-3103A877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B91-519B-4211-A12C-ACF8FFD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BF9-1271-4272-817B-765C288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917-3400-43E7-8C8B-B6FCCA19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D880-E348-49C8-BA8E-874EFBC5D0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324000" y="1197000"/>
            <a:ext cx="65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sonal and object prono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(persoonlijke voornaamwoord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50920" y="2060640"/>
            <a:ext cx="74898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 looks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mij/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 is as old as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333399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e/jou/u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H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ke’s cat never hit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i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h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 really like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h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n’t touch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i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!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you call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teachers like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yo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 can feed</a:t>
            </a:r>
            <a:r>
              <a:rPr b="1" lang="en-GB" sz="2400" spc="-1" strike="noStrike">
                <a:solidFill>
                  <a:srgbClr val="009999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ze/hu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lauwe woorden: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object pronouns =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jdend-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meewerkend voorwer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885080" y="620640"/>
            <a:ext cx="843120" cy="5761080"/>
          </a:xfrm>
          <a:prstGeom prst="rect">
            <a:avLst/>
          </a:prstGeom>
          <a:solidFill>
            <a:srgbClr val="8ac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863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8360" y="1125360"/>
            <a:ext cx="59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ow, show what you know!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mplete these sentenc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95280" y="1989000"/>
            <a:ext cx="64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I want to see ____ soon!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Please, call ____ tonight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me/mij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Can you give that drink to ____?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aa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Do they talk to ____?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ulli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Give ____ to 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e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That pizza is for ____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7. Tell _____ I’m at home.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ze/hen/hu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. I like to be friends with ____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jo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4:28:40Z</dcterms:created>
  <dc:creator>votalen</dc:creator>
  <dc:description/>
  <dc:language>en-US</dc:language>
  <cp:lastModifiedBy>lbd</cp:lastModifiedBy>
  <dcterms:modified xsi:type="dcterms:W3CDTF">2013-11-13T08:57:28Z</dcterms:modified>
  <cp:revision>9</cp:revision>
  <dc:subject/>
  <dc:title>Negations with to be  (ontkenningen met to be)</dc:title>
</cp:coreProperties>
</file>