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E7E4-9375-4DDF-A391-0686FDE5B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C000-F3E4-4AE5-BED4-EEB1D886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0AC8-EB84-4083-ACBB-3C7BC57F3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CCA3-5A49-482F-9E48-A401FAF24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9BD5-623A-49FE-A915-42956073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198D-8243-41F1-B168-8054378E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F460-53F1-4EA4-97C6-D5E92718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A06F-2D2F-4949-948C-B66032E5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9DB6-1066-4185-AD94-244E0117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F432-8509-4340-ADBE-845BA65E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7BB2-6299-4B45-B9FE-17BDF7D7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F1CB-C0D0-489D-9088-22D5A672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F300-F1FD-4DE0-A1FA-6AEA952AB837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resent simple vs Present continuous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50920" y="1700280"/>
          <a:ext cx="7416720" cy="4851360"/>
        </p:xfrm>
        <a:graphic>
          <a:graphicData uri="http://schemas.openxmlformats.org/drawingml/2006/table">
            <a:tbl>
              <a:tblPr/>
              <a:tblGrid>
                <a:gridCol w="2471760"/>
                <a:gridCol w="2473200"/>
                <a:gridCol w="2471760"/>
              </a:tblGrid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si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continu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(formul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/she/it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/you/we/they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/is/ar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verb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te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chool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k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smell of gr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I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listen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the teacher right now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its &amp; facts, in the 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 THE MOMENT, in the present. (right now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lling exce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=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sh/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lent ‘e’ rem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gambling (to gamb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the present ten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 parent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 Washington bu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'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jus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sit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" name="Wolkvormige toelichting 4"/>
          <p:cNvSpPr/>
          <p:nvPr/>
        </p:nvSpPr>
        <p:spPr>
          <a:xfrm>
            <a:off x="7272360" y="981000"/>
            <a:ext cx="1871640" cy="1440000"/>
          </a:xfrm>
          <a:prstGeom prst="cloudCallout">
            <a:avLst>
              <a:gd name="adj1" fmla="val -22851"/>
              <a:gd name="adj2" fmla="val 8203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Verb = 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Ww=werkwo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8:08:16Z</dcterms:created>
  <dc:creator>Gebruiker</dc:creator>
  <dc:description/>
  <dc:language>en-US</dc:language>
  <cp:lastModifiedBy>Gebruiker</cp:lastModifiedBy>
  <dcterms:modified xsi:type="dcterms:W3CDTF">2013-08-25T08:52:56Z</dcterms:modified>
  <cp:revision>9</cp:revision>
  <dc:subject/>
  <dc:title>Dia 1</dc:title>
</cp:coreProperties>
</file>