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668-35A0-4B4B-87FE-B15FC025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AA8-F114-4A58-8862-42BDB392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143-771C-42E6-B82C-AAAB6EB8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FF5-5B1B-4955-9273-DAB0F1AA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B52-EFA3-4A0B-BECC-6BBFBA7F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2EF-3B2B-4AEB-BEEB-EE1D5EF4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137-1F60-4A0D-A733-F2D5F8D9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144-C84D-4574-8DB8-F25DC9E9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0E6-7E96-4908-BBAB-D961E401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369-FCC7-4B37-A310-A340048B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216-23DF-4927-BE43-CF3C693B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F9E-927C-4A5E-80F5-40967C6D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3894-5C96-431E-A0FA-36547DAEE5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ets in de toekomst zal gaan gebeu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ls je voorspellingen doet zonder dat je daar bewijs voor hebt of als je er geen invloed op hebt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a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robably rain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People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drive their own cars in the future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going to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e iets van plan b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aa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 some shopping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y tennis tomorrow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o b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ls je (bijna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eker wee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iets gaat gebeuren omdat je er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w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oor hebt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ook at those dark clouds!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’s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a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My aunt is pregnant.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’s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ve a bab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d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present simpl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als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ijden volgens een vast schema aan te gev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bijvoorbeeld een dienstregeling of openings- en sluitingstijd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post offi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en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half past eigh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boat ra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rt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nine.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de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present continuous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aan te geven dat iets binnenkort gaat gebeuren.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fspra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ingen die georganiseerd zij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travell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o Canada next month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y siste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s giv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party this Saturda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133720"/>
            <a:ext cx="741708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ow show what you know!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of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o be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 The sun is shining so bright. It ______ a hot day!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I don’t know if he ______. He told me he had some other plan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o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When the earthquake hit I was so scared. I thought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I ______ .’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d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 I can’t help you if you ______ me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simple)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Tomorrow I ______ dinner with two of my best friend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hav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The clothes store on Queen Street never ______ before 6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los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That Irish rockband, The Kleptomaniacs, ______ across Europe this summer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tou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. The rugby game ______ at 3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st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8:09Z</dcterms:created>
  <dc:creator>spijkers</dc:creator>
  <dc:description/>
  <dc:language>en-US</dc:language>
  <cp:lastModifiedBy>Gebruiker</cp:lastModifiedBy>
  <dcterms:modified xsi:type="dcterms:W3CDTF">2013-11-10T19:39:10Z</dcterms:modified>
  <cp:revision>74</cp:revision>
  <dc:subject/>
  <dc:title>Dia 1</dc:title>
</cp:coreProperties>
</file>