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CC5B-7079-4A10-BD84-B4A1F9C3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42C-42BC-4E35-B8ED-618D1DC9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F3A9-F029-4972-9C98-16EF0F3C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7AF-FBF1-429D-883C-D2C1F7AF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E466-398F-4A3A-BE2C-5E154BD3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5F0D-CF7E-47DC-B6E0-C68D5418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3A9-E86A-48DF-9F4E-F743A598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5C17-2C46-4E05-8C80-C2F3459A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2EC6-E14F-42E9-A9C2-84AC60C2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56E3-7C17-4ED8-9AE6-0F01C7BF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172A-BBAD-4135-A313-26BF3AF2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E3D8-BD11-48B5-A985-F86DDFD9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01E3-F315-4900-B672-081FEFB7379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413000"/>
          <a:ext cx="8461080" cy="5110200"/>
        </p:xfrm>
        <a:graphic>
          <a:graphicData uri="http://schemas.openxmlformats.org/drawingml/2006/table">
            <a:tbl>
              <a:tblPr/>
              <a:tblGrid>
                <a:gridCol w="1677960"/>
                <a:gridCol w="3962160"/>
                <a:gridCol w="28209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-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erb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la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isten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classical mus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want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o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ome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ll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back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hes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nj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an’t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(don’t) m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h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dec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off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lear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tud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ut I </a:t>
                      </a:r>
                      <a:r>
                        <a:rPr b="1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hope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lawyer someday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25092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rund versus the to-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01:51Z</dcterms:created>
  <dc:creator>Gebruiker</dc:creator>
  <dc:description/>
  <dc:language>en-US</dc:language>
  <cp:lastModifiedBy>Gebruiker</cp:lastModifiedBy>
  <dcterms:modified xsi:type="dcterms:W3CDTF">2013-09-01T19:11:41Z</dcterms:modified>
  <cp:revision>4</cp:revision>
  <dc:subject/>
  <dc:title>Dia 1</dc:title>
</cp:coreProperties>
</file>