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CD77-5D98-46AD-90DB-12977E5C0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9012-FAB7-4B09-9087-41207A81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14CE-1432-48BA-8F9F-734AE2C2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6B97-3B1E-4607-9E1B-146AFA0B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4D60-9670-4E41-8DFD-02B89A35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306A-B723-48DE-B662-DEAF8408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AC16-0436-49C6-8FCB-9BE4C422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06B8-52DC-4C02-9202-7D72691D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2C06-290B-4041-B9AB-33DCAA42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0C37-EE0E-44FE-B670-1EC0FB85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FF46-13E8-4035-B9C6-E591DAA3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5B92-F3C5-49A8-A678-37CE6078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DF3C-9A12-47F6-A7FD-BCFCD008A83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79280" y="1052640"/>
          <a:ext cx="6842160" cy="5578200"/>
        </p:xfrm>
        <a:graphic>
          <a:graphicData uri="http://schemas.openxmlformats.org/drawingml/2006/table">
            <a:tbl>
              <a:tblPr/>
              <a:tblGrid>
                <a:gridCol w="2160720"/>
                <a:gridCol w="4681440"/>
              </a:tblGrid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          </a:t>
                      </a: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hitru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1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/does + 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es she like One Directio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you like appl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’t/doesn’t + 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, she doesn’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, I don’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170921"/>
              <a:gd name="adj2" fmla="val 32208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hte verbindingslijn 6"/>
          <p:cNvSpPr/>
          <p:nvPr/>
        </p:nvSpPr>
        <p:spPr>
          <a:xfrm>
            <a:off x="179280" y="4221000"/>
            <a:ext cx="68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9-15T18:47:00Z</dcterms:modified>
  <cp:revision>12</cp:revision>
  <dc:subject/>
  <dc:title>Dia 1</dc:title>
</cp:coreProperties>
</file>