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2ACB-4804-4D1B-AD46-2C502EDA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35DD-E06D-4113-99C4-C79028E9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9014-4E8D-4F92-9F68-EAB8BC20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14D5-5EC6-43DF-842B-8B4F831E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9C9C-E754-48DF-B9BE-649ACD70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6C59-4E9C-4445-99CA-428A49E4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5784-B330-4D05-8B42-7BCD23D9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EF34-AE9F-41F9-B5C2-5BB9DABE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85DB-3ADE-4A7E-8C3C-62B67EF4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482B-5715-4BF5-9988-19229D42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C2C9-F3D1-4002-A80E-15DE10BE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212F-68FA-4FD5-8326-4C104B96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984D-11BA-45C8-8E1F-550A585462F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oun suffixes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95280" y="1123920"/>
          <a:ext cx="8280360" cy="4753080"/>
        </p:xfrm>
        <a:graphic>
          <a:graphicData uri="http://schemas.openxmlformats.org/drawingml/2006/table">
            <a:tbl>
              <a:tblPr/>
              <a:tblGrid>
                <a:gridCol w="2070000"/>
                <a:gridCol w="2070360"/>
                <a:gridCol w="2070000"/>
                <a:gridCol w="207000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SE 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 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8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es a jo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52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uns from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l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uns from verbs and ad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44" name="Tekstvak 4"/>
          <p:cNvSpPr/>
          <p:nvPr/>
        </p:nvSpPr>
        <p:spPr>
          <a:xfrm>
            <a:off x="395280" y="476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oun Suffixes (achtervoegsels bij zelfstandige naamwoor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58:36Z</dcterms:created>
  <dc:creator>Gebruiker</dc:creator>
  <dc:description/>
  <dc:language>en-US</dc:language>
  <cp:lastModifiedBy>Gebruiker</cp:lastModifiedBy>
  <dcterms:modified xsi:type="dcterms:W3CDTF">2013-09-01T19:09:48Z</dcterms:modified>
  <cp:revision>2</cp:revision>
  <dc:subject/>
  <dc:title>Noun suffixes </dc:title>
</cp:coreProperties>
</file>