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EF3-F0C3-42A7-8758-E3315238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029-1FF1-4A31-954E-0A0EB72F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467-F1D4-4D58-8500-8CE3A793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88B-54F7-4DED-9197-2084C39F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46D-B5D8-4A54-BD9A-1478B945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D4D-DC5F-4D6C-93CE-74F9D9F7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699-EA9E-452B-82AE-114915E8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A01-4A4B-43F6-844A-5F5C4A0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EFA-3183-4436-959B-95E412E9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669-D992-41E7-9765-0BF0522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061-9940-4FA7-A6E9-4E9E3491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C9E-AD8D-4508-A644-F684643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C96-9B22-4F77-8184-B8F34370B08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rcRect l="0" t="0" r="2058" b="4973"/>
          <a:stretch/>
        </p:blipFill>
        <p:spPr>
          <a:xfrm>
            <a:off x="4535640" y="18900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189000"/>
            <a:ext cx="447660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http://www.digitanis.com/wp-content/uploads/2011/11/psvspc.gif"/>
          <p:cNvPicPr/>
          <p:nvPr/>
        </p:nvPicPr>
        <p:blipFill>
          <a:blip r:embed="rId3"/>
          <a:stretch/>
        </p:blipFill>
        <p:spPr>
          <a:xfrm>
            <a:off x="2268360" y="3514680"/>
            <a:ext cx="4286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71880"/>
                <a:gridCol w="3485880"/>
                <a:gridCol w="34862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rb + 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irregular verb</a:t>
                      </a:r>
                      <a:r>
                        <a:rPr b="0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 –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/were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int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ouse yellow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year ag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Karen’s so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y brother came i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1800" spc="-1" strike="noStrike">
                          <a:solidFill>
                            <a:srgbClr val="fdeada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d fall in rugby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terd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 called her brother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ere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tch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which is FINISH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that happened BEFORE something else happened in the pa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’s usually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 indicator of the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re’s </a:t>
                      </a:r>
                      <a:r>
                        <a:rPr b="0" i="1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ually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an indicator of the past tense AND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d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‘while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you see these words, it’s automatically this tens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week, a year ago, in June, yesterday,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hthoek 1"/>
          <p:cNvSpPr/>
          <p:nvPr/>
        </p:nvSpPr>
        <p:spPr>
          <a:xfrm>
            <a:off x="250920" y="1341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______ a film when the telephone ______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______ television when someone ______ on the door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______ while I ______ to put on its leash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______ the car when he ______ the garage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______ home when the accident ______ 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______ a game, but when Mark ______ we ______ 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ACTICE: Now let’s show what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1"/>
          <p:cNvSpPr/>
          <p:nvPr/>
        </p:nvSpPr>
        <p:spPr>
          <a:xfrm>
            <a:off x="250920" y="1341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film when the teleph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ra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evision when some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knock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 the door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bark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tri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put on its leash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repair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car when h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enter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he garage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driv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me when the accident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happen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ere play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game, but when Mark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cheat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stopp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5:09:38Z</dcterms:created>
  <dc:creator>Gebruiker</dc:creator>
  <dc:description/>
  <dc:language>en-US</dc:language>
  <cp:lastModifiedBy>Gebruiker</cp:lastModifiedBy>
  <dcterms:modified xsi:type="dcterms:W3CDTF">2013-10-20T19:07:31Z</dcterms:modified>
  <cp:revision>15</cp:revision>
  <dc:subject/>
  <dc:title>Dia 1</dc:title>
</cp:coreProperties>
</file>