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65CB-4EB1-494E-8C18-F5908EA3C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D62E-0ED8-40D1-BF08-D0A14F500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E4A2-51E0-4D1C-827B-BF22C846F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A762-48A5-4B23-9076-A7286CEDC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3812-C0A4-430F-85C7-FC24532E7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44DD-4259-4B9B-AF08-D831F43A0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C2A4-2F30-453E-A684-4DBBE9144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7136-D223-4DBF-9AD8-6A995F1ED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D19D-B348-487A-95B9-3722CA5E4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1A62-0307-4731-9B21-E4A01219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8E24-EE54-4611-B8AF-C4EDD03A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2C94-642A-44AB-83FF-F4E2E18F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C4B94-63D0-4592-8CB6-2F51922C3DB7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rcRect l="30989" t="44882" r="53448" b="30453"/>
          <a:stretch/>
        </p:blipFill>
        <p:spPr>
          <a:xfrm>
            <a:off x="1619280" y="1341360"/>
            <a:ext cx="6048360" cy="5389560"/>
          </a:xfrm>
          <a:prstGeom prst="rect">
            <a:avLst/>
          </a:prstGeom>
          <a:ln w="0">
            <a:noFill/>
          </a:ln>
        </p:spPr>
      </p:pic>
      <p:sp>
        <p:nvSpPr>
          <p:cNvPr id="42" name="Tekstvak 4"/>
          <p:cNvSpPr/>
          <p:nvPr/>
        </p:nvSpPr>
        <p:spPr>
          <a:xfrm>
            <a:off x="1835280" y="404640"/>
            <a:ext cx="54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Passive or acti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http://www.collider.com/wp-content/uploads/girl-zombie-The-Walking-Dead-AMC-tv-show-image.jpg"/>
          <p:cNvPicPr/>
          <p:nvPr/>
        </p:nvPicPr>
        <p:blipFill>
          <a:blip r:embed="rId1"/>
          <a:stretch/>
        </p:blipFill>
        <p:spPr>
          <a:xfrm>
            <a:off x="0" y="0"/>
            <a:ext cx="957744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http://static.tvtropes.org/pmwiki/pub/images/fat_zombie_boomer.jpg"/>
          <p:cNvPicPr/>
          <p:nvPr/>
        </p:nvPicPr>
        <p:blipFill>
          <a:blip r:embed="rId2">
            <a:grayscl/>
          </a:blip>
          <a:stretch/>
        </p:blipFill>
        <p:spPr>
          <a:xfrm>
            <a:off x="250920" y="333360"/>
            <a:ext cx="2636640" cy="2808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http://i0.kym-cdn.com/photos/images/newsfeed/000/017/382/1250991947631.jpg?1252470214"/>
          <p:cNvPicPr/>
          <p:nvPr/>
        </p:nvPicPr>
        <p:blipFill>
          <a:blip r:embed="rId3"/>
          <a:stretch/>
        </p:blipFill>
        <p:spPr>
          <a:xfrm>
            <a:off x="5292720" y="4124160"/>
            <a:ext cx="4103640" cy="273384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kstvak 8"/>
          <p:cNvSpPr/>
          <p:nvPr/>
        </p:nvSpPr>
        <p:spPr>
          <a:xfrm>
            <a:off x="276120" y="5157720"/>
            <a:ext cx="607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ff"/>
                </a:solidFill>
                <a:latin typeface="Calibri"/>
              </a:rPr>
              <a:t>She  was chased by zomb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kstvak 9"/>
          <p:cNvSpPr/>
          <p:nvPr/>
        </p:nvSpPr>
        <p:spPr>
          <a:xfrm>
            <a:off x="5267160" y="333360"/>
            <a:ext cx="385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alibri"/>
              </a:rPr>
              <a:t>The passive: de lijdende v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The passive: de lijdende vorm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50560" y="620640"/>
            <a:ext cx="889308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ls je achter de zin kan zetten ‘by zombies’ dan is het een </a:t>
            </a: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passieve zi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PASSIVE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/lijdende zin: She </a:t>
            </a:r>
            <a:r>
              <a:rPr b="1" lang="nl-NL" sz="2000" spc="-1" strike="noStrike">
                <a:solidFill>
                  <a:srgbClr val="984807"/>
                </a:solidFill>
                <a:latin typeface="Calibri"/>
              </a:rPr>
              <a:t>was chased 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(BY ZOMBI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ACTIVE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/bedrijvende zin: </a:t>
            </a:r>
            <a:r>
              <a:rPr b="1" lang="nl-NL" sz="2000" spc="-1" strike="noStrike">
                <a:solidFill>
                  <a:srgbClr val="0070c0"/>
                </a:solidFill>
                <a:latin typeface="Calibri"/>
              </a:rPr>
              <a:t>Zombies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chased her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Waaro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n zin 1 is de actie duidelijk: zij wordt </a:t>
            </a:r>
            <a:r>
              <a:rPr b="1" lang="nl-NL" sz="1600" spc="-1" strike="noStrike">
                <a:solidFill>
                  <a:srgbClr val="984807"/>
                </a:solidFill>
                <a:latin typeface="Calibri"/>
              </a:rPr>
              <a:t>achter nagezeten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. Dat kan door iedereen zijn, maar in dit geval door zombi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n  zin 2 is duidelijk dat de zombies iemand achterna zitten. Wie? Haar! Het is in deze zin belangrijk dat </a:t>
            </a:r>
            <a:r>
              <a:rPr b="1" lang="nl-NL" sz="1600" spc="-1" strike="noStrike">
                <a:solidFill>
                  <a:srgbClr val="0070c0"/>
                </a:solidFill>
                <a:latin typeface="Calibri"/>
              </a:rPr>
              <a:t>de zombies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 iets doen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000000"/>
                </a:solidFill>
                <a:latin typeface="Calibri"/>
              </a:rPr>
              <a:t>Waar ligt de nadruk op in allebei de zinnen?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000000"/>
                </a:solidFill>
                <a:latin typeface="Calibri"/>
              </a:rPr>
              <a:t>ZIN 1/</a:t>
            </a: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passive</a:t>
            </a:r>
            <a:r>
              <a:rPr b="0" lang="nl-NL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nl-NL" sz="1300" spc="-1" strike="noStrike">
                <a:solidFill>
                  <a:srgbClr val="984807"/>
                </a:solidFill>
                <a:latin typeface="Calibri"/>
              </a:rPr>
              <a:t>HET ACHTERNA ZITTEN </a:t>
            </a:r>
            <a:r>
              <a:rPr b="0" lang="nl-NL" sz="1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300" spc="-1" strike="noStrike">
                <a:solidFill>
                  <a:srgbClr val="000000"/>
                </a:solidFill>
                <a:latin typeface="Calibri"/>
              </a:rPr>
              <a:t> de actie/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wat</a:t>
            </a:r>
            <a:r>
              <a:rPr b="1" lang="nl-NL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1300" spc="-1" strike="noStrike">
                <a:solidFill>
                  <a:srgbClr val="000000"/>
                </a:solidFill>
                <a:latin typeface="Calibri"/>
              </a:rPr>
              <a:t>er gebeur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000000"/>
                </a:solidFill>
                <a:latin typeface="Calibri"/>
              </a:rPr>
              <a:t>ZIN 2/</a:t>
            </a: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active: </a:t>
            </a:r>
            <a:r>
              <a:rPr b="1" lang="nl-NL" sz="1300" spc="-1" strike="noStrike">
                <a:solidFill>
                  <a:srgbClr val="0070c0"/>
                </a:solidFill>
                <a:latin typeface="Calibri"/>
              </a:rPr>
              <a:t>DE ZOMBIES </a:t>
            </a:r>
            <a:r>
              <a:rPr b="0" lang="nl-NL" sz="1300" spc="-1" strike="noStrike">
                <a:solidFill>
                  <a:srgbClr val="000000"/>
                </a:solidFill>
                <a:latin typeface="Calibri"/>
              </a:rPr>
              <a:t>zitten iemand achterna </a:t>
            </a:r>
            <a:r>
              <a:rPr b="0" lang="nl-NL" sz="1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300" spc="-1" strike="noStrike">
                <a:solidFill>
                  <a:srgbClr val="000000"/>
                </a:solidFill>
                <a:latin typeface="Calibri"/>
              </a:rPr>
              <a:t> het onderwerp, </a:t>
            </a: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wie</a:t>
            </a:r>
            <a:r>
              <a:rPr b="0" lang="nl-NL" sz="1300" spc="-1" strike="noStrike">
                <a:solidFill>
                  <a:srgbClr val="000000"/>
                </a:solidFill>
                <a:latin typeface="Calibri"/>
              </a:rPr>
              <a:t> iets heeft gedaa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Hoe maak je een passieve zi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1. Onderwerp wordt lijdend voorwer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2. Tijd blijft hetzelf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3. Voeg wel de juiste vorm van het werkwooord BE + voltooid deelwoord to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XAMPLES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PRESENT simple PASSIVE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he man </a:t>
            </a: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is eaten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(by zombi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4" marL="2036520" indent="-226080" algn="ctr"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PAST simple PASS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520" indent="-2260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he </a:t>
            </a: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was chased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(by zombies) yesterday at 08: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rcRect l="47377" t="27441" r="16751" b="16535"/>
          <a:stretch/>
        </p:blipFill>
        <p:spPr>
          <a:xfrm>
            <a:off x="179280" y="3573360"/>
            <a:ext cx="3421080" cy="3003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http://3.bp.blogspot.com/-8HHaUCGNhIc/T3WeteaLaQI/AAAAAAAAE4U/SPk0AHsbKaM/s1600/zombies-eating.jpg"/>
          <p:cNvPicPr/>
          <p:nvPr/>
        </p:nvPicPr>
        <p:blipFill>
          <a:blip r:embed="rId2"/>
          <a:stretch/>
        </p:blipFill>
        <p:spPr>
          <a:xfrm>
            <a:off x="6084720" y="333360"/>
            <a:ext cx="2664000" cy="3995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http://www.touchscreen-digiborden.nl/wp-content/uploads/2012/03/klok.jpg"/>
          <p:cNvPicPr/>
          <p:nvPr/>
        </p:nvPicPr>
        <p:blipFill>
          <a:blip r:embed="rId3"/>
          <a:stretch/>
        </p:blipFill>
        <p:spPr>
          <a:xfrm>
            <a:off x="826920" y="5516640"/>
            <a:ext cx="83664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Passive: hoe nu verder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79280" y="907920"/>
            <a:ext cx="878544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?????Hoe maak je het????????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1. onderwerp wordt lijdend voorwerp (indien nodi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2. Tijd blijft hetzelf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3. vorm van be + voltooid deelwoo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 u="sng">
                <a:solidFill>
                  <a:srgbClr val="000000"/>
                </a:solidFill>
                <a:uFillTx/>
                <a:latin typeface="Calibri"/>
              </a:rPr>
              <a:t>Present simple passiv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The man </a:t>
            </a:r>
            <a:r>
              <a:rPr b="1" lang="nl-NL" sz="2700" spc="-1" strike="noStrike">
                <a:solidFill>
                  <a:srgbClr val="ff0000"/>
                </a:solidFill>
                <a:latin typeface="Calibri"/>
              </a:rPr>
              <a:t>is eaten 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(by zombies) </a:t>
            </a:r>
            <a:r>
              <a:rPr b="1" lang="nl-NL" sz="2700" spc="-1" strike="noStrike">
                <a:solidFill>
                  <a:srgbClr val="000000"/>
                </a:solidFill>
                <a:latin typeface="Calibri"/>
              </a:rPr>
              <a:t>(am/is/are+voltooid deelwoord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Calibri"/>
              </a:rPr>
              <a:t>(active= Zombies </a:t>
            </a:r>
            <a:r>
              <a:rPr b="1" i="1" lang="nl-NL" sz="2400" spc="-1" strike="noStrike">
                <a:solidFill>
                  <a:srgbClr val="953735"/>
                </a:solidFill>
                <a:latin typeface="Calibri"/>
              </a:rPr>
              <a:t>eat</a:t>
            </a:r>
            <a:r>
              <a:rPr b="1" i="1" lang="nl-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nl-NL" sz="2400" spc="-1" strike="noStrike">
                <a:solidFill>
                  <a:srgbClr val="000000"/>
                </a:solidFill>
                <a:latin typeface="Calibri"/>
              </a:rPr>
              <a:t>the m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 u="sng">
                <a:solidFill>
                  <a:srgbClr val="000000"/>
                </a:solidFill>
                <a:uFillTx/>
                <a:latin typeface="Calibri"/>
              </a:rPr>
              <a:t>Past simple passiv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She </a:t>
            </a:r>
            <a:r>
              <a:rPr b="1" lang="nl-NL" sz="2700" spc="-1" strike="noStrike">
                <a:solidFill>
                  <a:srgbClr val="ff0000"/>
                </a:solidFill>
                <a:latin typeface="Calibri"/>
              </a:rPr>
              <a:t>was chased 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(by zombies) yesterday </a:t>
            </a:r>
            <a:r>
              <a:rPr b="1" lang="nl-NL" sz="2700" spc="-1" strike="noStrike">
                <a:solidFill>
                  <a:srgbClr val="000000"/>
                </a:solidFill>
                <a:latin typeface="Calibri"/>
              </a:rPr>
              <a:t>(was/were + voltooid deelwoord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Calibri"/>
              </a:rPr>
              <a:t>(active= Zombies </a:t>
            </a:r>
            <a:r>
              <a:rPr b="1" i="1" lang="nl-NL" sz="2400" spc="-1" strike="noStrike">
                <a:solidFill>
                  <a:srgbClr val="953735"/>
                </a:solidFill>
                <a:latin typeface="Calibri"/>
              </a:rPr>
              <a:t>chased</a:t>
            </a:r>
            <a:r>
              <a:rPr b="0" i="1" lang="nl-NL" sz="2400" spc="-1" strike="noStrike">
                <a:solidFill>
                  <a:srgbClr val="000000"/>
                </a:solidFill>
                <a:latin typeface="Calibri"/>
              </a:rPr>
              <a:t> her yesterday)</a:t>
            </a:r>
            <a:br>
              <a:rPr sz="27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ry it yoursel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1. My books ______________ (steal) </a:t>
            </a:r>
            <a:r>
              <a:rPr b="0" i="1" lang="nl-NL" sz="3200" spc="-1" strike="noStrike">
                <a:solidFill>
                  <a:srgbClr val="000000"/>
                </a:solidFill>
                <a:latin typeface="Calibri"/>
              </a:rPr>
              <a:t>(by zombies)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yesterda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2. She ___________ (kiss) </a:t>
            </a:r>
            <a:r>
              <a:rPr b="0" i="1" lang="nl-NL" sz="3200" spc="-1" strike="noStrike">
                <a:solidFill>
                  <a:srgbClr val="000000"/>
                </a:solidFill>
                <a:latin typeface="Calibri"/>
              </a:rPr>
              <a:t>(by a zombie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) yesterd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3. The man __________ (devour)   </a:t>
            </a:r>
            <a:r>
              <a:rPr b="0" i="1" lang="nl-NL" sz="3200" spc="-1" strike="noStrike">
                <a:solidFill>
                  <a:srgbClr val="000000"/>
                </a:solidFill>
                <a:latin typeface="Calibri"/>
              </a:rPr>
              <a:t>(by zombie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ry it yoursel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3898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1. My books </a:t>
            </a: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WERE STOLEN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(steal) </a:t>
            </a:r>
            <a:r>
              <a:rPr b="0" i="1" lang="nl-NL" sz="3200" spc="-1" strike="noStrike">
                <a:solidFill>
                  <a:srgbClr val="000000"/>
                </a:solidFill>
                <a:latin typeface="Calibri"/>
              </a:rPr>
              <a:t>(by zombies)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yesterda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Past simple pass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as/were+voltooid deelwoo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http://www.mymcpl.org/_uploaded_resources/imagecache/blog_wide_thumb/zombie_booksrev.jpg"/>
          <p:cNvPicPr/>
          <p:nvPr/>
        </p:nvPicPr>
        <p:blipFill>
          <a:blip r:embed="rId1"/>
          <a:stretch/>
        </p:blipFill>
        <p:spPr>
          <a:xfrm>
            <a:off x="4932360" y="1341360"/>
            <a:ext cx="388764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ry it yoursel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3898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2. She </a:t>
            </a: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WAS KISSED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(kiss) </a:t>
            </a:r>
            <a:r>
              <a:rPr b="0" i="1" lang="nl-NL" sz="3200" spc="-1" strike="noStrike">
                <a:solidFill>
                  <a:srgbClr val="000000"/>
                </a:solidFill>
                <a:latin typeface="Calibri"/>
              </a:rPr>
              <a:t>(by a zombie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) yesterd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Past simple pass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as/were+voltooid deelwoo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http://zombieresearchsociety.com/wp-content/uploads/2012/07/Zombie-Kiss.jpg"/>
          <p:cNvPicPr/>
          <p:nvPr/>
        </p:nvPicPr>
        <p:blipFill>
          <a:blip r:embed="rId1"/>
          <a:stretch/>
        </p:blipFill>
        <p:spPr>
          <a:xfrm>
            <a:off x="4572000" y="1700280"/>
            <a:ext cx="4321080" cy="16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ry it yoursel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3898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3. The man </a:t>
            </a: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IS DEVOURED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(devour)   </a:t>
            </a:r>
            <a:r>
              <a:rPr b="0" i="1" lang="nl-NL" sz="3200" spc="-1" strike="noStrike">
                <a:solidFill>
                  <a:srgbClr val="000000"/>
                </a:solidFill>
                <a:latin typeface="Calibri"/>
              </a:rPr>
              <a:t>(by zombie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Present simple pass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m/is/are+voltooid deelwoo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http://tbivision.com/wp-content/uploads/2013/02/TheWalkingDead_S2_ep01_Z04.jpg_cmyk.jpg"/>
          <p:cNvPicPr/>
          <p:nvPr/>
        </p:nvPicPr>
        <p:blipFill>
          <a:blip r:embed="rId1"/>
          <a:stretch/>
        </p:blipFill>
        <p:spPr>
          <a:xfrm>
            <a:off x="3708360" y="1413000"/>
            <a:ext cx="5216400" cy="34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6T10:14:12Z</dcterms:created>
  <dc:creator>Gebruiker</dc:creator>
  <dc:description/>
  <dc:language>en-US</dc:language>
  <cp:lastModifiedBy>Gebruiker</cp:lastModifiedBy>
  <dcterms:modified xsi:type="dcterms:W3CDTF">2013-11-24T20:25:06Z</dcterms:modified>
  <cp:revision>26</cp:revision>
  <dc:subject/>
  <dc:title>The passive</dc:title>
</cp:coreProperties>
</file>