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7699B-5194-4EAD-8904-8C1B8C2A4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4AC3B-260C-4C1E-ACAF-048DD1B6C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6894A-848D-471C-9AE1-4ABCCA413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2B865-D1DE-49A9-BF5F-86ACC0617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49D0F-F898-4218-BC61-D8F13E7CB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7C07B-EC74-4E04-80F1-E63904C26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17088-02B4-4E5A-828C-E1749F23F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14744-AF42-43F4-B583-A595A1BCF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C5453-DBD5-400A-BED8-86A7DA30F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572B4-845A-404B-B3F3-8C09D4F8C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5D69B-F01A-4F9F-BB57-6555948A6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37DBC-6893-40C9-9986-E5A561C3B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2A65E-41DE-47FC-A232-FCBCAD2F48CD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324000" y="1052640"/>
          <a:ext cx="8569080" cy="5626080"/>
        </p:xfrm>
        <a:graphic>
          <a:graphicData uri="http://schemas.openxmlformats.org/drawingml/2006/table">
            <a:tbl>
              <a:tblPr/>
              <a:tblGrid>
                <a:gridCol w="1638000"/>
                <a:gridCol w="3875400"/>
                <a:gridCol w="3055680"/>
              </a:tblGrid>
              <a:tr h="50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I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3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RMU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ave/has + past participle 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 f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ave/has + past participle 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 si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29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 period of time</a:t>
                      </a: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|---------------|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llowed by a specific time</a:t>
                      </a: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|------------- --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00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AMP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e have lived in Den Bosch 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r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2 years and then we moved to Os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’ve loved football 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nce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I was four!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25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Y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ou don’t live in Den Bosch any more (for 2 year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ou still love footb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FFERENC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’ve been a fan of Katy Perry 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r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5 year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duration=5 years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’ve been a fan of Katy Perry 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nce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2009 (starting point = 200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42" name="Tekstvak 2"/>
          <p:cNvSpPr/>
          <p:nvPr/>
        </p:nvSpPr>
        <p:spPr>
          <a:xfrm>
            <a:off x="395280" y="260280"/>
            <a:ext cx="84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For and since with the present perf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01T18:23:25Z</dcterms:created>
  <dc:creator>Gebruiker</dc:creator>
  <dc:description/>
  <dc:language>en-US</dc:language>
  <cp:lastModifiedBy>Gebruiker</cp:lastModifiedBy>
  <dcterms:modified xsi:type="dcterms:W3CDTF">2013-09-01T19:11:12Z</dcterms:modified>
  <cp:revision>2</cp:revision>
  <dc:subject/>
  <dc:title>Dia 1</dc:title>
</cp:coreProperties>
</file>