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51C-BEF6-40A0-AC13-9F6A3C69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6BB-96A1-427C-B811-B3890AB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B11-068F-49F8-B63E-304955EF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326-A6FA-41DC-AE4A-16BAFCCC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C7E-D503-4ABA-A717-E9828D8B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DE5-6703-4F49-9E8B-8072488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F62-812A-4A55-8A4A-2BAB3278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5FC-808A-425C-8B9F-AF79CB04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93E-7936-4492-8929-8955161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6F6-D5BD-4EA6-A717-3F5C520E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FE1-E00F-4703-A860-61DE0EA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6CE-43ED-496F-94B9-C97DBE0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E5BA-8B9D-4274-9E62-1AC86C54229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42840"/>
          <a:ext cx="8856720" cy="6626160"/>
        </p:xfrm>
        <a:graphic>
          <a:graphicData uri="http://schemas.openxmlformats.org/drawingml/2006/table">
            <a:tbl>
              <a:tblPr/>
              <a:tblGrid>
                <a:gridCol w="2079720"/>
                <a:gridCol w="2695320"/>
                <a:gridCol w="1231920"/>
                <a:gridCol w="28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 ans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(I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not (I am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 am. / No, I’m 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n’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 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’s (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isn’t (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he is / No, 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’s (s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isn’t (s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she is / No, s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(it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sn’t (it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t is / No, it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(we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not (we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w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we are / No, we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(they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not (they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the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they are / No, they aren’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no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bel het werkwoord zij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 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j 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j/zij/het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is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’s/she’s/it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lie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11-24T21:13:08Z</dcterms:modified>
  <cp:revision>16</cp:revision>
  <dc:subject/>
  <dc:title>Dia 1</dc:title>
</cp:coreProperties>
</file>