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242-3BF1-49EE-9802-4C9DDA4C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12EF-214B-464A-A307-FDA844E0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2FC9-74C5-4F35-9F73-0E6767E3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245-1E4D-4387-8722-EAEAF549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DFD-61C9-46CF-BBE0-C47446BA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583D-B42F-4794-AFD5-58CF1464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466-44DA-4819-A014-53782233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E0DE-FF7E-43D3-8DFD-5E85FEB1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F91-0F55-46A2-A3DA-41CE5FE2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F054-75A3-4FE7-B01C-68C99B96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F64-5A9F-4425-B8D1-DA9D14F6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7B8-7818-4B1F-ACBE-48CC4A03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348A-54F4-4330-8620-F134AED9205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7 TB p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exercise 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1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2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4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6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Exercise 9: </a:t>
            </a:r>
            <a:r>
              <a:rPr b="1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 Think of a question to test how loyal people are. Use the vocabulary of exercise 7 in the textbook. Work with your neighbour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E.g.  (exempli gratia – for exam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You get on well with your new classmate sitting next to you. The popular boy/girl in the class asks if you’d like to sit next to her/him. Do you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ay ‘yes’ immediately and ignore the other classmate from now 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feel happy with the request, but keep sitting next to your classmate anywa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sk your other classmate if he/she’s ok with you changing sea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4 WB p. 14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159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.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5.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6.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2484360" y="1557360"/>
            <a:ext cx="266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 .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5.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kstvak 4"/>
          <p:cNvSpPr/>
          <p:nvPr/>
        </p:nvSpPr>
        <p:spPr>
          <a:xfrm>
            <a:off x="5364000" y="1628640"/>
            <a:ext cx="324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2. al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m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hit it o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cl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acquain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friends ar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Everyday English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Exercise 5 Wb p. 1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23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5a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2. ….th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3. As a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matter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of fa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4. that’s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new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5. How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uld 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you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6. The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sooner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the bet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3"/>
          <p:cNvSpPr/>
          <p:nvPr/>
        </p:nvSpPr>
        <p:spPr>
          <a:xfrm>
            <a:off x="4572000" y="1557360"/>
            <a:ext cx="41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2. That’s n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ow could you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… th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As a matter of f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The sooner the be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5:27:08Z</dcterms:created>
  <dc:creator>Gebruiker</dc:creator>
  <dc:description/>
  <dc:language>en-US</dc:language>
  <cp:lastModifiedBy>Gebruiker</cp:lastModifiedBy>
  <dcterms:modified xsi:type="dcterms:W3CDTF">2013-11-10T19:39:14Z</dcterms:modified>
  <cp:revision>32</cp:revision>
  <dc:subject/>
  <dc:title>Exercise 7 TB p. 21</dc:title>
</cp:coreProperties>
</file>