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B894-8095-4F4E-9D43-29A01F2A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2D34-D407-47BD-AACC-F91C605B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E57C-D3DC-4499-8A0C-93B68AB8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08C6-088C-469B-A945-FA2A776AB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9BD3-182B-47D4-805B-EC5170D3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B7AB-F5DB-413B-83B6-0746DC97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05FD-50FE-4099-A41E-556C1FE0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0B1C-C838-4197-9983-9DB4E0E2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B0FC-CAFC-4D58-A722-B2521EE5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78F0-AD1F-4CB2-A9CD-7ADC8F02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4C93-DE78-4FB9-940C-DB12B05B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AB33-51AB-4F9D-8452-7ADA4E9C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1AC8-CC55-47EB-95EB-09935CB824A5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esent simple vs Present continuous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50920" y="1700280"/>
          <a:ext cx="7416720" cy="4851360"/>
        </p:xfrm>
        <a:graphic>
          <a:graphicData uri="http://schemas.openxmlformats.org/drawingml/2006/table">
            <a:tbl>
              <a:tblPr/>
              <a:tblGrid>
                <a:gridCol w="2471760"/>
                <a:gridCol w="2473200"/>
                <a:gridCol w="247176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si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continu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(formu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/she/it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/you/we/they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/is/ar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rb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te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chool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k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smell of gr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I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isten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the teacher right now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its &amp; facts, in the 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THE MOMENT, in the present. (right no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lling exce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=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sh/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lent ‘e’ rem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gambling (to gamb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the present ten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 parent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 Washington bu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'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jus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sit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" name="Wolkvormige toelichting 4"/>
          <p:cNvSpPr/>
          <p:nvPr/>
        </p:nvSpPr>
        <p:spPr>
          <a:xfrm>
            <a:off x="7272360" y="981000"/>
            <a:ext cx="1871640" cy="1440000"/>
          </a:xfrm>
          <a:prstGeom prst="cloudCallout">
            <a:avLst>
              <a:gd name="adj1" fmla="val -22851"/>
              <a:gd name="adj2" fmla="val 8203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Verb = 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Ww=werkwo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8:08:16Z</dcterms:created>
  <dc:creator>Gebruiker</dc:creator>
  <dc:description/>
  <dc:language>en-US</dc:language>
  <cp:lastModifiedBy>Gebruiker</cp:lastModifiedBy>
  <dcterms:modified xsi:type="dcterms:W3CDTF">2013-08-25T08:52:56Z</dcterms:modified>
  <cp:revision>9</cp:revision>
  <dc:subject/>
  <dc:title>Dia 1</dc:title>
</cp:coreProperties>
</file>