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028-AB9F-4405-929D-95F8E35D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6ED-8C2B-467B-BDBD-76E4A672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A65-DE1A-419E-93AE-ABB25402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F9A-422F-4940-9B43-9A790D8C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3F7-F378-44F1-AE49-94658CA3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AE95-7F68-4226-9313-F25F182A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219-619B-4F20-B716-790625D8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2F8-0144-4B3E-A0A3-771423C2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AF9-3031-432A-9843-DC5F2F39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46F-9A1A-4615-B7E3-73727059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B4D-8384-4706-8971-59F1EE29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4490-72CD-4DAD-B330-2F6459B4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81F1-5666-41C9-B92A-1A02A49F0A1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9280" y="260280"/>
          <a:ext cx="8629920" cy="6264360"/>
        </p:xfrm>
        <a:graphic>
          <a:graphicData uri="http://schemas.openxmlformats.org/drawingml/2006/table">
            <a:tbl>
              <a:tblPr/>
              <a:tblGrid>
                <a:gridCol w="862992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s TB p. 19 exercise 2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walking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eard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strange noi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ooked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p, some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on the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, every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lac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en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oke up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I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lying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 hospital b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ang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bell, a nurse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m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talk to 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nurse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talking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,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fell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love with her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24000" y="152280"/>
          <a:ext cx="8820000" cy="6516720"/>
        </p:xfrm>
        <a:graphic>
          <a:graphicData uri="http://schemas.openxmlformats.org/drawingml/2006/table">
            <a:tbl>
              <a:tblPr/>
              <a:tblGrid>
                <a:gridCol w="8820000"/>
              </a:tblGrid>
              <a:tr h="65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s TB p. 19  exercise 2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We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a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ome problem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What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appene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Well,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singing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ourth song, all the lights suddenly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)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ut!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What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o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lights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me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ack on, I realised my microphone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)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n’t working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So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guys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)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ere fixing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icrophone, the band played on and I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)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tarte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inging aga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B exercise 1A p. 12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look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for my tennis balls,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foun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an old sandwich under my b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y parents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cam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back, we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hav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 part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open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e door, they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danc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n the dar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foun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is girl’s phone number </a:t>
            </a: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clean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your ro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 were waiting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, we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start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o write invit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teach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 gym class </a:t>
            </a: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hear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about the plane cras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omeone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call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you on your mobile </a:t>
            </a: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taking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e dog for a wal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WHEN: past simp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hile: past continu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B exercise 1B p. 13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nl-NL" sz="2700" spc="-1" strike="noStrike">
                <a:solidFill>
                  <a:srgbClr val="ff0000"/>
                </a:solidFill>
                <a:latin typeface="Calibri"/>
              </a:rPr>
              <a:t>while + was travelling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- 2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ca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nl-NL" sz="2700" spc="-1" strike="noStrike">
                <a:solidFill>
                  <a:srgbClr val="ff0000"/>
                </a:solidFill>
                <a:latin typeface="Calibri"/>
              </a:rPr>
              <a:t>While + was ringing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– 4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notic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5. She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pick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up the ph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6. The next time the phone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rang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– 7.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did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he same thin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But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he next time,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didn’t move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9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answer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he ph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0. Every time David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phon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 – 11. 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went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o sit next to the phon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1" lang="nl-NL" sz="27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it wasn’t David,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stay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where she wa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20:15:08Z</dcterms:created>
  <dc:creator>Gebruiker</dc:creator>
  <dc:description/>
  <dc:language>en-US</dc:language>
  <cp:lastModifiedBy>Gebruiker</cp:lastModifiedBy>
  <dcterms:modified xsi:type="dcterms:W3CDTF">2013-11-10T15:47:07Z</dcterms:modified>
  <cp:revision>14</cp:revision>
  <dc:subject/>
  <dc:title>Dia 1</dc:title>
</cp:coreProperties>
</file>