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C74B-F4D5-4390-A43D-0A69C470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2C83-F8F5-423E-8EA0-41FB6482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26E-C411-446B-89A4-45C9C8B9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CFD-E73C-4DEC-AA6A-9855A99C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EFBD-97F9-4452-A8C1-038310FD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BB3D-F17C-4435-BAF9-97F6E26D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E49-C201-480A-A024-991A3019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9CC2-1721-4AEA-8704-D4CBB23F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A690-236C-4B11-BE40-EF6CE362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247F-D2A5-404C-9BF5-3118316E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F55-D58E-43FE-BA6D-20DABB11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B131-F60D-46BA-9A21-3E2F8D8A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73F9-897B-4CC7-A6D5-E7205F36AE0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885080" y="620640"/>
            <a:ext cx="843120" cy="5761080"/>
          </a:xfrm>
          <a:prstGeom prst="rect">
            <a:avLst/>
          </a:prstGeom>
          <a:solidFill>
            <a:srgbClr val="8ac0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2664000" cy="8636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324000" y="1197000"/>
            <a:ext cx="65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Personal and object pronou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(persoonlijke voornaamwoord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50920" y="2060640"/>
            <a:ext cx="74898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 looks like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m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mij/m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e is as old as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you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je/jou/u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H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ake’s cat never hit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him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he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h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 really like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he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ha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on’t touch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i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he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you call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u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teachers like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jull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y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 can feed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them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ze/hu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lauwe woorden: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object pronouns =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ijdend-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meewerkend voorwer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7885080" y="620640"/>
            <a:ext cx="843120" cy="5761080"/>
          </a:xfrm>
          <a:prstGeom prst="rect">
            <a:avLst/>
          </a:prstGeom>
          <a:solidFill>
            <a:srgbClr val="8ac0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2664000" cy="863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468360" y="1125360"/>
            <a:ext cx="597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ow, show what you know!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plete these sentence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95280" y="1989000"/>
            <a:ext cx="646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. I want to see ____ soon!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he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. Please, call ____ tonight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me/mij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. Can you give that drink to ____?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haa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4. Do they talk to ____?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julli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. Give ____ to me.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he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6. That pizza is for ____.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o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7. Tell _____ I’m at home.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ze/hen/hu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. I like to be friends with ____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jou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4:28:40Z</dcterms:created>
  <dc:creator>votalen</dc:creator>
  <dc:description/>
  <dc:language>en-US</dc:language>
  <cp:lastModifiedBy>lbd</cp:lastModifiedBy>
  <dcterms:modified xsi:type="dcterms:W3CDTF">2013-11-13T08:57:28Z</dcterms:modified>
  <cp:revision>9</cp:revision>
  <dc:subject/>
  <dc:title>Negations with to be  (ontkenningen met to be)</dc:title>
</cp:coreProperties>
</file>