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9671-0CCA-40CA-90D7-242489CD9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CB88-5D25-468F-8957-411041C7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4238-F51F-4512-A98C-D55E21CB1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162B-BE20-44C7-AAA7-C729BF028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266D-28ED-441B-B5A7-4B8628C5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C52C-A52C-471D-ABA7-368B0E29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F51B-2A49-4386-808B-2C6B19AD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39BB-2010-47EC-8F28-1E80CEE0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29BF-7192-4488-B0B5-8A6A4C7C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213E-AF25-4253-B82F-96F52569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CE8D-CB9C-4CB2-8EA8-1754CABD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468D-9C97-40BC-BFBD-F5CEB12C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F7BA-91EB-492C-975B-706B40614C83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resent simple vs Present continuous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50920" y="1700280"/>
          <a:ext cx="7416720" cy="4851360"/>
        </p:xfrm>
        <a:graphic>
          <a:graphicData uri="http://schemas.openxmlformats.org/drawingml/2006/table">
            <a:tbl>
              <a:tblPr/>
              <a:tblGrid>
                <a:gridCol w="2471760"/>
                <a:gridCol w="2473200"/>
                <a:gridCol w="2471760"/>
              </a:tblGrid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 si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 continu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(formul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/she/it =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/you/we/they =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/is/ar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verb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te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chool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k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smell of gr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I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listen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the teacher right now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bits &amp; facts, in the pre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 THE MOMENT, in the present. (right now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lling exce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=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sh/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lent ‘e’ rem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m gambling (to gamb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the present ten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 parent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 Washington bu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'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jus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sit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" name="Wolkvormige toelichting 4"/>
          <p:cNvSpPr/>
          <p:nvPr/>
        </p:nvSpPr>
        <p:spPr>
          <a:xfrm>
            <a:off x="7272360" y="981000"/>
            <a:ext cx="1871640" cy="1440000"/>
          </a:xfrm>
          <a:prstGeom prst="cloudCallout">
            <a:avLst>
              <a:gd name="adj1" fmla="val -22851"/>
              <a:gd name="adj2" fmla="val 8203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Verb = 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Ww=werkwo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8:08:16Z</dcterms:created>
  <dc:creator>Gebruiker</dc:creator>
  <dc:description/>
  <dc:language>en-US</dc:language>
  <cp:lastModifiedBy>Gebruiker</cp:lastModifiedBy>
  <dcterms:modified xsi:type="dcterms:W3CDTF">2013-08-25T08:52:56Z</dcterms:modified>
  <cp:revision>9</cp:revision>
  <dc:subject/>
  <dc:title>Dia 1</dc:title>
</cp:coreProperties>
</file>